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.jpeg" ContentType="image/jpeg"/>
  <Override PartName="/ppt/media/image10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맑은 고딕"/>
              </a:rPr>
              <a:t>Click to move the slide</a:t>
            </a:r>
            <a:endParaRPr b="0" lang="en-US" sz="3200" spc="-1" strike="noStrike">
              <a:solidFill>
                <a:srgbClr val="ebddc3"/>
              </a:solidFill>
              <a:latin typeface="맑은 고딕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ACD6-4162-4395-AF01-073600B3F94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CD4E-0134-4FD0-A730-2B1C9FC14BD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3099F-B7E9-4FA7-92D2-0D621F5DD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72665-B935-42B9-AF40-352B7E0D8EA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47B37-DAB1-4F38-A507-A83576FE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0D023-2600-4F1E-86E5-27B1F4ED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DC8B8-5E02-4D81-A16D-B377FD82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90C27-8A70-447B-946A-DCB375D5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DFDFB-6BCB-4807-8E57-E2613BE5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1C568-76D2-4255-979D-3E9D94EF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9C1D1-9179-4B1B-8F81-A728D2A6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0B3FA-2802-485A-8927-5B2EF860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3E95F-2E5F-499F-A593-04294615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AD241B-7C7A-4CC5-A7F7-B7FB9F6C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B797-9D4A-41DF-A9EE-95FAEADC6DE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6676BE-507B-4A70-9618-92185EA6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09C15C-5A4A-448C-8806-02B7BD83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BD6E33-1978-461F-8936-725DCB44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A04B82-E638-41AA-A6BD-CAAA6344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59D0AA-6220-45C7-A7F1-29541F7F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8921F7-52A6-4143-9BEC-31D8E035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EF90F7-3809-4549-89D8-C35DD35B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48E2B7-2CA6-4FA5-A96F-822EAC66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29FB34-395E-445F-9B73-810C9B86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B81D8C-8E1B-4733-BA1B-D1C175ED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7FCBB-3B57-4AAB-8973-0081B76A0B1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01FCD9-EC74-41DD-923F-AB609A0B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07DA6E-865B-48D5-9300-052A0A63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0290E0-214D-424F-B57E-9F57CD43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76B01E-C6CD-48DA-BCA4-634C33A6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9CEAFD-6A3E-4275-96C5-A6013765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07719A-DABC-4444-ABC4-02587205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653ACA-A7DC-41A6-8CE3-4864916D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64DB49-8130-4FCA-B756-F9357683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2017E0-A909-4B29-A48C-883425F7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470471-62B1-4813-8DF5-2893A3F5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28398-BAF1-406F-8D36-DECA4A1B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31EA55-EA54-45F4-AE14-BA09B830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1860B1-CD35-438A-B6D2-018C9B1C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6917D0-0D47-4D54-BA21-5EDE3BA2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21CCD-C94E-4605-8016-0F953428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494C3-2620-4D4D-8446-71D04539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CD221-8394-4B67-B5AD-C8A1B86A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ADEF3-6C86-4220-B36D-F8AA35A3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A853C-1B71-44BF-A63D-A3A23B3B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4291F-9093-4A3D-8CAF-B657C6A6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BEF85-8720-4AE6-839E-447E9DA12D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3020A-7C3A-4E70-B2F3-857F951C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BB6F8-B5E4-481F-8865-D7843F77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ED432-57A8-4C3A-967E-6294BCC2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01A6C-F773-4493-A314-73E7CFE8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2B136-A636-446D-9A57-EAF06FD5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5973-70B6-4420-904D-2B540EA6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B748-9867-4E3C-8032-58C7EA9F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324E-96D8-467D-B892-80B53D55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1FB8-D283-4FD3-92D0-BB4B84B1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A7A7-E3CA-4273-AD4F-C30A479F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0B85A-67EF-4685-881A-4BE855C94D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C347-ADDC-4338-BF7D-6DFB8E9D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1D97-E602-4727-AE73-F96767C3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4C4C-281D-4354-9277-2F9F0D76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E15C-C116-4D2D-BFEA-33A2A516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674D-CF25-459B-B575-5B544786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67F3-A733-4837-BDA1-34AD3D3A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963F-0916-4939-8C46-59476EEE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F3C2F-23FE-420F-A3B4-DFCF68C9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CC367-3241-454A-90EB-EB32CA87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0429F-0945-4297-A7D8-86DA69F5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EBB62-C89F-4E7C-93AD-6C56238F097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EB0BF-FE63-4F0D-8A01-4C9BB3A1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5CAE0-24FD-435B-87DF-8ECD4422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67638-7669-49C2-9643-876D55AC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20A78-2C23-4989-A16D-113D47A5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553E6-8878-47DC-A738-7361AB6A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D502C-524D-4E92-82B7-ED21A0FC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038E5-ABA3-402B-AD7D-1918219F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961DC-5815-4F40-BE72-8F54ACE0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0EDFA-D55E-4630-871B-CD496014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695D3-1A30-40AB-B22F-20E2D6B7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C974-5CD2-4345-B0F3-D093DCD747B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42C91-20AC-48E8-B53E-2C1EA965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02726-915B-4E7E-8648-E9A6E543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AA948-3827-4D17-8A2D-63CAC372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46991-5E6C-48A7-897E-9A0FE6B2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D847B-903D-4BCE-8CD1-7F6E93A3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3B566-8F96-436B-9DFA-6B778AD1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B6085-772E-4048-A774-A95AC19E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3301E-1DE3-4257-8152-9149F0A1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2EBAB-EEC3-4646-B214-BAB435C2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C090E-D805-42EA-85DF-DBD98720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F5C8F-7EA5-4EF7-9C18-2CCEEA7C23E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17CEC-F41A-49FD-969C-053B43AB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D33C4A-AB30-419C-93C4-2D4188CB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55B495-B9E4-4C79-B396-F322F14F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0028C7-E2B8-4954-9E01-5969BB06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63BBF4-2EA5-4694-B2F6-29849B8E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B45F1F-3C54-4720-8BBC-54134712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9A0962-EB89-4605-8248-352B0996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60F96E-05A0-4DDB-B02C-A99D515F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9FC3A9-C9CF-4C79-BBBF-5679CB7D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E5DCA3-6F77-4A63-A70D-CB4C6438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0210-938E-481C-8540-B3AF7126CB2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2DFF3C-56FD-4851-A942-A67A8390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557A53-E119-4B76-BF26-73FFEF9F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739FAE-1CFB-4389-9B58-E7402DB1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227380-686E-4A58-A8FA-B50ABE7E4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1B69AB-976C-462E-A7B2-49BBD9FD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94D538-3C50-460B-9BAD-EEA94B1E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6025F1-1E61-442B-8842-4BEFFD1F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8547F3-AC1B-4A52-ACD0-E0D0E4AC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8F8F38-1B53-41E7-8FE3-ED8AD501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5E17A0-0D80-46F1-A075-687AD1E6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8C571-B9FE-4159-8D5B-E9E6DA2E7CA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507318-BE72-44B5-98B3-F6BEB8E3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640EB4-C20E-4940-9BA4-53ED44A0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2DBB94-8FB5-4895-B080-BA53C22E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52271F-6CC3-4729-9F13-5F762D01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9E481A-175E-4E4D-9F88-4E45E233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3781DC-2D07-42A5-9D7A-D9AA0FAF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A1F320-76E9-4065-B511-CCE7A10C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0225E0-B300-48B5-A6AF-5571F143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84FB8D-B500-44AC-9B8B-B28F6368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34498A-5DDF-4C74-8593-241E2388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859B5-E0AA-422F-96B1-46102F3180D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42960" y="142560"/>
            <a:ext cx="8153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1AD889-4592-4A14-9C22-A98EE4AF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35668C-FF45-47D4-88D6-27FB87CD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64FD02-6546-43E1-A268-6B071F25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C2039F-FF17-4F26-9FD8-41D1F418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12720" y="4080960"/>
            <a:ext cx="8153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DB8AF6-A3DF-4B0D-9EE9-7B1F8338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35720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272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3978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209B3D-51A8-418F-98D7-A66434F4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6960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26120" y="135720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127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6960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26120" y="4080960"/>
            <a:ext cx="26251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82B07E-4F66-41C1-B2BF-34853F8B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CBE66-228E-45C0-9CF7-7BE459AAB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EA237-EAC3-436E-923F-C29264FA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40A9D-273D-4DC6-9CF1-F89C85D1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직사각형 6"/>
          <p:cNvSpPr/>
          <p:nvPr/>
        </p:nvSpPr>
        <p:spPr>
          <a:xfrm>
            <a:off x="0" y="954000"/>
            <a:ext cx="914400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직사각형 7"/>
          <p:cNvSpPr/>
          <p:nvPr/>
        </p:nvSpPr>
        <p:spPr>
          <a:xfrm>
            <a:off x="0" y="100008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590400" y="100008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0" y="99180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7366-7EBE-4AE3-AEDE-ACBDC90E0BEE}" type="slidenum"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직사각형 6"/>
          <p:cNvSpPr/>
          <p:nvPr/>
        </p:nvSpPr>
        <p:spPr>
          <a:xfrm>
            <a:off x="0" y="954000"/>
            <a:ext cx="914400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직사각형 7"/>
          <p:cNvSpPr/>
          <p:nvPr/>
        </p:nvSpPr>
        <p:spPr>
          <a:xfrm>
            <a:off x="0" y="100008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직사각형 8"/>
          <p:cNvSpPr/>
          <p:nvPr/>
        </p:nvSpPr>
        <p:spPr>
          <a:xfrm>
            <a:off x="590400" y="100008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F01D-699A-4BCA-86D3-84CAB01D0259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7"/>
          </p:nvPr>
        </p:nvSpPr>
        <p:spPr>
          <a:xfrm>
            <a:off x="609480" y="6286680"/>
            <a:ext cx="542160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명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8"/>
          </p:nvPr>
        </p:nvSpPr>
        <p:spPr>
          <a:xfrm>
            <a:off x="0" y="99180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28AC-ABBB-4F04-9598-D1C90E5A8522}" type="slidenum"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직사각형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직사각형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직사각형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9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59E4-BCD5-4C70-B8D1-095A89D73796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30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명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1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7131-8D65-4C90-81B0-49B7DF0DBD82}" type="slidenum"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직사각형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직사각형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직사각형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ebddc3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2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CBE9-8CFA-49E7-8465-0F05B663937E}" type="datetime"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26年 7月 29日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3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00"/>
                </a:solidFill>
                <a:latin typeface="HY나무M"/>
                <a:ea typeface="HY나무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00"/>
                </a:solidFill>
                <a:latin typeface="HY나무M"/>
                <a:ea typeface="HY나무M"/>
              </a:rPr>
              <a:t>명품 </a:t>
            </a:r>
            <a:r>
              <a:rPr b="0" lang="en-US" sz="2400" spc="-1" strike="noStrike">
                <a:solidFill>
                  <a:srgbClr val="ffff00"/>
                </a:solidFill>
                <a:latin typeface="HY나무M"/>
                <a:ea typeface="HY나무M"/>
              </a:rPr>
              <a:t>JAVA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C27F-5522-4796-AE51-8E228C70FFCC}" type="slidenum">
              <a:rPr b="1" lang="ko-KR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직사각형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직사각형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117A-04BD-47D9-9153-A2808430FF24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5C37-03AC-4B19-8EB3-C4BDD70A79D0}" type="slidenum">
              <a:rPr b="1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7"/>
          </p:nvPr>
        </p:nvSpPr>
        <p:spPr>
          <a:xfrm>
            <a:off x="609480" y="6286680"/>
            <a:ext cx="542160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명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직사각형 6"/>
          <p:cNvSpPr/>
          <p:nvPr/>
        </p:nvSpPr>
        <p:spPr>
          <a:xfrm>
            <a:off x="0" y="954000"/>
            <a:ext cx="914400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직사각형 7"/>
          <p:cNvSpPr/>
          <p:nvPr/>
        </p:nvSpPr>
        <p:spPr>
          <a:xfrm>
            <a:off x="0" y="100008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직사각형 8"/>
          <p:cNvSpPr/>
          <p:nvPr/>
        </p:nvSpPr>
        <p:spPr>
          <a:xfrm>
            <a:off x="590400" y="100008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AA30-0847-4EE1-9FD1-56EED7E92568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9"/>
          </p:nvPr>
        </p:nvSpPr>
        <p:spPr>
          <a:xfrm>
            <a:off x="0" y="99180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2DED-8995-41A2-8C30-7E8806B85284}" type="slidenum"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0"/>
          </p:nvPr>
        </p:nvSpPr>
        <p:spPr>
          <a:xfrm>
            <a:off x="609480" y="6286680"/>
            <a:ext cx="542160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명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직사각형 6"/>
          <p:cNvSpPr/>
          <p:nvPr/>
        </p:nvSpPr>
        <p:spPr>
          <a:xfrm>
            <a:off x="0" y="954000"/>
            <a:ext cx="914400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직사각형 7"/>
          <p:cNvSpPr/>
          <p:nvPr/>
        </p:nvSpPr>
        <p:spPr>
          <a:xfrm>
            <a:off x="0" y="100008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직사각형 8"/>
          <p:cNvSpPr/>
          <p:nvPr/>
        </p:nvSpPr>
        <p:spPr>
          <a:xfrm>
            <a:off x="590400" y="100008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21B3-6487-415C-8010-B0B2348D9894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2"/>
          </p:nvPr>
        </p:nvSpPr>
        <p:spPr>
          <a:xfrm>
            <a:off x="0" y="99180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9A37-5CD7-4760-B3B5-4BDEC895C94D}" type="slidenum"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3"/>
          </p:nvPr>
        </p:nvSpPr>
        <p:spPr>
          <a:xfrm>
            <a:off x="609480" y="6286680"/>
            <a:ext cx="542160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명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사각형 6"/>
          <p:cNvSpPr/>
          <p:nvPr/>
        </p:nvSpPr>
        <p:spPr>
          <a:xfrm>
            <a:off x="0" y="954000"/>
            <a:ext cx="914400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직사각형 7"/>
          <p:cNvSpPr/>
          <p:nvPr/>
        </p:nvSpPr>
        <p:spPr>
          <a:xfrm>
            <a:off x="0" y="100008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직사각형 8"/>
          <p:cNvSpPr/>
          <p:nvPr/>
        </p:nvSpPr>
        <p:spPr>
          <a:xfrm>
            <a:off x="590400" y="100008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D776-A3EC-41B5-BE5E-3856B29962ED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609480" y="6286680"/>
            <a:ext cx="542160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명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0" y="99180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2DD4-2CA1-4EDF-A021-E7EBA057CB04}" type="slidenum"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9989-5202-43A0-9264-8BF121A87782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609480" y="6286680"/>
            <a:ext cx="542160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명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9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F6A7-FE06-4119-8127-0C4C90558A52}" type="slidenum">
              <a:rPr b="1" lang="ko-KR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직사각형 6"/>
          <p:cNvSpPr/>
          <p:nvPr/>
        </p:nvSpPr>
        <p:spPr>
          <a:xfrm>
            <a:off x="0" y="954000"/>
            <a:ext cx="914400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직사각형 7"/>
          <p:cNvSpPr/>
          <p:nvPr/>
        </p:nvSpPr>
        <p:spPr>
          <a:xfrm>
            <a:off x="0" y="100008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직사각형 8"/>
          <p:cNvSpPr/>
          <p:nvPr/>
        </p:nvSpPr>
        <p:spPr>
          <a:xfrm>
            <a:off x="590400" y="100008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F019-2F4D-4BF3-AFDF-2AA87BA69F8E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1"/>
          </p:nvPr>
        </p:nvSpPr>
        <p:spPr>
          <a:xfrm>
            <a:off x="609480" y="6286680"/>
            <a:ext cx="542160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명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2"/>
          </p:nvPr>
        </p:nvSpPr>
        <p:spPr>
          <a:xfrm>
            <a:off x="0" y="99180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4044-26E7-4AFA-8AC2-0A00882F78B4}" type="slidenum"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직사각형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직사각형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직사각형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Click to edit the title text format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12720" y="1357200"/>
            <a:ext cx="8153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5D0E-37EE-44D3-BD7D-CF7F4CA33409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4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3047-E2E4-49CA-B106-6F13AF7D2289}" type="slidenum">
              <a:rPr b="1" lang="ko-KR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5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명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bddc3"/>
                </a:solidFill>
                <a:latin typeface="맑은 고딕"/>
              </a:rPr>
              <a:t>제 </a:t>
            </a:r>
            <a:r>
              <a:rPr b="0" lang="en-US" sz="3200" spc="-1" strike="noStrike">
                <a:solidFill>
                  <a:srgbClr val="ebddc3"/>
                </a:solidFill>
                <a:latin typeface="맑은 고딕"/>
              </a:rPr>
              <a:t>11 </a:t>
            </a:r>
            <a:r>
              <a:rPr b="0" lang="ko-KR" sz="3200" spc="-1" strike="noStrike">
                <a:solidFill>
                  <a:srgbClr val="ebddc3"/>
                </a:solidFill>
                <a:latin typeface="맑은 고딕"/>
              </a:rPr>
              <a:t>장 스윙 컴포넌트와 이벤트 핸들링</a:t>
            </a:r>
            <a:endParaRPr b="0" lang="en-US" sz="3200" spc="-1" strike="noStrike">
              <a:solidFill>
                <a:srgbClr val="ebddc3"/>
              </a:solidFill>
              <a:latin typeface="맑은 고딕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6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89" name="슬라이드 번호 개체 틀 3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FF6C-95E5-48CD-A26B-291BA6F9E869}" type="slidenum">
              <a:rPr b="1" lang="ko-KR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바닥글 개체 틀 4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00"/>
                </a:solidFill>
                <a:latin typeface="HY나무M"/>
                <a:ea typeface="HY나무M"/>
              </a:rPr>
              <a:t>명품 </a:t>
            </a:r>
            <a:r>
              <a:rPr b="0" lang="en-US" sz="1800" spc="-1" strike="noStrike">
                <a:solidFill>
                  <a:srgbClr val="ffff00"/>
                </a:solidFill>
                <a:latin typeface="HY나무M"/>
                <a:ea typeface="HY나무M"/>
              </a:rPr>
              <a:t>JAVA Programmin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이미지를 가진 버튼 컴포넌트 만들기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12720" y="1285920"/>
            <a:ext cx="8153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하나의 버튼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3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개의 이미지 연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사용자의 마우스 접근에 따라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3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개의 이미지 중 선택 출력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3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개의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버튼 이미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버튼의 보통 상태 때 출력되는 이미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: normalIc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생성자 호출 시에 주어진 이미지 아이콘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버튼 위에 마우스가 올라갈 때 출력되는 이미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: rolloverIc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이미지 설정 메소드 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: JButton.setRolloverIcon(Icon); 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마우스 버튼을 누른 상태 때 출력되는 이미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: pressedIc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이미지 설정 메소드 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: JButton.setPressedIcon(Icon)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이미지 아이콘 생성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new ImageIcon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이미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경로명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new ImageIcon("images/normalIcon.gif);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4" name="슬라이드 번호 개체 틀 4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5A6F-7D89-41B6-B528-898B1BDB9EBB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4" descr=""/>
          <p:cNvPicPr/>
          <p:nvPr/>
        </p:nvPicPr>
        <p:blipFill>
          <a:blip r:embed="rId1"/>
          <a:stretch/>
        </p:blipFill>
        <p:spPr>
          <a:xfrm>
            <a:off x="6535800" y="4869000"/>
            <a:ext cx="2381040" cy="14284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3" descr=""/>
          <p:cNvPicPr/>
          <p:nvPr/>
        </p:nvPicPr>
        <p:blipFill>
          <a:blip r:embed="rId2"/>
          <a:stretch/>
        </p:blipFill>
        <p:spPr>
          <a:xfrm>
            <a:off x="6535800" y="3033720"/>
            <a:ext cx="2381040" cy="14288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2" descr=""/>
          <p:cNvPicPr/>
          <p:nvPr/>
        </p:nvPicPr>
        <p:blipFill>
          <a:blip r:embed="rId3"/>
          <a:stretch/>
        </p:blipFill>
        <p:spPr>
          <a:xfrm>
            <a:off x="6535800" y="1268280"/>
            <a:ext cx="2381040" cy="14288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예제 </a:t>
            </a:r>
            <a:r>
              <a:rPr b="0" lang="en-US" sz="2900" spc="-1" strike="noStrike">
                <a:solidFill>
                  <a:srgbClr val="775f55"/>
                </a:solidFill>
                <a:latin typeface="맑은 고딕"/>
              </a:rPr>
              <a:t>11-2</a:t>
            </a: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 </a:t>
            </a:r>
            <a:r>
              <a:rPr b="0" lang="en-US" sz="2900" spc="-1" strike="noStrike">
                <a:solidFill>
                  <a:srgbClr val="775f55"/>
                </a:solidFill>
                <a:latin typeface="맑은 고딕"/>
              </a:rPr>
              <a:t>: 3 </a:t>
            </a: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개의 이미지 아이콘을</a:t>
            </a:r>
            <a:r>
              <a:rPr b="0" lang="en-US" sz="2900" spc="-1" strike="noStrike">
                <a:solidFill>
                  <a:srgbClr val="775f55"/>
                </a:solidFill>
                <a:latin typeface="맑은 고딕"/>
              </a:rPr>
              <a:t> </a:t>
            </a: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가진 버튼 만들기</a:t>
            </a:r>
            <a:endParaRPr b="0" lang="en-US" sz="29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09" name="직사각형 6"/>
          <p:cNvSpPr/>
          <p:nvPr/>
        </p:nvSpPr>
        <p:spPr>
          <a:xfrm>
            <a:off x="285840" y="1143000"/>
            <a:ext cx="4929120" cy="5752080"/>
          </a:xfrm>
          <a:prstGeom prst="rect">
            <a:avLst/>
          </a:prstGeom>
          <a:solidFill>
            <a:srgbClr val="d4e2ed"/>
          </a:solidFill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x.swing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.awt.event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.awt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class ButtonImageEx extends JFrame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ainer contentPane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ButtonImageEx(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Title("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버튼에 아이콘 달기 예제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DefaultCloseOperation(JFrame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EXIT_ON_CLOS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 = getContentPane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setLayout(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FlowLayout());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ageIcon normalIcon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ImageIcon("images/normalIcon.gif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ageIcon rolloverIcon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ImageIcon("images/rolloverIcon.gif"); 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ageIcon pressedIcon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ImageIcon("images/pressedIcon.gif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JButton btn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JButton("call~~", normalIcon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btn.setRolloverIcon(rolloverIcon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btn.setPressedIcon(pressedIcon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add(btn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Size(250,20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Visible(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tr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ublic static void main(String [] args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new ButtonImageEx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0" name="TextBox 10"/>
          <p:cNvSpPr/>
          <p:nvPr/>
        </p:nvSpPr>
        <p:spPr>
          <a:xfrm>
            <a:off x="5104080" y="1982880"/>
            <a:ext cx="151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보통 상태에 있는 동안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(normalIcon.gif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TextBox 11"/>
          <p:cNvSpPr/>
          <p:nvPr/>
        </p:nvSpPr>
        <p:spPr>
          <a:xfrm>
            <a:off x="5107320" y="3429000"/>
            <a:ext cx="155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마우스가 버튼 위에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올라간 경우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(rolloverIcon.gif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2" name="TextBox 12"/>
          <p:cNvSpPr/>
          <p:nvPr/>
        </p:nvSpPr>
        <p:spPr>
          <a:xfrm>
            <a:off x="5106240" y="5429160"/>
            <a:ext cx="157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마우스가 눌러진 순간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(pressedIcon.gif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슬라이드 번호 개체 틀 9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18B0-5047-4504-A3B7-BA38FA202726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5" descr=""/>
          <p:cNvPicPr/>
          <p:nvPr/>
        </p:nvPicPr>
        <p:blipFill>
          <a:blip r:embed="rId1"/>
          <a:stretch/>
        </p:blipFill>
        <p:spPr>
          <a:xfrm>
            <a:off x="1631880" y="5072040"/>
            <a:ext cx="1643040" cy="9860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" descr=""/>
          <p:cNvPicPr/>
          <p:nvPr/>
        </p:nvPicPr>
        <p:blipFill>
          <a:blip r:embed="rId2"/>
          <a:stretch/>
        </p:blipFill>
        <p:spPr>
          <a:xfrm>
            <a:off x="1654200" y="2313000"/>
            <a:ext cx="1620720" cy="97308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레이블과 버튼의 정렬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(Alignment)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612720" y="1285560"/>
            <a:ext cx="815328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수평 정렬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컴포넌트 영역 내에 이미지와 텍스트의 수평상의 위치 결정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void setHorizontalAlignment(</a:t>
            </a:r>
            <a:r>
              <a:rPr b="0" lang="en-US" sz="19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int align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휴먼편지체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휴먼편지체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휴먼편지체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휴먼편지체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수직 정렬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컴포넌트 영역 내에 콘텐츠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이미지와 텍스트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의 수직상의 위치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void setVerticalAlignment(</a:t>
            </a:r>
            <a:r>
              <a:rPr b="0" lang="en-US" sz="19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int align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8" name="TextBox 10"/>
          <p:cNvSpPr/>
          <p:nvPr/>
        </p:nvSpPr>
        <p:spPr>
          <a:xfrm>
            <a:off x="1543320" y="3286080"/>
            <a:ext cx="170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왼쪽정렬 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SwingConstants.LEFT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9" name="TextBox 11"/>
          <p:cNvSpPr/>
          <p:nvPr/>
        </p:nvSpPr>
        <p:spPr>
          <a:xfrm>
            <a:off x="3677040" y="3286080"/>
            <a:ext cx="193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앙정렬</a:t>
            </a:r>
            <a:r>
              <a:rPr b="0" lang="en-US" sz="12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SwingConstants.CENTER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TextBox 12"/>
          <p:cNvSpPr/>
          <p:nvPr/>
        </p:nvSpPr>
        <p:spPr>
          <a:xfrm>
            <a:off x="5956920" y="3286080"/>
            <a:ext cx="182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오른쪽정렬 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SwingConstants.RIGHT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621" name="그룹 21"/>
          <p:cNvGrpSpPr/>
          <p:nvPr/>
        </p:nvGrpSpPr>
        <p:grpSpPr>
          <a:xfrm>
            <a:off x="1602360" y="6072120"/>
            <a:ext cx="6421680" cy="459000"/>
            <a:chOff x="1602360" y="6072120"/>
            <a:chExt cx="6421680" cy="459000"/>
          </a:xfrm>
        </p:grpSpPr>
        <p:sp>
          <p:nvSpPr>
            <p:cNvPr id="622" name="TextBox 14"/>
            <p:cNvSpPr/>
            <p:nvPr/>
          </p:nvSpPr>
          <p:spPr>
            <a:xfrm>
              <a:off x="1602360" y="6072120"/>
              <a:ext cx="1671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휴먼편지체"/>
                  <a:ea typeface="휴먼편지체"/>
                </a:rPr>
                <a:t>위쪽정렬  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휴먼편지체"/>
                  <a:ea typeface="휴먼편지체"/>
                </a:rPr>
                <a:t>SwingConstants.TOP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3" name="TextBox 15"/>
            <p:cNvSpPr/>
            <p:nvPr/>
          </p:nvSpPr>
          <p:spPr>
            <a:xfrm>
              <a:off x="3891240" y="6072120"/>
              <a:ext cx="1936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휴먼편지체"/>
                  <a:ea typeface="휴먼편지체"/>
                </a:rPr>
                <a:t>중앙정렬 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휴먼편지체"/>
                  <a:ea typeface="휴먼편지체"/>
                </a:rPr>
                <a:t>SwingConstants.CENTER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4" name="TextBox 16"/>
            <p:cNvSpPr/>
            <p:nvPr/>
          </p:nvSpPr>
          <p:spPr>
            <a:xfrm>
              <a:off x="6003720" y="6072120"/>
              <a:ext cx="2020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휴먼편지체"/>
                  <a:ea typeface="휴먼편지체"/>
                </a:rPr>
                <a:t>아래쪽정렬 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휴먼편지체"/>
                  <a:ea typeface="휴먼편지체"/>
                </a:rPr>
                <a:t>SwingConstants.BOTTOM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625" name="그룹 27"/>
          <p:cNvGrpSpPr/>
          <p:nvPr/>
        </p:nvGrpSpPr>
        <p:grpSpPr>
          <a:xfrm>
            <a:off x="564480" y="2286000"/>
            <a:ext cx="2650320" cy="928800"/>
            <a:chOff x="564480" y="2286000"/>
            <a:chExt cx="2650320" cy="928800"/>
          </a:xfrm>
        </p:grpSpPr>
        <p:sp>
          <p:nvSpPr>
            <p:cNvPr id="626" name="직사각형 18"/>
            <p:cNvSpPr/>
            <p:nvPr/>
          </p:nvSpPr>
          <p:spPr>
            <a:xfrm>
              <a:off x="1714680" y="2500200"/>
              <a:ext cx="1500120" cy="7146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7" name="자유형 22"/>
            <p:cNvSpPr/>
            <p:nvPr/>
          </p:nvSpPr>
          <p:spPr>
            <a:xfrm>
              <a:off x="1209240" y="2448360"/>
              <a:ext cx="497880" cy="265680"/>
            </a:xfrm>
            <a:custGeom>
              <a:avLst/>
              <a:gdLst/>
              <a:ahLst/>
              <a:rect l="l" t="t" r="r" b="b"/>
              <a:pathLst>
                <a:path w="497840" h="265853">
                  <a:moveTo>
                    <a:pt x="0" y="0"/>
                  </a:moveTo>
                  <a:cubicBezTo>
                    <a:pt x="68580" y="10160"/>
                    <a:pt x="137160" y="20320"/>
                    <a:pt x="172720" y="40640"/>
                  </a:cubicBezTo>
                  <a:cubicBezTo>
                    <a:pt x="208280" y="60960"/>
                    <a:pt x="201507" y="88053"/>
                    <a:pt x="213360" y="121920"/>
                  </a:cubicBezTo>
                  <a:cubicBezTo>
                    <a:pt x="225213" y="155787"/>
                    <a:pt x="196427" y="221827"/>
                    <a:pt x="243840" y="243840"/>
                  </a:cubicBezTo>
                  <a:cubicBezTo>
                    <a:pt x="291253" y="265853"/>
                    <a:pt x="394546" y="259926"/>
                    <a:pt x="497840" y="254000"/>
                  </a:cubicBezTo>
                </a:path>
              </a:pathLst>
            </a:custGeom>
            <a:noFill/>
            <a:ln w="10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628" name="TextBox 23"/>
            <p:cNvSpPr/>
            <p:nvPr/>
          </p:nvSpPr>
          <p:spPr>
            <a:xfrm>
              <a:off x="564480" y="2286000"/>
              <a:ext cx="65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Tw Cen MT"/>
                </a:rPr>
                <a:t>버튼 영역</a:t>
              </a:r>
              <a:endParaRPr b="0" lang="en-US" sz="14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629" name="직사각형 24"/>
          <p:cNvSpPr/>
          <p:nvPr/>
        </p:nvSpPr>
        <p:spPr>
          <a:xfrm>
            <a:off x="1693800" y="5286240"/>
            <a:ext cx="1521000" cy="714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자유형 25"/>
          <p:cNvSpPr/>
          <p:nvPr/>
        </p:nvSpPr>
        <p:spPr>
          <a:xfrm>
            <a:off x="1209600" y="5234040"/>
            <a:ext cx="496800" cy="266760"/>
          </a:xfrm>
          <a:custGeom>
            <a:avLst/>
            <a:gdLst/>
            <a:ahLst/>
            <a:rect l="l" t="t" r="r" b="b"/>
            <a:pathLst>
              <a:path w="497840" h="265853">
                <a:moveTo>
                  <a:pt x="0" y="0"/>
                </a:moveTo>
                <a:cubicBezTo>
                  <a:pt x="68580" y="10160"/>
                  <a:pt x="137160" y="20320"/>
                  <a:pt x="172720" y="40640"/>
                </a:cubicBezTo>
                <a:cubicBezTo>
                  <a:pt x="208280" y="60960"/>
                  <a:pt x="201507" y="88053"/>
                  <a:pt x="213360" y="121920"/>
                </a:cubicBezTo>
                <a:cubicBezTo>
                  <a:pt x="225213" y="155787"/>
                  <a:pt x="196427" y="221827"/>
                  <a:pt x="243840" y="243840"/>
                </a:cubicBezTo>
                <a:cubicBezTo>
                  <a:pt x="291253" y="265853"/>
                  <a:pt x="394546" y="259926"/>
                  <a:pt x="497840" y="254000"/>
                </a:cubicBezTo>
              </a:path>
            </a:pathLst>
          </a:custGeom>
          <a:noFill/>
          <a:ln w="10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1" name="TextBox 26"/>
          <p:cNvSpPr/>
          <p:nvPr/>
        </p:nvSpPr>
        <p:spPr>
          <a:xfrm>
            <a:off x="564120" y="507204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버튼 영역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32" name="Picture 3" descr=""/>
          <p:cNvPicPr/>
          <p:nvPr/>
        </p:nvPicPr>
        <p:blipFill>
          <a:blip r:embed="rId3"/>
          <a:stretch/>
        </p:blipFill>
        <p:spPr>
          <a:xfrm>
            <a:off x="3919680" y="2286000"/>
            <a:ext cx="1643040" cy="9856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4" descr=""/>
          <p:cNvPicPr/>
          <p:nvPr/>
        </p:nvPicPr>
        <p:blipFill>
          <a:blip r:embed="rId4"/>
          <a:stretch/>
        </p:blipFill>
        <p:spPr>
          <a:xfrm>
            <a:off x="6103800" y="2286000"/>
            <a:ext cx="1627200" cy="9763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3" descr=""/>
          <p:cNvPicPr/>
          <p:nvPr/>
        </p:nvPicPr>
        <p:blipFill>
          <a:blip r:embed="rId5"/>
          <a:stretch/>
        </p:blipFill>
        <p:spPr>
          <a:xfrm>
            <a:off x="3860640" y="5099040"/>
            <a:ext cx="1643400" cy="9856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" descr=""/>
          <p:cNvPicPr/>
          <p:nvPr/>
        </p:nvPicPr>
        <p:blipFill>
          <a:blip r:embed="rId6"/>
          <a:stretch/>
        </p:blipFill>
        <p:spPr>
          <a:xfrm>
            <a:off x="6103800" y="5099040"/>
            <a:ext cx="1643040" cy="985680"/>
          </a:xfrm>
          <a:prstGeom prst="rect">
            <a:avLst/>
          </a:prstGeom>
          <a:ln w="0">
            <a:noFill/>
          </a:ln>
        </p:spPr>
      </p:pic>
      <p:sp>
        <p:nvSpPr>
          <p:cNvPr id="636" name="슬라이드 번호 개체 틀 28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2F42-7F02-4F69-8D9A-E0615DA32E62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"/>
          <p:cNvPicPr/>
          <p:nvPr/>
        </p:nvPicPr>
        <p:blipFill>
          <a:blip r:embed="rId1"/>
          <a:stretch/>
        </p:blipFill>
        <p:spPr>
          <a:xfrm>
            <a:off x="5867280" y="2235240"/>
            <a:ext cx="2381400" cy="14288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JCheckBox,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체크박스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컴포넌트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612720" y="1285920"/>
            <a:ext cx="8153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체크박스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선택</a:t>
            </a: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(selected)</a:t>
            </a: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과 비선택</a:t>
            </a: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(deselected)</a:t>
            </a: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의 두 상태만을 가지는 버튼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생성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휴먼편지체"/>
              </a:rPr>
              <a:t>디폴트는 선택되지 않은 상태</a:t>
            </a:r>
            <a:endParaRPr b="0" lang="en-US" sz="15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JCheckBox ()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휴먼편지체"/>
              </a:rPr>
              <a:t>텍스트와 이미지가 없는 토글 버튼 생성</a:t>
            </a:r>
            <a:endParaRPr b="0" lang="en-US" sz="15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JCheckBox(Icon icon)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휴먼편지체"/>
              </a:rPr>
              <a:t>이미지만 가진 토글 버튼 생성</a:t>
            </a:r>
            <a:endParaRPr b="0" lang="en-US" sz="15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JCheckBox(Icon icon, boolean selected)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휴먼편지체"/>
              </a:rPr>
              <a:t>이미지와 지정된 선택 상태로 생성</a:t>
            </a:r>
            <a:endParaRPr b="0" lang="en-US" sz="15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JCheckBox(String text)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휴먼편지체"/>
              </a:rPr>
              <a:t>텍스트 만을 가진 토글 버튼 생성</a:t>
            </a:r>
            <a:endParaRPr b="0" lang="en-US" sz="15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JCheckBox(String text, boolean selected)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휴먼편지체"/>
              </a:rPr>
              <a:t>텍스트와 지정된 선택 상태로 생성</a:t>
            </a:r>
            <a:endParaRPr b="0" lang="en-US" sz="15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JCheckBox(String text, Icon icon)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휴먼편지체"/>
              </a:rPr>
              <a:t>텍스트와 이미지 둘 다 가진 토글 버튼 생성</a:t>
            </a:r>
            <a:endParaRPr b="0" lang="en-US" sz="15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JCheckBox(String text, Icon icon, boolean selected)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휴먼편지체"/>
              </a:rPr>
              <a:t>텍스트와 이미지를 가지고 지정된 선택상태로 생성</a:t>
            </a:r>
            <a:endParaRPr b="0" lang="en-US" sz="1500" spc="-1" strike="noStrike">
              <a:solidFill>
                <a:srgbClr val="000000"/>
              </a:solidFill>
              <a:latin typeface="휴먼편지체"/>
            </a:endParaRPr>
          </a:p>
        </p:txBody>
      </p:sp>
      <p:sp>
        <p:nvSpPr>
          <p:cNvPr id="640" name="TextBox 6"/>
          <p:cNvSpPr/>
          <p:nvPr/>
        </p:nvSpPr>
        <p:spPr>
          <a:xfrm>
            <a:off x="6226200" y="386244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체크박스 문자열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TextBox 7"/>
          <p:cNvSpPr/>
          <p:nvPr/>
        </p:nvSpPr>
        <p:spPr>
          <a:xfrm>
            <a:off x="7377120" y="386244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체크박스 이미지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자유형 12"/>
          <p:cNvSpPr/>
          <p:nvPr/>
        </p:nvSpPr>
        <p:spPr>
          <a:xfrm>
            <a:off x="7453440" y="3067200"/>
            <a:ext cx="403200" cy="795240"/>
          </a:xfrm>
          <a:custGeom>
            <a:avLst/>
            <a:gdLst/>
            <a:ahLst/>
            <a:rect l="l" t="t" r="r" b="b"/>
            <a:pathLst>
              <a:path w="299936" h="979250">
                <a:moveTo>
                  <a:pt x="299936" y="979250"/>
                </a:moveTo>
                <a:cubicBezTo>
                  <a:pt x="297504" y="924937"/>
                  <a:pt x="295072" y="870625"/>
                  <a:pt x="251297" y="726331"/>
                </a:cubicBezTo>
                <a:cubicBezTo>
                  <a:pt x="207523" y="582038"/>
                  <a:pt x="74578" y="226978"/>
                  <a:pt x="37289" y="113489"/>
                </a:cubicBezTo>
                <a:cubicBezTo>
                  <a:pt x="0" y="0"/>
                  <a:pt x="13780" y="22697"/>
                  <a:pt x="27561" y="45395"/>
                </a:cubicBezTo>
              </a:path>
            </a:pathLst>
          </a:custGeom>
          <a:noFill/>
          <a:ln w="10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자유형 14"/>
          <p:cNvSpPr/>
          <p:nvPr/>
        </p:nvSpPr>
        <p:spPr>
          <a:xfrm flipH="1">
            <a:off x="6874920" y="2957400"/>
            <a:ext cx="66600" cy="905040"/>
          </a:xfrm>
          <a:custGeom>
            <a:avLst/>
            <a:gdLst/>
            <a:ahLst/>
            <a:rect l="l" t="t" r="r" b="b"/>
            <a:pathLst>
              <a:path w="116732" h="651753">
                <a:moveTo>
                  <a:pt x="116732" y="651753"/>
                </a:moveTo>
                <a:cubicBezTo>
                  <a:pt x="92413" y="574742"/>
                  <a:pt x="68094" y="497731"/>
                  <a:pt x="48639" y="389106"/>
                </a:cubicBezTo>
                <a:cubicBezTo>
                  <a:pt x="29184" y="280481"/>
                  <a:pt x="14592" y="140240"/>
                  <a:pt x="0" y="0"/>
                </a:cubicBezTo>
              </a:path>
            </a:pathLst>
          </a:custGeom>
          <a:noFill/>
          <a:ln w="10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슬라이드 번호 개체 틀 8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D616-8550-4E32-B922-D3E9F02E43AA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체크 박스 생성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612720" y="1285920"/>
            <a:ext cx="8153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텍스트 정보만을 가진 체크 박스 생성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사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"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텍스트를 가진 체크박스 생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"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텍스트를 가지고 선택상태로 체크박스 생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체크 박스 모양   이 명료하게 출력되고 사용자는 이것을 체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이미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아이콘을 가진 체크 박스 생성 예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체크 박스 모양    이 출력되지 않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따로 선택상태를 표현하는 이미지 아이콘을 설정하여야 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herry.jpg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이미지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체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"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텍스트를 가진 체크 박스 생성 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선택 상태의 이미지를 위해 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selectedCherry.jpg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를 사용하였음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47" name="Picture 2" descr=""/>
          <p:cNvPicPr/>
          <p:nvPr/>
        </p:nvPicPr>
        <p:blipFill>
          <a:blip r:embed="rId1"/>
          <a:stretch/>
        </p:blipFill>
        <p:spPr>
          <a:xfrm>
            <a:off x="3143160" y="3286080"/>
            <a:ext cx="171720" cy="1713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2" descr=""/>
          <p:cNvPicPr/>
          <p:nvPr/>
        </p:nvPicPr>
        <p:blipFill>
          <a:blip r:embed="rId2"/>
          <a:stretch/>
        </p:blipFill>
        <p:spPr>
          <a:xfrm>
            <a:off x="3143160" y="4143240"/>
            <a:ext cx="171720" cy="171720"/>
          </a:xfrm>
          <a:prstGeom prst="rect">
            <a:avLst/>
          </a:prstGeom>
          <a:ln w="0">
            <a:noFill/>
          </a:ln>
        </p:spPr>
      </p:pic>
      <p:sp>
        <p:nvSpPr>
          <p:cNvPr id="649" name="TextBox 8"/>
          <p:cNvSpPr/>
          <p:nvPr/>
        </p:nvSpPr>
        <p:spPr>
          <a:xfrm>
            <a:off x="803520" y="5572080"/>
            <a:ext cx="7687800" cy="1067400"/>
          </a:xfrm>
          <a:prstGeom prst="rect">
            <a:avLst/>
          </a:prstGeom>
          <a:solidFill>
            <a:srgbClr val="d4e2ed"/>
          </a:solidFill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  <a:ea typeface="HY얕은샘물M"/>
              </a:rPr>
              <a:t>ImageIcon cherryIcon = new ImageIcon("images/cherry.jpg")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  <a:ea typeface="HY얕은샘물M"/>
              </a:rPr>
              <a:t>ImageIcon selectedCherryIcon = new ImageIcon("images/selectedCherry.jpg")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  <a:ea typeface="HY얕은샘물M"/>
              </a:rPr>
              <a:t>JCheckBox cherry = new JCheckBox("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  <a:ea typeface="HY얕은샘물M"/>
              </a:rPr>
              <a:t>체리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  <a:ea typeface="HY얕은샘물M"/>
              </a:rPr>
              <a:t>", cherryIcon)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  <a:ea typeface="HY얕은샘물M"/>
              </a:rPr>
              <a:t>cherry.setSelectedIcon(selectedCherryIcon)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직사각형 7"/>
          <p:cNvSpPr/>
          <p:nvPr/>
        </p:nvSpPr>
        <p:spPr>
          <a:xfrm>
            <a:off x="1451160" y="2143080"/>
            <a:ext cx="3664080" cy="33732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JCheckBox c = new JCheckBox("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사과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1" name="직사각형 9"/>
          <p:cNvSpPr/>
          <p:nvPr/>
        </p:nvSpPr>
        <p:spPr>
          <a:xfrm>
            <a:off x="1400040" y="2857680"/>
            <a:ext cx="4047120" cy="33732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JCheckBox c = new JCheckBox("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배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", true)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슬라이드 번호 개체 틀 10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A909-2C7D-4874-AAD1-51FA9B355D86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3" descr=""/>
          <p:cNvPicPr/>
          <p:nvPr/>
        </p:nvPicPr>
        <p:blipFill>
          <a:blip r:embed="rId1"/>
          <a:stretch/>
        </p:blipFill>
        <p:spPr>
          <a:xfrm>
            <a:off x="5899320" y="3844800"/>
            <a:ext cx="2381040" cy="14288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" descr=""/>
          <p:cNvPicPr/>
          <p:nvPr/>
        </p:nvPicPr>
        <p:blipFill>
          <a:blip r:embed="rId2"/>
          <a:stretch/>
        </p:blipFill>
        <p:spPr>
          <a:xfrm>
            <a:off x="5892840" y="1452600"/>
            <a:ext cx="2381040" cy="142884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예제 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11-3 :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체크박스 생성 예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56" name="직사각형 5"/>
          <p:cNvSpPr/>
          <p:nvPr/>
        </p:nvSpPr>
        <p:spPr>
          <a:xfrm>
            <a:off x="785880" y="642960"/>
            <a:ext cx="4786200" cy="6299640"/>
          </a:xfrm>
          <a:prstGeom prst="rect">
            <a:avLst/>
          </a:prstGeom>
          <a:solidFill>
            <a:srgbClr val="d4e2ed"/>
          </a:solidFill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x.swing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.awt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class CheckBoxEx extends JFram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w Cen MT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ainer contentPane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heckBoxEx(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Title("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체크박스 만들기  예제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DefaultCloseOperation(JFrame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EXIT_ON_CLOS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 = getContentPane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setLayout(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FlowLayout()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ageIcon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cherryIcon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ImageIcon("images/cherry.jpg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ageIcon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selectedCherryIcon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=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ImageIcon("images/selectedCherry.jpg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JCheckBox apple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JCheckBox("</a:t>
            </a:r>
            <a:r>
              <a:rPr b="1" lang="ko-KR" sz="1200" spc="-1" strike="noStrike">
                <a:solidFill>
                  <a:srgbClr val="000000"/>
                </a:solidFill>
                <a:latin typeface="Tw Cen MT"/>
              </a:rPr>
              <a:t>사과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JCheckBox pear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JCheckBox("</a:t>
            </a:r>
            <a:r>
              <a:rPr b="1" lang="ko-KR" sz="1200" spc="-1" strike="noStrike">
                <a:solidFill>
                  <a:srgbClr val="000000"/>
                </a:solidFill>
                <a:latin typeface="Tw Cen MT"/>
              </a:rPr>
              <a:t>배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", tr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JCheckBox cherry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JCheckBox("</a:t>
            </a:r>
            <a:r>
              <a:rPr b="1" lang="ko-KR" sz="1200" spc="-1" strike="noStrike">
                <a:solidFill>
                  <a:srgbClr val="000000"/>
                </a:solidFill>
                <a:latin typeface="Tw Cen MT"/>
              </a:rPr>
              <a:t>체리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", cherryIcon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cherry.setBorderPainted(tr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cherry.setSelectedIcon(selectedCherryIcon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add(appl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add(pear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add(cherry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Size(250,15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Visible(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tr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ublic static void main(String [] args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new CheckBoxEx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7" name="자유형 7"/>
          <p:cNvSpPr/>
          <p:nvPr/>
        </p:nvSpPr>
        <p:spPr>
          <a:xfrm>
            <a:off x="7753320" y="2286000"/>
            <a:ext cx="747720" cy="2381400"/>
          </a:xfrm>
          <a:custGeom>
            <a:avLst/>
            <a:gdLst/>
            <a:ahLst/>
            <a:rect l="l" t="t" r="r" b="b"/>
            <a:pathLst>
              <a:path w="753893" h="2500008">
                <a:moveTo>
                  <a:pt x="0" y="0"/>
                </a:moveTo>
                <a:cubicBezTo>
                  <a:pt x="103762" y="47017"/>
                  <a:pt x="207524" y="94034"/>
                  <a:pt x="321013" y="252919"/>
                </a:cubicBezTo>
                <a:cubicBezTo>
                  <a:pt x="434502" y="411804"/>
                  <a:pt x="625813" y="693906"/>
                  <a:pt x="680936" y="953310"/>
                </a:cubicBezTo>
                <a:cubicBezTo>
                  <a:pt x="736059" y="1212714"/>
                  <a:pt x="753893" y="1551561"/>
                  <a:pt x="651753" y="1809344"/>
                </a:cubicBezTo>
                <a:cubicBezTo>
                  <a:pt x="549613" y="2067127"/>
                  <a:pt x="308853" y="2283567"/>
                  <a:pt x="68094" y="2500008"/>
                </a:cubicBezTo>
              </a:path>
            </a:pathLst>
          </a:custGeom>
          <a:noFill/>
          <a:ln w="10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TextBox 13"/>
          <p:cNvSpPr/>
          <p:nvPr/>
        </p:nvSpPr>
        <p:spPr>
          <a:xfrm>
            <a:off x="7725240" y="3222720"/>
            <a:ext cx="75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체크 박스를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선택하면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TextBox 14"/>
          <p:cNvSpPr/>
          <p:nvPr/>
        </p:nvSpPr>
        <p:spPr>
          <a:xfrm>
            <a:off x="5784480" y="5445000"/>
            <a:ext cx="251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lectedCherry.jpg(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선택된 상태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660" name="직선 화살표 연결선 16"/>
          <p:cNvCxnSpPr>
            <a:stCxn id="659" idx="0"/>
          </p:cNvCxnSpPr>
          <p:nvPr/>
        </p:nvCxnSpPr>
        <p:spPr>
          <a:xfrm flipV="1">
            <a:off x="7042320" y="4667040"/>
            <a:ext cx="173520" cy="778320"/>
          </a:xfrm>
          <a:prstGeom prst="straightConnector1">
            <a:avLst/>
          </a:prstGeom>
          <a:ln w="10080">
            <a:solidFill>
              <a:srgbClr val="b95b22"/>
            </a:solidFill>
            <a:prstDash val="dash"/>
            <a:miter/>
            <a:tailEnd len="med" type="arrow" w="med"/>
          </a:ln>
        </p:spPr>
      </p:cxnSp>
      <p:sp>
        <p:nvSpPr>
          <p:cNvPr id="661" name="TextBox 15"/>
          <p:cNvSpPr/>
          <p:nvPr/>
        </p:nvSpPr>
        <p:spPr>
          <a:xfrm>
            <a:off x="5609880" y="3068640"/>
            <a:ext cx="216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herry.jpg(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선택되지 않은 상태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662" name="직선 화살표 연결선 20"/>
          <p:cNvCxnSpPr>
            <a:stCxn id="661" idx="0"/>
          </p:cNvCxnSpPr>
          <p:nvPr/>
        </p:nvCxnSpPr>
        <p:spPr>
          <a:xfrm flipV="1">
            <a:off x="6690960" y="2285640"/>
            <a:ext cx="524160" cy="783360"/>
          </a:xfrm>
          <a:prstGeom prst="straightConnector1">
            <a:avLst/>
          </a:prstGeom>
          <a:ln w="10080">
            <a:solidFill>
              <a:srgbClr val="b95b22"/>
            </a:solidFill>
            <a:prstDash val="dash"/>
            <a:miter/>
            <a:tailEnd len="med" type="arrow" w="med"/>
          </a:ln>
        </p:spPr>
      </p:cxnSp>
      <p:sp>
        <p:nvSpPr>
          <p:cNvPr id="663" name="슬라이드 번호 개체 틀 11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7ADD-214E-41B7-AB16-3EE142258681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JCheckBox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와 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Item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이벤트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12720" y="1285920"/>
            <a:ext cx="8153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Item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이벤트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체크 박스가 선택되거나 해제되는 각 경우에 발생하는 이벤트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사용자가 마우스나 키보드로 체크박스를 선택하거나 해제한 경우</a:t>
            </a:r>
            <a:endParaRPr b="0" lang="en-US" sz="1700" spc="-1" strike="noStrike">
              <a:solidFill>
                <a:srgbClr val="000000"/>
              </a:solidFill>
              <a:latin typeface="휴먼편지체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프로그램에서 체크박스 컴포넌트를 선택하거나 해제한 경우</a:t>
            </a:r>
            <a:endParaRPr b="0" lang="en-US" sz="17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이 이벤트가 발생하면 이미 체크박스 컴포넌트의 상태 변경된 후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ItemListener 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인터페이스의 추상 메소드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protected void itemStateChanged(ItemEvent e)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ItemEvent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의 주요 메소드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int getStateChange()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체크박스의 상태가 </a:t>
            </a:r>
            <a:r>
              <a:rPr b="0" lang="en-US" sz="1700" spc="-1" strike="noStrike">
                <a:solidFill>
                  <a:srgbClr val="000000"/>
                </a:solidFill>
                <a:latin typeface="휴먼편지체"/>
              </a:rPr>
              <a:t>selected</a:t>
            </a: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인지 </a:t>
            </a:r>
            <a:r>
              <a:rPr b="0" lang="en-US" sz="1700" spc="-1" strike="noStrike">
                <a:solidFill>
                  <a:srgbClr val="000000"/>
                </a:solidFill>
                <a:latin typeface="휴먼편지체"/>
              </a:rPr>
              <a:t>deselected</a:t>
            </a: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인지 리턴</a:t>
            </a:r>
            <a:endParaRPr b="0" lang="en-US" sz="1700" spc="-1" strike="noStrike">
              <a:solidFill>
                <a:srgbClr val="000000"/>
              </a:solidFill>
              <a:latin typeface="휴먼편지체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w Cen MT"/>
              </a:rPr>
              <a:t>ItemEvent.SELECTED </a:t>
            </a:r>
            <a:r>
              <a:rPr b="0" lang="ko-KR" sz="1500" spc="-1" strike="noStrike">
                <a:solidFill>
                  <a:srgbClr val="000000"/>
                </a:solidFill>
                <a:latin typeface="Tw Cen MT"/>
              </a:rPr>
              <a:t>또는 </a:t>
            </a:r>
            <a:r>
              <a:rPr b="0" lang="en-US" sz="1500" spc="-1" strike="noStrike">
                <a:solidFill>
                  <a:srgbClr val="000000"/>
                </a:solidFill>
                <a:latin typeface="Tw Cen MT"/>
              </a:rPr>
              <a:t>ItemEvent.DESELECTED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Object getItem()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이벤트를 발생시킨 아이템 객체</a:t>
            </a:r>
            <a:endParaRPr b="0" lang="en-US" sz="1700" spc="-1" strike="noStrike">
              <a:solidFill>
                <a:srgbClr val="000000"/>
              </a:solidFill>
              <a:latin typeface="휴먼편지체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체크박스의 경우 이벤트가 발생한 </a:t>
            </a:r>
            <a:r>
              <a:rPr b="0" lang="en-US" sz="1700" spc="-1" strike="noStrike">
                <a:solidFill>
                  <a:srgbClr val="000000"/>
                </a:solidFill>
                <a:latin typeface="휴먼편지체"/>
              </a:rPr>
              <a:t>JCheckBox </a:t>
            </a: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객체 리턴</a:t>
            </a:r>
            <a:endParaRPr b="0" lang="en-US" sz="1700" spc="-1" strike="noStrike">
              <a:solidFill>
                <a:srgbClr val="000000"/>
              </a:solidFill>
              <a:latin typeface="휴먼편지체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직사각형 3"/>
          <p:cNvSpPr/>
          <p:nvPr/>
        </p:nvSpPr>
        <p:spPr>
          <a:xfrm>
            <a:off x="1643040" y="2571840"/>
            <a:ext cx="4572000" cy="58068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JCheckBox c = new JCheckBox("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사과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c.setSelected(true); // 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선택 상태로 변경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슬라이드 번호 개체 틀 4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6EFE-3037-4BCE-8B07-97C6A216F838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예제 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11-4 : ItemEvent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를 활용하여 가격 합산하기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69" name="직사각형 3"/>
          <p:cNvSpPr/>
          <p:nvPr/>
        </p:nvSpPr>
        <p:spPr>
          <a:xfrm>
            <a:off x="285840" y="1071720"/>
            <a:ext cx="3786120" cy="611712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x.swing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.awt.event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.awt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class CheckBoxItemEventEx extends JFram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w Cen MT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ainer contentPane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JCheckBox [] fruits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JCheckBox [3]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tring [] names = {"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사과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", "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배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", "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체리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"}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JLabel sumLabel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int sum = 0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heckBoxItemEventEx(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Title("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체크박스와 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temEvent 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예제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DefaultCloseOperation(JFrame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EXIT_ON_CLOS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 = getContentPane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setLayout(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FlowLayout());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add(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</a:t>
            </a:r>
            <a:r>
              <a:rPr b="1" lang="ko-KR" sz="1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JLabel("</a:t>
            </a:r>
            <a:r>
              <a:rPr b="1" lang="ko-KR" sz="1200" spc="-1" strike="noStrike">
                <a:solidFill>
                  <a:srgbClr val="000000"/>
                </a:solidFill>
                <a:latin typeface="Tw Cen MT"/>
              </a:rPr>
              <a:t>사과 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100</a:t>
            </a:r>
            <a:r>
              <a:rPr b="1" lang="ko-KR" sz="1200" spc="-1" strike="noStrike">
                <a:solidFill>
                  <a:srgbClr val="000000"/>
                </a:solidFill>
                <a:latin typeface="Tw Cen MT"/>
              </a:rPr>
              <a:t>원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Tw Cen MT"/>
              </a:rPr>
              <a:t>배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500</a:t>
            </a:r>
            <a:r>
              <a:rPr b="1" lang="ko-KR" sz="1200" spc="-1" strike="noStrike">
                <a:solidFill>
                  <a:srgbClr val="000000"/>
                </a:solidFill>
                <a:latin typeface="Tw Cen MT"/>
              </a:rPr>
              <a:t>원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Tw Cen MT"/>
              </a:rPr>
              <a:t>체리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20000</a:t>
            </a:r>
            <a:r>
              <a:rPr b="1" lang="ko-KR" sz="1200" spc="-1" strike="noStrike">
                <a:solidFill>
                  <a:srgbClr val="000000"/>
                </a:solidFill>
                <a:latin typeface="Tw Cen MT"/>
              </a:rPr>
              <a:t>원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")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for(int i=0; i&lt;fruits.length; i++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fruits[i]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JCheckBox(names[i]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fruits[i].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setBorderPainted(tr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add(fruits[i]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fruits[i].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addItemListener(new MyItemListener()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umLabel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JLabel("</a:t>
            </a:r>
            <a:r>
              <a:rPr b="1" lang="ko-KR" sz="1200" spc="-1" strike="noStrike">
                <a:solidFill>
                  <a:srgbClr val="000000"/>
                </a:solidFill>
                <a:latin typeface="Tw Cen MT"/>
              </a:rPr>
              <a:t>현재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0 </a:t>
            </a:r>
            <a:r>
              <a:rPr b="1" lang="ko-KR" sz="1200" spc="-1" strike="noStrike">
                <a:solidFill>
                  <a:srgbClr val="000000"/>
                </a:solidFill>
                <a:latin typeface="Tw Cen MT"/>
              </a:rPr>
              <a:t>원 입니다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.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add(sumLabel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Size(250,20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Visible(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tr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0" name="직사각형 4"/>
          <p:cNvSpPr/>
          <p:nvPr/>
        </p:nvSpPr>
        <p:spPr>
          <a:xfrm>
            <a:off x="4429080" y="1071720"/>
            <a:ext cx="4214880" cy="392688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class MyItemListener implements ItemListener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void itemStateChanged(ItemEvent e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int selected=1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if(e.getStateChange() == ItemEvent.</a:t>
            </a:r>
            <a:r>
              <a:rPr b="1" i="1" lang="en-US" sz="1200" spc="-1" strike="noStrike">
                <a:solidFill>
                  <a:srgbClr val="000000"/>
                </a:solidFill>
                <a:latin typeface="Tw Cen MT"/>
              </a:rPr>
              <a:t>SELECTED)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lected = 1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lected = -1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if(e.getItem() == fruits[0])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um = sum + selected*100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else if(e.getItem() == fruits[1])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um = sum + selected*500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um = sum + selected*20000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umLabel.setText("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현재 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"+sum+"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원 입니다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.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ublic static void main(String [] args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new CheckBoxItemEventEx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71" name="Picture 2" descr=""/>
          <p:cNvPicPr/>
          <p:nvPr/>
        </p:nvPicPr>
        <p:blipFill>
          <a:blip r:embed="rId1"/>
          <a:stretch/>
        </p:blipFill>
        <p:spPr>
          <a:xfrm>
            <a:off x="4156200" y="4799160"/>
            <a:ext cx="2381040" cy="19047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" descr=""/>
          <p:cNvPicPr/>
          <p:nvPr/>
        </p:nvPicPr>
        <p:blipFill>
          <a:blip r:embed="rId2"/>
          <a:stretch/>
        </p:blipFill>
        <p:spPr>
          <a:xfrm>
            <a:off x="6659640" y="4797360"/>
            <a:ext cx="2381040" cy="1905120"/>
          </a:xfrm>
          <a:prstGeom prst="rect">
            <a:avLst/>
          </a:prstGeom>
          <a:ln w="0">
            <a:noFill/>
          </a:ln>
        </p:spPr>
      </p:pic>
      <p:sp>
        <p:nvSpPr>
          <p:cNvPr id="673" name="슬라이드 번호 개체 틀 6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DB13-9076-458B-A019-7D2B3AD3409D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라디오 버튼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, JRadioButton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612720" y="1285920"/>
            <a:ext cx="8153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라디오버튼이란</a:t>
            </a:r>
            <a:r>
              <a:rPr b="0" lang="en-US" sz="15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</a:rPr>
              <a:t>여러 버튼으로 그룹을 형성하고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</a:rPr>
              <a:t>그룹에 속한 버튼 중 하나만 선택 상태가 되는 버튼</a:t>
            </a: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휴먼편지체"/>
              </a:rPr>
              <a:t>다른 버튼이 선택되면 이전에 선택된 버튼은 자동으로 해제됨</a:t>
            </a:r>
            <a:endParaRPr b="0" lang="en-US" sz="11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</a:rPr>
              <a:t>체크박스와의 차이점</a:t>
            </a: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휴먼편지체"/>
              </a:rPr>
              <a:t>체크 박스는 각 체크박스마다 선택</a:t>
            </a:r>
            <a:r>
              <a:rPr b="0" lang="en-US" sz="1100" spc="-1" strike="noStrike">
                <a:solidFill>
                  <a:srgbClr val="000000"/>
                </a:solidFill>
                <a:latin typeface="휴먼편지체"/>
              </a:rPr>
              <a:t>/</a:t>
            </a:r>
            <a:r>
              <a:rPr b="0" lang="ko-KR" sz="1100" spc="-1" strike="noStrike">
                <a:solidFill>
                  <a:srgbClr val="000000"/>
                </a:solidFill>
                <a:latin typeface="휴먼편지체"/>
              </a:rPr>
              <a:t>해제가 가능하지만 라디오 버튼은 그룹에 속한 버튼 중 하나만 선택 상태가 됨</a:t>
            </a:r>
            <a:endParaRPr b="0" lang="en-US" sz="11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</a:rPr>
              <a:t>이미지를 가진 라디오버튼의 생성 및 다루기는 체크박스와 완전히 동일</a:t>
            </a: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생성자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휴먼편지체"/>
              </a:rPr>
              <a:t>디폴트는 선택되지 않은 상태</a:t>
            </a:r>
            <a:r>
              <a:rPr b="0" lang="en-US" sz="1100" spc="-1" strike="noStrike">
                <a:solidFill>
                  <a:srgbClr val="000000"/>
                </a:solidFill>
                <a:latin typeface="휴먼편지체"/>
              </a:rPr>
              <a:t>, JCheckBox</a:t>
            </a:r>
            <a:r>
              <a:rPr b="0" lang="ko-KR" sz="1100" spc="-1" strike="noStrike">
                <a:solidFill>
                  <a:srgbClr val="000000"/>
                </a:solidFill>
                <a:latin typeface="휴먼편지체"/>
              </a:rPr>
              <a:t>의 생성자와 동일</a:t>
            </a:r>
            <a:endParaRPr b="0" lang="en-US" sz="11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</a:rPr>
              <a:t>JRadioButton()</a:t>
            </a: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휴먼편지체"/>
              </a:rPr>
              <a:t>텍스트와 이미지가 없는 토글 버튼 생성</a:t>
            </a:r>
            <a:endParaRPr b="0" lang="en-US" sz="11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</a:rPr>
              <a:t>JRadioButton(Icon icon)</a:t>
            </a: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휴먼편지체"/>
              </a:rPr>
              <a:t>이미지만 가진 토글 버튼 생성</a:t>
            </a:r>
            <a:endParaRPr b="0" lang="en-US" sz="11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</a:rPr>
              <a:t>JRadioButton(Icon icon, boolean selected)</a:t>
            </a: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휴먼편지체"/>
              </a:rPr>
              <a:t>이미지와 지정된 선택 상태로 생성</a:t>
            </a:r>
            <a:endParaRPr b="0" lang="en-US" sz="11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</a:rPr>
              <a:t>JRadioButton(String text)</a:t>
            </a: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휴먼편지체"/>
              </a:rPr>
              <a:t>텍스트 만을 가진 토글 버튼 생성</a:t>
            </a:r>
            <a:endParaRPr b="0" lang="en-US" sz="11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</a:rPr>
              <a:t>JRadioButton(String text, boolean selected)</a:t>
            </a: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휴먼편지체"/>
              </a:rPr>
              <a:t>텍스트와 지정된 선택 상태로 생성</a:t>
            </a:r>
            <a:endParaRPr b="0" lang="en-US" sz="11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</a:rPr>
              <a:t>JRadioButton(String text, Icon icon)</a:t>
            </a: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휴먼편지체"/>
              </a:rPr>
              <a:t>텍스트와 이미지 둘 다 가진 토글 버튼 생성</a:t>
            </a:r>
            <a:endParaRPr b="0" lang="en-US" sz="11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</a:rPr>
              <a:t>JRadioButton(String text, Icon icon, boolean selected)</a:t>
            </a: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휴먼편지체"/>
              </a:rPr>
              <a:t>텍스트와 이미지를 가지고 지정된 선택상태로 생성</a:t>
            </a:r>
            <a:endParaRPr b="0" lang="en-US" sz="11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76" name="Picture 3" descr=""/>
          <p:cNvPicPr/>
          <p:nvPr/>
        </p:nvPicPr>
        <p:blipFill>
          <a:blip r:embed="rId1"/>
          <a:stretch/>
        </p:blipFill>
        <p:spPr>
          <a:xfrm>
            <a:off x="4932360" y="3429000"/>
            <a:ext cx="2381400" cy="1428840"/>
          </a:xfrm>
          <a:prstGeom prst="rect">
            <a:avLst/>
          </a:prstGeom>
          <a:ln w="0">
            <a:noFill/>
          </a:ln>
        </p:spPr>
      </p:pic>
      <p:sp>
        <p:nvSpPr>
          <p:cNvPr id="677" name="직사각형 5"/>
          <p:cNvSpPr/>
          <p:nvPr/>
        </p:nvSpPr>
        <p:spPr>
          <a:xfrm>
            <a:off x="5122800" y="3716280"/>
            <a:ext cx="2000160" cy="684360"/>
          </a:xfrm>
          <a:prstGeom prst="rect">
            <a:avLst/>
          </a:prstGeom>
          <a:noFill/>
          <a:ln w="9360">
            <a:solidFill>
              <a:srgbClr val="b95b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TextBox 6"/>
          <p:cNvSpPr/>
          <p:nvPr/>
        </p:nvSpPr>
        <p:spPr>
          <a:xfrm>
            <a:off x="7444080" y="3716280"/>
            <a:ext cx="155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하나의 버튼 그룹에 속한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라디오버튼들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자유형 7"/>
          <p:cNvSpPr/>
          <p:nvPr/>
        </p:nvSpPr>
        <p:spPr>
          <a:xfrm>
            <a:off x="7107120" y="4016520"/>
            <a:ext cx="419040" cy="112680"/>
          </a:xfrm>
          <a:custGeom>
            <a:avLst/>
            <a:gdLst/>
            <a:ahLst/>
            <a:rect l="l" t="t" r="r" b="b"/>
            <a:pathLst>
              <a:path w="418290" h="113490">
                <a:moveTo>
                  <a:pt x="418290" y="16213"/>
                </a:moveTo>
                <a:cubicBezTo>
                  <a:pt x="312096" y="8106"/>
                  <a:pt x="205903" y="0"/>
                  <a:pt x="136188" y="16213"/>
                </a:cubicBezTo>
                <a:cubicBezTo>
                  <a:pt x="66473" y="32426"/>
                  <a:pt x="33236" y="72958"/>
                  <a:pt x="0" y="113490"/>
                </a:cubicBezTo>
              </a:path>
            </a:pathLst>
          </a:custGeom>
          <a:noFill/>
          <a:ln w="10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슬라이드 번호 개체 틀 8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B5C5-C7E5-428C-825B-309854DB5ED4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라디오 버튼 생성 과정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82" name="TextBox 3"/>
          <p:cNvSpPr/>
          <p:nvPr/>
        </p:nvSpPr>
        <p:spPr>
          <a:xfrm>
            <a:off x="3571920" y="2143080"/>
            <a:ext cx="4429080" cy="4757400"/>
          </a:xfrm>
          <a:prstGeom prst="rect">
            <a:avLst/>
          </a:prstGeom>
          <a:solidFill>
            <a:srgbClr val="d4e2ed"/>
          </a:solidFill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HY얕은샘물M"/>
              </a:rPr>
              <a:t>ButtonGroup group = new ButtonGroup()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HY얕은샘물M"/>
              </a:rPr>
              <a:t>JRadioButton apple= new JRadioButton("</a:t>
            </a:r>
            <a:r>
              <a:rPr b="0" lang="ko-KR" sz="1800" spc="-1" strike="noStrike">
                <a:solidFill>
                  <a:srgbClr val="000000"/>
                </a:solidFill>
                <a:latin typeface="Tw Cen MT"/>
                <a:ea typeface="HY얕은샘물M"/>
              </a:rPr>
              <a:t>사과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HY얕은샘물M"/>
              </a:rPr>
              <a:t>")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HY얕은샘물M"/>
              </a:rPr>
              <a:t>JRadioButton pear= new JRadioButton("</a:t>
            </a:r>
            <a:r>
              <a:rPr b="0" lang="ko-KR" sz="1800" spc="-1" strike="noStrike">
                <a:solidFill>
                  <a:srgbClr val="000000"/>
                </a:solidFill>
                <a:latin typeface="Tw Cen MT"/>
                <a:ea typeface="HY얕은샘물M"/>
              </a:rPr>
              <a:t>배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HY얕은샘물M"/>
              </a:rPr>
              <a:t>")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HY얕은샘물M"/>
              </a:rPr>
              <a:t>JRadioButton cherry= new JRadioButton("</a:t>
            </a:r>
            <a:r>
              <a:rPr b="0" lang="ko-KR" sz="1800" spc="-1" strike="noStrike">
                <a:solidFill>
                  <a:srgbClr val="000000"/>
                </a:solidFill>
                <a:latin typeface="Tw Cen MT"/>
                <a:ea typeface="HY얕은샘물M"/>
              </a:rPr>
              <a:t>체리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HY얕은샘물M"/>
              </a:rPr>
              <a:t>")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HY얕은샘물M"/>
              </a:rPr>
              <a:t>group.add(apple)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HY얕은샘물M"/>
              </a:rPr>
              <a:t>group.add(pear)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HY얕은샘물M"/>
              </a:rPr>
              <a:t>group.add(cherry)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HY얕은샘물M"/>
              </a:rPr>
              <a:t>container.add(apple)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HY얕은샘물M"/>
              </a:rPr>
              <a:t>container.add(pear)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HY얕은샘물M"/>
              </a:rPr>
              <a:t>container.add(cherry)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TextBox 4"/>
          <p:cNvSpPr/>
          <p:nvPr/>
        </p:nvSpPr>
        <p:spPr>
          <a:xfrm>
            <a:off x="376920" y="2214720"/>
            <a:ext cx="17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버튼 그룹 객체 생성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TextBox 5"/>
          <p:cNvSpPr/>
          <p:nvPr/>
        </p:nvSpPr>
        <p:spPr>
          <a:xfrm>
            <a:off x="349200" y="300024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라디오버튼 컴포넌트 생성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TextBox 6"/>
          <p:cNvSpPr/>
          <p:nvPr/>
        </p:nvSpPr>
        <p:spPr>
          <a:xfrm>
            <a:off x="314640" y="4071960"/>
            <a:ext cx="25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라디오 버튼을 버튼 그룹에 삽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TextBox 7"/>
          <p:cNvSpPr/>
          <p:nvPr/>
        </p:nvSpPr>
        <p:spPr>
          <a:xfrm>
            <a:off x="461880" y="514368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4. </a:t>
            </a: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라디오 버튼을 컨테이너에 삽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687" name="직선 화살표 연결선 9"/>
          <p:cNvCxnSpPr>
            <a:stCxn id="683" idx="3"/>
          </p:cNvCxnSpPr>
          <p:nvPr/>
        </p:nvCxnSpPr>
        <p:spPr>
          <a:xfrm flipV="1">
            <a:off x="2087280" y="2356920"/>
            <a:ext cx="1485000" cy="4176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88" name="왼쪽 중괄호 10"/>
          <p:cNvSpPr/>
          <p:nvPr/>
        </p:nvSpPr>
        <p:spPr>
          <a:xfrm>
            <a:off x="3286080" y="2857680"/>
            <a:ext cx="285840" cy="571320"/>
          </a:xfrm>
          <a:custGeom>
            <a:avLst/>
            <a:gdLst>
              <a:gd name="textAreaLeft" fmla="*/ 182520 w 285840"/>
              <a:gd name="textAreaRight" fmla="*/ 286200 w 285840"/>
              <a:gd name="textAreaTop" fmla="*/ 31680 h 571320"/>
              <a:gd name="textAreaBottom" fmla="*/ 53964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21"/>
                  <a:pt x="10800" y="3841"/>
                </a:cubicBezTo>
                <a:lnTo>
                  <a:pt x="10800" y="6959"/>
                </a:lnTo>
                <a:cubicBezTo>
                  <a:pt x="10800" y="8880"/>
                  <a:pt x="5400" y="10800"/>
                  <a:pt x="0" y="10800"/>
                </a:cubicBezTo>
                <a:cubicBezTo>
                  <a:pt x="5400" y="10800"/>
                  <a:pt x="10800" y="12721"/>
                  <a:pt x="10800" y="14641"/>
                </a:cubicBezTo>
                <a:lnTo>
                  <a:pt x="10800" y="17759"/>
                </a:lnTo>
                <a:cubicBezTo>
                  <a:pt x="10800" y="19680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b95b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689" name="직선 화살표 연결선 12"/>
          <p:cNvCxnSpPr>
            <a:stCxn id="684" idx="3"/>
            <a:endCxn id="688" idx="1"/>
          </p:cNvCxnSpPr>
          <p:nvPr/>
        </p:nvCxnSpPr>
        <p:spPr>
          <a:xfrm flipV="1">
            <a:off x="2383920" y="3142800"/>
            <a:ext cx="902520" cy="4176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90" name="왼쪽 중괄호 13"/>
          <p:cNvSpPr/>
          <p:nvPr/>
        </p:nvSpPr>
        <p:spPr>
          <a:xfrm>
            <a:off x="3286080" y="4000680"/>
            <a:ext cx="285840" cy="571320"/>
          </a:xfrm>
          <a:custGeom>
            <a:avLst/>
            <a:gdLst>
              <a:gd name="textAreaLeft" fmla="*/ 182520 w 285840"/>
              <a:gd name="textAreaRight" fmla="*/ 286200 w 285840"/>
              <a:gd name="textAreaTop" fmla="*/ 31680 h 571320"/>
              <a:gd name="textAreaBottom" fmla="*/ 53964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21"/>
                  <a:pt x="10800" y="3841"/>
                </a:cubicBezTo>
                <a:lnTo>
                  <a:pt x="10800" y="6959"/>
                </a:lnTo>
                <a:cubicBezTo>
                  <a:pt x="10800" y="8880"/>
                  <a:pt x="5400" y="10800"/>
                  <a:pt x="0" y="10800"/>
                </a:cubicBezTo>
                <a:cubicBezTo>
                  <a:pt x="5400" y="10800"/>
                  <a:pt x="10800" y="12721"/>
                  <a:pt x="10800" y="14641"/>
                </a:cubicBezTo>
                <a:lnTo>
                  <a:pt x="10800" y="17759"/>
                </a:lnTo>
                <a:cubicBezTo>
                  <a:pt x="10800" y="19680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b95b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1" name="왼쪽 중괄호 14"/>
          <p:cNvSpPr/>
          <p:nvPr/>
        </p:nvSpPr>
        <p:spPr>
          <a:xfrm>
            <a:off x="3286080" y="5072040"/>
            <a:ext cx="285840" cy="571680"/>
          </a:xfrm>
          <a:custGeom>
            <a:avLst/>
            <a:gdLst>
              <a:gd name="textAreaLeft" fmla="*/ 182520 w 285840"/>
              <a:gd name="textAreaRight" fmla="*/ 286200 w 285840"/>
              <a:gd name="textAreaTop" fmla="*/ 31680 h 571680"/>
              <a:gd name="textAreaBottom" fmla="*/ 54000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21"/>
                  <a:pt x="10800" y="3841"/>
                </a:cubicBezTo>
                <a:lnTo>
                  <a:pt x="10800" y="6959"/>
                </a:lnTo>
                <a:cubicBezTo>
                  <a:pt x="10800" y="8880"/>
                  <a:pt x="5400" y="10800"/>
                  <a:pt x="0" y="10800"/>
                </a:cubicBezTo>
                <a:cubicBezTo>
                  <a:pt x="5400" y="10800"/>
                  <a:pt x="10800" y="12721"/>
                  <a:pt x="10800" y="14641"/>
                </a:cubicBezTo>
                <a:lnTo>
                  <a:pt x="10800" y="17759"/>
                </a:lnTo>
                <a:cubicBezTo>
                  <a:pt x="10800" y="19680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b95b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692" name="직선 화살표 연결선 18"/>
          <p:cNvCxnSpPr>
            <a:stCxn id="685" idx="3"/>
            <a:endCxn id="690" idx="1"/>
          </p:cNvCxnSpPr>
          <p:nvPr/>
        </p:nvCxnSpPr>
        <p:spPr>
          <a:xfrm>
            <a:off x="2707920" y="4255920"/>
            <a:ext cx="578520" cy="3060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93" name="직선 화살표 연결선 20"/>
          <p:cNvCxnSpPr>
            <a:stCxn id="686" idx="3"/>
            <a:endCxn id="691" idx="1"/>
          </p:cNvCxnSpPr>
          <p:nvPr/>
        </p:nvCxnSpPr>
        <p:spPr>
          <a:xfrm>
            <a:off x="2871360" y="5327640"/>
            <a:ext cx="415080" cy="3060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94" name="슬라이드 번호 개체 틀 15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DDFC-1967-49AD-B235-D19D21B05BF8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기초적인 스윙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컴포넌트와 상속 관계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492" name="직사각형 5"/>
          <p:cNvSpPr/>
          <p:nvPr/>
        </p:nvSpPr>
        <p:spPr>
          <a:xfrm>
            <a:off x="3857760" y="1785960"/>
            <a:ext cx="928440" cy="285840"/>
          </a:xfrm>
          <a:prstGeom prst="rect">
            <a:avLst/>
          </a:prstGeom>
          <a:solidFill>
            <a:srgbClr val="e0cba3"/>
          </a:solidFill>
          <a:ln w="3240">
            <a:solidFill>
              <a:srgbClr val="6b859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Object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직사각형 11"/>
          <p:cNvSpPr/>
          <p:nvPr/>
        </p:nvSpPr>
        <p:spPr>
          <a:xfrm>
            <a:off x="3857760" y="2286000"/>
            <a:ext cx="928440" cy="285840"/>
          </a:xfrm>
          <a:prstGeom prst="rect">
            <a:avLst/>
          </a:prstGeom>
          <a:solidFill>
            <a:srgbClr val="e0cba3"/>
          </a:solidFill>
          <a:ln w="3240">
            <a:solidFill>
              <a:srgbClr val="6b859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Component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직사각형 12"/>
          <p:cNvSpPr/>
          <p:nvPr/>
        </p:nvSpPr>
        <p:spPr>
          <a:xfrm>
            <a:off x="3857760" y="2786040"/>
            <a:ext cx="928440" cy="285840"/>
          </a:xfrm>
          <a:prstGeom prst="rect">
            <a:avLst/>
          </a:prstGeom>
          <a:solidFill>
            <a:srgbClr val="e0cba3"/>
          </a:solidFill>
          <a:ln w="3240">
            <a:solidFill>
              <a:srgbClr val="6b859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Container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95" name="직사각형 15"/>
          <p:cNvGrpSpPr/>
          <p:nvPr/>
        </p:nvGrpSpPr>
        <p:grpSpPr>
          <a:xfrm>
            <a:off x="3627360" y="3127320"/>
            <a:ext cx="1444680" cy="658800"/>
            <a:chOff x="3627360" y="3127320"/>
            <a:chExt cx="1444680" cy="658800"/>
          </a:xfrm>
        </p:grpSpPr>
        <p:pic>
          <p:nvPicPr>
            <p:cNvPr id="496" name="직사각형 15" descr=""/>
            <p:cNvPicPr/>
            <p:nvPr/>
          </p:nvPicPr>
          <p:blipFill>
            <a:blip r:embed="rId1"/>
            <a:stretch/>
          </p:blipFill>
          <p:spPr>
            <a:xfrm>
              <a:off x="3627360" y="3127320"/>
              <a:ext cx="14446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3786120" y="3286080"/>
              <a:ext cx="1071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w Cen MT"/>
                </a:rPr>
                <a:t>JComponent</a:t>
              </a:r>
              <a:endParaRPr b="0" lang="en-US" sz="11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cxnSp>
        <p:nvCxnSpPr>
          <p:cNvPr id="498" name="Shape 41"/>
          <p:cNvCxnSpPr>
            <a:stCxn id="493" idx="0"/>
            <a:endCxn id="492" idx="2"/>
          </p:cNvCxnSpPr>
          <p:nvPr/>
        </p:nvCxnSpPr>
        <p:spPr>
          <a:xfrm flipH="1" flipV="1" rot="5400000">
            <a:off x="4213800" y="2177280"/>
            <a:ext cx="214920" cy="2520"/>
          </a:xfrm>
          <a:prstGeom prst="bentConnector3">
            <a:avLst>
              <a:gd name="adj1" fmla="val 50000"/>
            </a:avLst>
          </a:prstGeom>
          <a:ln w="3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499" name="꺾인 연결선 39"/>
          <p:cNvCxnSpPr>
            <a:stCxn id="494" idx="0"/>
            <a:endCxn id="493" idx="2"/>
          </p:cNvCxnSpPr>
          <p:nvPr/>
        </p:nvCxnSpPr>
        <p:spPr>
          <a:xfrm flipH="1" flipV="1" rot="5400000">
            <a:off x="4213800" y="2677320"/>
            <a:ext cx="214920" cy="2520"/>
          </a:xfrm>
          <a:prstGeom prst="bentConnector3">
            <a:avLst>
              <a:gd name="adj1" fmla="val 50000"/>
            </a:avLst>
          </a:prstGeom>
          <a:ln w="3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500" name="직선 화살표 연결선 40"/>
          <p:cNvCxnSpPr>
            <a:stCxn id="496" idx="0"/>
            <a:endCxn id="494" idx="2"/>
          </p:cNvCxnSpPr>
          <p:nvPr/>
        </p:nvCxnSpPr>
        <p:spPr>
          <a:xfrm flipV="1">
            <a:off x="4320000" y="3071160"/>
            <a:ext cx="2520" cy="214920"/>
          </a:xfrm>
          <a:prstGeom prst="straightConnector1">
            <a:avLst/>
          </a:prstGeom>
          <a:ln w="3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501" name="직사각형 49"/>
          <p:cNvSpPr/>
          <p:nvPr/>
        </p:nvSpPr>
        <p:spPr>
          <a:xfrm>
            <a:off x="7286760" y="4143240"/>
            <a:ext cx="1214280" cy="285840"/>
          </a:xfrm>
          <a:prstGeom prst="rect">
            <a:avLst/>
          </a:prstGeom>
          <a:solidFill>
            <a:srgbClr val="e0cba3"/>
          </a:solidFill>
          <a:ln w="28440">
            <a:solidFill>
              <a:srgbClr val="6b859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w Cen MT"/>
              </a:rPr>
              <a:t>JTextComponent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직사각형 50"/>
          <p:cNvSpPr/>
          <p:nvPr/>
        </p:nvSpPr>
        <p:spPr>
          <a:xfrm>
            <a:off x="571680" y="4143240"/>
            <a:ext cx="1071360" cy="285840"/>
          </a:xfrm>
          <a:prstGeom prst="rect">
            <a:avLst/>
          </a:prstGeom>
          <a:solidFill>
            <a:srgbClr val="e0cba3"/>
          </a:solidFill>
          <a:ln w="28440">
            <a:solidFill>
              <a:srgbClr val="6b859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w Cen MT"/>
              </a:rPr>
              <a:t>AbstractButton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직사각형 52"/>
          <p:cNvSpPr/>
          <p:nvPr/>
        </p:nvSpPr>
        <p:spPr>
          <a:xfrm>
            <a:off x="6786720" y="5000760"/>
            <a:ext cx="857160" cy="285480"/>
          </a:xfrm>
          <a:prstGeom prst="rect">
            <a:avLst/>
          </a:prstGeom>
          <a:solidFill>
            <a:srgbClr val="e0cba3"/>
          </a:solidFill>
          <a:ln w="28440">
            <a:solidFill>
              <a:srgbClr val="6b859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JTextField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직사각형 53"/>
          <p:cNvSpPr/>
          <p:nvPr/>
        </p:nvSpPr>
        <p:spPr>
          <a:xfrm>
            <a:off x="8072280" y="5000760"/>
            <a:ext cx="857520" cy="285480"/>
          </a:xfrm>
          <a:prstGeom prst="rect">
            <a:avLst/>
          </a:prstGeom>
          <a:solidFill>
            <a:srgbClr val="e0cba3"/>
          </a:solidFill>
          <a:ln w="28440">
            <a:solidFill>
              <a:srgbClr val="6b859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JTextArea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직사각형 54"/>
          <p:cNvSpPr/>
          <p:nvPr/>
        </p:nvSpPr>
        <p:spPr>
          <a:xfrm>
            <a:off x="2643120" y="5000760"/>
            <a:ext cx="785880" cy="285480"/>
          </a:xfrm>
          <a:prstGeom prst="rect">
            <a:avLst/>
          </a:prstGeom>
          <a:solidFill>
            <a:srgbClr val="b0cac4"/>
          </a:solidFill>
          <a:ln w="28440">
            <a:solidFill>
              <a:srgbClr val="6b859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JMenuItem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직사각형 55"/>
          <p:cNvSpPr/>
          <p:nvPr/>
        </p:nvSpPr>
        <p:spPr>
          <a:xfrm>
            <a:off x="1571760" y="5000760"/>
            <a:ext cx="857160" cy="285480"/>
          </a:xfrm>
          <a:prstGeom prst="rect">
            <a:avLst/>
          </a:prstGeom>
          <a:solidFill>
            <a:srgbClr val="e0cba3"/>
          </a:solidFill>
          <a:ln w="28440">
            <a:solidFill>
              <a:srgbClr val="6b859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JButton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직사각형 56"/>
          <p:cNvSpPr/>
          <p:nvPr/>
        </p:nvSpPr>
        <p:spPr>
          <a:xfrm>
            <a:off x="357120" y="5000760"/>
            <a:ext cx="1000080" cy="285480"/>
          </a:xfrm>
          <a:prstGeom prst="rect">
            <a:avLst/>
          </a:prstGeom>
          <a:solidFill>
            <a:srgbClr val="e0cba3"/>
          </a:solidFill>
          <a:ln w="28440">
            <a:solidFill>
              <a:srgbClr val="6b859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JToggleButton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8" name="직사각형 57"/>
          <p:cNvSpPr/>
          <p:nvPr/>
        </p:nvSpPr>
        <p:spPr>
          <a:xfrm>
            <a:off x="6643800" y="5786280"/>
            <a:ext cx="1143000" cy="285840"/>
          </a:xfrm>
          <a:prstGeom prst="rect">
            <a:avLst/>
          </a:prstGeom>
          <a:solidFill>
            <a:srgbClr val="e0cba3"/>
          </a:solidFill>
          <a:ln w="28440">
            <a:solidFill>
              <a:srgbClr val="6b859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JPasswordField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509" name="꺾인 연결선 59"/>
          <p:cNvCxnSpPr>
            <a:stCxn id="504" idx="0"/>
            <a:endCxn id="501" idx="2"/>
          </p:cNvCxnSpPr>
          <p:nvPr/>
        </p:nvCxnSpPr>
        <p:spPr>
          <a:xfrm flipV="1" rot="16200000">
            <a:off x="7911720" y="4411080"/>
            <a:ext cx="572400" cy="606960"/>
          </a:xfrm>
          <a:prstGeom prst="bentConnector3">
            <a:avLst>
              <a:gd name="adj1" fmla="val 49968"/>
            </a:avLst>
          </a:prstGeom>
          <a:ln w="3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510" name="꺾인 연결선 61"/>
          <p:cNvCxnSpPr>
            <a:stCxn id="505" idx="0"/>
            <a:endCxn id="502" idx="2"/>
          </p:cNvCxnSpPr>
          <p:nvPr/>
        </p:nvCxnSpPr>
        <p:spPr>
          <a:xfrm flipV="1" rot="16200000">
            <a:off x="1785600" y="3749040"/>
            <a:ext cx="572400" cy="1931040"/>
          </a:xfrm>
          <a:prstGeom prst="bentConnector3">
            <a:avLst>
              <a:gd name="adj1" fmla="val 49968"/>
            </a:avLst>
          </a:prstGeom>
          <a:ln w="3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511" name="꺾인 연결선 62"/>
          <p:cNvCxnSpPr>
            <a:stCxn id="506" idx="0"/>
            <a:endCxn id="502" idx="2"/>
          </p:cNvCxnSpPr>
          <p:nvPr/>
        </p:nvCxnSpPr>
        <p:spPr>
          <a:xfrm flipV="1" rot="16200000">
            <a:off x="1267200" y="4267440"/>
            <a:ext cx="572400" cy="894240"/>
          </a:xfrm>
          <a:prstGeom prst="bentConnector3">
            <a:avLst>
              <a:gd name="adj1" fmla="val 49968"/>
            </a:avLst>
          </a:prstGeom>
          <a:ln w="3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512" name="꺾인 연결선 63"/>
          <p:cNvCxnSpPr>
            <a:stCxn id="507" idx="0"/>
            <a:endCxn id="502" idx="2"/>
          </p:cNvCxnSpPr>
          <p:nvPr/>
        </p:nvCxnSpPr>
        <p:spPr>
          <a:xfrm flipH="1" flipV="1" rot="5400000">
            <a:off x="694800" y="4589640"/>
            <a:ext cx="572400" cy="250200"/>
          </a:xfrm>
          <a:prstGeom prst="bentConnector3">
            <a:avLst>
              <a:gd name="adj1" fmla="val 49968"/>
            </a:avLst>
          </a:prstGeom>
          <a:ln w="3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513" name="직사각형 65"/>
          <p:cNvSpPr/>
          <p:nvPr/>
        </p:nvSpPr>
        <p:spPr>
          <a:xfrm>
            <a:off x="2286000" y="5786280"/>
            <a:ext cx="785880" cy="285840"/>
          </a:xfrm>
          <a:prstGeom prst="rect">
            <a:avLst/>
          </a:prstGeom>
          <a:solidFill>
            <a:srgbClr val="b0cac4"/>
          </a:solidFill>
          <a:ln w="28440">
            <a:solidFill>
              <a:srgbClr val="6b859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JMenu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직사각형 66"/>
          <p:cNvSpPr/>
          <p:nvPr/>
        </p:nvSpPr>
        <p:spPr>
          <a:xfrm>
            <a:off x="3214800" y="5786280"/>
            <a:ext cx="1357200" cy="285840"/>
          </a:xfrm>
          <a:prstGeom prst="rect">
            <a:avLst/>
          </a:prstGeom>
          <a:solidFill>
            <a:srgbClr val="b0cac4"/>
          </a:solidFill>
          <a:ln w="28440">
            <a:solidFill>
              <a:srgbClr val="6b859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JCheckBoxMenuItem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515" name="꺾인 연결선 68"/>
          <p:cNvCxnSpPr>
            <a:stCxn id="513" idx="0"/>
            <a:endCxn id="505" idx="2"/>
          </p:cNvCxnSpPr>
          <p:nvPr/>
        </p:nvCxnSpPr>
        <p:spPr>
          <a:xfrm flipH="1" flipV="1" rot="5400000">
            <a:off x="2608200" y="5357160"/>
            <a:ext cx="500760" cy="357840"/>
          </a:xfrm>
          <a:prstGeom prst="bentConnector3">
            <a:avLst>
              <a:gd name="adj1" fmla="val 50000"/>
            </a:avLst>
          </a:prstGeom>
          <a:ln w="3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516" name="직사각형 69"/>
          <p:cNvSpPr/>
          <p:nvPr/>
        </p:nvSpPr>
        <p:spPr>
          <a:xfrm>
            <a:off x="214200" y="5786280"/>
            <a:ext cx="785880" cy="285840"/>
          </a:xfrm>
          <a:prstGeom prst="rect">
            <a:avLst/>
          </a:prstGeom>
          <a:solidFill>
            <a:srgbClr val="e0cba3"/>
          </a:solidFill>
          <a:ln w="28440">
            <a:solidFill>
              <a:srgbClr val="6b859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JCheckBox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직사각형 70"/>
          <p:cNvSpPr/>
          <p:nvPr/>
        </p:nvSpPr>
        <p:spPr>
          <a:xfrm>
            <a:off x="1143000" y="5786280"/>
            <a:ext cx="928800" cy="285840"/>
          </a:xfrm>
          <a:prstGeom prst="rect">
            <a:avLst/>
          </a:prstGeom>
          <a:solidFill>
            <a:srgbClr val="e0cba3"/>
          </a:solidFill>
          <a:ln w="28440">
            <a:solidFill>
              <a:srgbClr val="6b859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JRadioButton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518" name="꺾인 연결선 71"/>
          <p:cNvCxnSpPr>
            <a:stCxn id="516" idx="0"/>
            <a:endCxn id="507" idx="2"/>
          </p:cNvCxnSpPr>
          <p:nvPr/>
        </p:nvCxnSpPr>
        <p:spPr>
          <a:xfrm flipH="1" flipV="1" rot="5400000">
            <a:off x="482400" y="5411160"/>
            <a:ext cx="500760" cy="249840"/>
          </a:xfrm>
          <a:prstGeom prst="bentConnector3">
            <a:avLst>
              <a:gd name="adj1" fmla="val 50000"/>
            </a:avLst>
          </a:prstGeom>
          <a:ln w="3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519" name="꺾인 연결선 72"/>
          <p:cNvCxnSpPr>
            <a:stCxn id="517" idx="0"/>
            <a:endCxn id="507" idx="2"/>
          </p:cNvCxnSpPr>
          <p:nvPr/>
        </p:nvCxnSpPr>
        <p:spPr>
          <a:xfrm flipV="1" rot="16200000">
            <a:off x="982080" y="5159880"/>
            <a:ext cx="500760" cy="751680"/>
          </a:xfrm>
          <a:prstGeom prst="bentConnector3">
            <a:avLst>
              <a:gd name="adj1" fmla="val 50000"/>
            </a:avLst>
          </a:prstGeom>
          <a:ln w="3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520" name="직사각형 75"/>
          <p:cNvSpPr/>
          <p:nvPr/>
        </p:nvSpPr>
        <p:spPr>
          <a:xfrm>
            <a:off x="1857240" y="4143240"/>
            <a:ext cx="642960" cy="285840"/>
          </a:xfrm>
          <a:prstGeom prst="rect">
            <a:avLst/>
          </a:prstGeom>
          <a:solidFill>
            <a:srgbClr val="e0cba3"/>
          </a:solidFill>
          <a:ln w="28440">
            <a:solidFill>
              <a:srgbClr val="6b859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JLabel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직사각형 76"/>
          <p:cNvSpPr/>
          <p:nvPr/>
        </p:nvSpPr>
        <p:spPr>
          <a:xfrm>
            <a:off x="4500720" y="4143240"/>
            <a:ext cx="642960" cy="285840"/>
          </a:xfrm>
          <a:prstGeom prst="rect">
            <a:avLst/>
          </a:prstGeom>
          <a:solidFill>
            <a:srgbClr val="e0cba3"/>
          </a:solidFill>
          <a:ln w="28440">
            <a:solidFill>
              <a:srgbClr val="6b859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JList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직사각형 77"/>
          <p:cNvSpPr/>
          <p:nvPr/>
        </p:nvSpPr>
        <p:spPr>
          <a:xfrm>
            <a:off x="5286240" y="4143240"/>
            <a:ext cx="857520" cy="285840"/>
          </a:xfrm>
          <a:prstGeom prst="rect">
            <a:avLst/>
          </a:prstGeom>
          <a:solidFill>
            <a:srgbClr val="e0cba3"/>
          </a:solidFill>
          <a:ln w="28440">
            <a:solidFill>
              <a:srgbClr val="6b859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JComboBox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직사각형 80"/>
          <p:cNvSpPr/>
          <p:nvPr/>
        </p:nvSpPr>
        <p:spPr>
          <a:xfrm>
            <a:off x="6286680" y="4143240"/>
            <a:ext cx="857160" cy="285840"/>
          </a:xfrm>
          <a:prstGeom prst="rect">
            <a:avLst/>
          </a:prstGeom>
          <a:solidFill>
            <a:srgbClr val="e0cba3"/>
          </a:solidFill>
          <a:ln w="28440">
            <a:solidFill>
              <a:srgbClr val="6b859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JSlider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직사각형 81"/>
          <p:cNvSpPr/>
          <p:nvPr/>
        </p:nvSpPr>
        <p:spPr>
          <a:xfrm>
            <a:off x="2643120" y="4143240"/>
            <a:ext cx="857160" cy="285840"/>
          </a:xfrm>
          <a:prstGeom prst="rect">
            <a:avLst/>
          </a:prstGeom>
          <a:solidFill>
            <a:srgbClr val="e0cba3"/>
          </a:solidFill>
          <a:ln w="28440">
            <a:solidFill>
              <a:srgbClr val="6b859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JScrollBar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직사각형 88"/>
          <p:cNvSpPr/>
          <p:nvPr/>
        </p:nvSpPr>
        <p:spPr>
          <a:xfrm>
            <a:off x="3643200" y="4143240"/>
            <a:ext cx="785880" cy="285840"/>
          </a:xfrm>
          <a:prstGeom prst="rect">
            <a:avLst/>
          </a:prstGeom>
          <a:solidFill>
            <a:srgbClr val="b0cac4"/>
          </a:solidFill>
          <a:ln w="28440">
            <a:solidFill>
              <a:srgbClr val="6b859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JMenuBar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526" name="꺾인 연결선 101"/>
          <p:cNvCxnSpPr>
            <a:stCxn id="501" idx="0"/>
            <a:endCxn id="496" idx="2"/>
          </p:cNvCxnSpPr>
          <p:nvPr/>
        </p:nvCxnSpPr>
        <p:spPr>
          <a:xfrm flipV="1" rot="16200000">
            <a:off x="5821560" y="2070000"/>
            <a:ext cx="572040" cy="3574440"/>
          </a:xfrm>
          <a:prstGeom prst="bentConnector3">
            <a:avLst>
              <a:gd name="adj1" fmla="val 50000"/>
            </a:avLst>
          </a:prstGeom>
          <a:ln w="3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527" name="꺾인 연결선 102"/>
          <p:cNvCxnSpPr>
            <a:stCxn id="502" idx="0"/>
            <a:endCxn id="496" idx="2"/>
          </p:cNvCxnSpPr>
          <p:nvPr/>
        </p:nvCxnSpPr>
        <p:spPr>
          <a:xfrm flipH="1" flipV="1" rot="5400000">
            <a:off x="2427120" y="2249640"/>
            <a:ext cx="572040" cy="3215160"/>
          </a:xfrm>
          <a:prstGeom prst="bentConnector3">
            <a:avLst>
              <a:gd name="adj1" fmla="val 50000"/>
            </a:avLst>
          </a:prstGeom>
          <a:ln w="3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528" name="꺾인 연결선 103"/>
          <p:cNvCxnSpPr>
            <a:stCxn id="514" idx="0"/>
            <a:endCxn id="505" idx="2"/>
          </p:cNvCxnSpPr>
          <p:nvPr/>
        </p:nvCxnSpPr>
        <p:spPr>
          <a:xfrm flipV="1" rot="16200000">
            <a:off x="3214800" y="5106960"/>
            <a:ext cx="500760" cy="857880"/>
          </a:xfrm>
          <a:prstGeom prst="bentConnector3">
            <a:avLst>
              <a:gd name="adj1" fmla="val 50000"/>
            </a:avLst>
          </a:prstGeom>
          <a:ln w="3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529" name="꺾인 연결선 122"/>
          <p:cNvCxnSpPr>
            <a:stCxn id="508" idx="0"/>
            <a:endCxn id="503" idx="2"/>
          </p:cNvCxnSpPr>
          <p:nvPr/>
        </p:nvCxnSpPr>
        <p:spPr>
          <a:xfrm flipH="1" flipV="1" rot="5400000">
            <a:off x="6964200" y="5535360"/>
            <a:ext cx="500760" cy="1080"/>
          </a:xfrm>
          <a:prstGeom prst="bentConnector3">
            <a:avLst>
              <a:gd name="adj1" fmla="val 50000"/>
            </a:avLst>
          </a:prstGeom>
          <a:ln w="3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530" name="꺾인 연결선 208"/>
          <p:cNvCxnSpPr>
            <a:stCxn id="503" idx="0"/>
            <a:endCxn id="501" idx="2"/>
          </p:cNvCxnSpPr>
          <p:nvPr/>
        </p:nvCxnSpPr>
        <p:spPr>
          <a:xfrm flipH="1" flipV="1" rot="5400000">
            <a:off x="7268760" y="4374720"/>
            <a:ext cx="572400" cy="680400"/>
          </a:xfrm>
          <a:prstGeom prst="bentConnector3">
            <a:avLst>
              <a:gd name="adj1" fmla="val 49968"/>
            </a:avLst>
          </a:prstGeom>
          <a:ln w="3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531" name="꺾인 연결선 212"/>
          <p:cNvCxnSpPr>
            <a:stCxn id="520" idx="0"/>
            <a:endCxn id="496" idx="2"/>
          </p:cNvCxnSpPr>
          <p:nvPr/>
        </p:nvCxnSpPr>
        <p:spPr>
          <a:xfrm flipH="1" flipV="1" rot="5400000">
            <a:off x="2962800" y="2785320"/>
            <a:ext cx="572040" cy="2143800"/>
          </a:xfrm>
          <a:prstGeom prst="bentConnector3">
            <a:avLst>
              <a:gd name="adj1" fmla="val 50000"/>
            </a:avLst>
          </a:prstGeom>
          <a:ln w="3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532" name="꺾인 연결선 214"/>
          <p:cNvCxnSpPr>
            <a:stCxn id="524" idx="0"/>
            <a:endCxn id="496" idx="2"/>
          </p:cNvCxnSpPr>
          <p:nvPr/>
        </p:nvCxnSpPr>
        <p:spPr>
          <a:xfrm flipH="1" flipV="1" rot="5400000">
            <a:off x="3410640" y="3232440"/>
            <a:ext cx="572040" cy="1249920"/>
          </a:xfrm>
          <a:prstGeom prst="bentConnector3">
            <a:avLst>
              <a:gd name="adj1" fmla="val 50000"/>
            </a:avLst>
          </a:prstGeom>
          <a:ln w="3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533" name="꺾인 연결선 216"/>
          <p:cNvCxnSpPr>
            <a:stCxn id="525" idx="0"/>
            <a:endCxn id="496" idx="2"/>
          </p:cNvCxnSpPr>
          <p:nvPr/>
        </p:nvCxnSpPr>
        <p:spPr>
          <a:xfrm flipH="1" flipV="1" rot="5400000">
            <a:off x="3891600" y="3714120"/>
            <a:ext cx="572040" cy="286200"/>
          </a:xfrm>
          <a:prstGeom prst="bentConnector3">
            <a:avLst>
              <a:gd name="adj1" fmla="val 50000"/>
            </a:avLst>
          </a:prstGeom>
          <a:ln w="3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534" name="꺾인 연결선 218"/>
          <p:cNvCxnSpPr>
            <a:stCxn id="521" idx="0"/>
            <a:endCxn id="496" idx="2"/>
          </p:cNvCxnSpPr>
          <p:nvPr/>
        </p:nvCxnSpPr>
        <p:spPr>
          <a:xfrm flipV="1" rot="16200000">
            <a:off x="4285800" y="3605760"/>
            <a:ext cx="572040" cy="502560"/>
          </a:xfrm>
          <a:prstGeom prst="bentConnector3">
            <a:avLst>
              <a:gd name="adj1" fmla="val 50000"/>
            </a:avLst>
          </a:prstGeom>
          <a:ln w="3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535" name="꺾인 연결선 220"/>
          <p:cNvCxnSpPr>
            <a:stCxn id="522" idx="0"/>
            <a:endCxn id="496" idx="2"/>
          </p:cNvCxnSpPr>
          <p:nvPr/>
        </p:nvCxnSpPr>
        <p:spPr>
          <a:xfrm flipV="1" rot="16200000">
            <a:off x="4731840" y="3159720"/>
            <a:ext cx="572040" cy="1394640"/>
          </a:xfrm>
          <a:prstGeom prst="bentConnector3">
            <a:avLst>
              <a:gd name="adj1" fmla="val 50000"/>
            </a:avLst>
          </a:prstGeom>
          <a:ln w="3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536" name="꺾인 연결선 222"/>
          <p:cNvCxnSpPr>
            <a:stCxn id="523" idx="0"/>
            <a:endCxn id="496" idx="2"/>
          </p:cNvCxnSpPr>
          <p:nvPr/>
        </p:nvCxnSpPr>
        <p:spPr>
          <a:xfrm flipV="1" rot="16200000">
            <a:off x="5231880" y="2659680"/>
            <a:ext cx="572040" cy="2394720"/>
          </a:xfrm>
          <a:prstGeom prst="bentConnector3">
            <a:avLst>
              <a:gd name="adj1" fmla="val 50000"/>
            </a:avLst>
          </a:prstGeom>
          <a:ln w="3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537" name="TextBox 241"/>
          <p:cNvSpPr/>
          <p:nvPr/>
        </p:nvSpPr>
        <p:spPr>
          <a:xfrm>
            <a:off x="1118880" y="3000240"/>
            <a:ext cx="1770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w Cen MT"/>
              </a:rPr>
              <a:t>JComponent,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w Cen MT"/>
              </a:rPr>
              <a:t>AbstractButton,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w Cen MT"/>
              </a:rPr>
              <a:t>JTextCopmonent</a:t>
            </a:r>
            <a:r>
              <a:rPr b="0" i="1" lang="ko-KR" sz="1100" spc="-1" strike="noStrike">
                <a:solidFill>
                  <a:srgbClr val="000000"/>
                </a:solidFill>
                <a:latin typeface="Tw Cen MT"/>
              </a:rPr>
              <a:t>는 추상클래스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직사각형 46"/>
          <p:cNvSpPr/>
          <p:nvPr/>
        </p:nvSpPr>
        <p:spPr>
          <a:xfrm>
            <a:off x="4894200" y="4981680"/>
            <a:ext cx="642960" cy="285480"/>
          </a:xfrm>
          <a:prstGeom prst="rect">
            <a:avLst/>
          </a:prstGeom>
          <a:solidFill>
            <a:srgbClr val="e0cba3"/>
          </a:solidFill>
          <a:ln w="28440">
            <a:solidFill>
              <a:srgbClr val="6b859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JPanel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539" name="꺾인 연결선 47"/>
          <p:cNvCxnSpPr>
            <a:stCxn id="538" idx="0"/>
            <a:endCxn id="496" idx="2"/>
          </p:cNvCxnSpPr>
          <p:nvPr/>
        </p:nvCxnSpPr>
        <p:spPr>
          <a:xfrm flipV="1" rot="16200000">
            <a:off x="4063320" y="3828600"/>
            <a:ext cx="1410480" cy="896040"/>
          </a:xfrm>
          <a:prstGeom prst="bentConnector3">
            <a:avLst>
              <a:gd name="adj1" fmla="val 79703"/>
            </a:avLst>
          </a:prstGeom>
          <a:ln w="3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540" name="슬라이드 번호 개체 틀 48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1A54-85AE-429A-B924-559B1965F0FE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498600" y="1428840"/>
            <a:ext cx="2381040" cy="142884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예제 </a:t>
            </a:r>
            <a:r>
              <a:rPr b="0" lang="en-US" sz="2900" spc="-1" strike="noStrike">
                <a:solidFill>
                  <a:srgbClr val="775f55"/>
                </a:solidFill>
                <a:latin typeface="맑은 고딕"/>
              </a:rPr>
              <a:t>11-5 : </a:t>
            </a: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라디오버튼</a:t>
            </a:r>
            <a:br>
              <a:rPr sz="2900"/>
            </a:b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 생성 예</a:t>
            </a:r>
            <a:endParaRPr b="0" lang="en-US" sz="29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697" name="직사각형 3"/>
          <p:cNvSpPr/>
          <p:nvPr/>
        </p:nvSpPr>
        <p:spPr>
          <a:xfrm>
            <a:off x="4429080" y="0"/>
            <a:ext cx="4500720" cy="721224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x.swing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.awt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class RadioButtonEx extends JFrame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ainer contentPane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RadioButtonEx(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Title("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라디오버튼 만들기  예제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DefaultCloseOperation(JFrame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EXIT_ON_CLOS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 = getContentPane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setLayout(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FlowLayout()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ageIcon cherryIcon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ImageIcon("images/cherry.jpg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ageIcon selectedCherryIcon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ImageIcon("images/selectedCherry.jpg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ButtonGroup g = new ButtonGroup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JRadioButton apple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JRadioButton("</a:t>
            </a:r>
            <a:r>
              <a:rPr b="1" lang="ko-KR" sz="1200" spc="-1" strike="noStrike">
                <a:solidFill>
                  <a:srgbClr val="000000"/>
                </a:solidFill>
                <a:latin typeface="Tw Cen MT"/>
              </a:rPr>
              <a:t>사과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JRadioButton pear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JRadioButton("</a:t>
            </a:r>
            <a:r>
              <a:rPr b="1" lang="ko-KR" sz="1200" spc="-1" strike="noStrike">
                <a:solidFill>
                  <a:srgbClr val="000000"/>
                </a:solidFill>
                <a:latin typeface="Tw Cen MT"/>
              </a:rPr>
              <a:t>배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", tr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JRadioButton cherry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JRadioButton("</a:t>
            </a:r>
            <a:r>
              <a:rPr b="1" lang="ko-KR" sz="1200" spc="-1" strike="noStrike">
                <a:solidFill>
                  <a:srgbClr val="000000"/>
                </a:solidFill>
                <a:latin typeface="Tw Cen MT"/>
              </a:rPr>
              <a:t>체리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", cherryIcon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herry.setBorderPainted(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tr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herry.setSelectedIcon(selectedCherryIcon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g.add(appl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g.add(pear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g.add(cherry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add(appl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add(pear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add(cherry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Size(250,15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Visible(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tr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ublic static void main(String [] args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new RadioButtonEx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8" name="직사각형 11"/>
          <p:cNvSpPr/>
          <p:nvPr/>
        </p:nvSpPr>
        <p:spPr>
          <a:xfrm>
            <a:off x="714240" y="1735200"/>
            <a:ext cx="2000520" cy="684000"/>
          </a:xfrm>
          <a:prstGeom prst="rect">
            <a:avLst/>
          </a:prstGeom>
          <a:noFill/>
          <a:ln w="9360">
            <a:solidFill>
              <a:srgbClr val="b95b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TextBox 12"/>
          <p:cNvSpPr/>
          <p:nvPr/>
        </p:nvSpPr>
        <p:spPr>
          <a:xfrm>
            <a:off x="2968560" y="1571760"/>
            <a:ext cx="141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버튼 그룹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g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에 속한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라디오버튼들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0" name="자유형 13"/>
          <p:cNvSpPr/>
          <p:nvPr/>
        </p:nvSpPr>
        <p:spPr>
          <a:xfrm>
            <a:off x="2703600" y="1871640"/>
            <a:ext cx="419040" cy="112680"/>
          </a:xfrm>
          <a:custGeom>
            <a:avLst/>
            <a:gdLst/>
            <a:ahLst/>
            <a:rect l="l" t="t" r="r" b="b"/>
            <a:pathLst>
              <a:path w="418290" h="113490">
                <a:moveTo>
                  <a:pt x="418290" y="16213"/>
                </a:moveTo>
                <a:cubicBezTo>
                  <a:pt x="312096" y="8106"/>
                  <a:pt x="205903" y="0"/>
                  <a:pt x="136188" y="16213"/>
                </a:cubicBezTo>
                <a:cubicBezTo>
                  <a:pt x="66473" y="32426"/>
                  <a:pt x="33236" y="72958"/>
                  <a:pt x="0" y="113490"/>
                </a:cubicBezTo>
              </a:path>
            </a:pathLst>
          </a:custGeom>
          <a:noFill/>
          <a:ln w="10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TextBox 14"/>
          <p:cNvSpPr/>
          <p:nvPr/>
        </p:nvSpPr>
        <p:spPr>
          <a:xfrm>
            <a:off x="725760" y="2913120"/>
            <a:ext cx="19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초기 상태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배가 선택된 상태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TextBox 15"/>
          <p:cNvSpPr/>
          <p:nvPr/>
        </p:nvSpPr>
        <p:spPr>
          <a:xfrm>
            <a:off x="1058400" y="507204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체리가 선택된 상태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03" name="Picture 3" descr=""/>
          <p:cNvPicPr/>
          <p:nvPr/>
        </p:nvPicPr>
        <p:blipFill>
          <a:blip r:embed="rId2"/>
          <a:stretch/>
        </p:blipFill>
        <p:spPr>
          <a:xfrm>
            <a:off x="498600" y="3641760"/>
            <a:ext cx="2381040" cy="1428840"/>
          </a:xfrm>
          <a:prstGeom prst="rect">
            <a:avLst/>
          </a:prstGeom>
          <a:ln w="0">
            <a:noFill/>
          </a:ln>
        </p:spPr>
      </p:pic>
      <p:sp>
        <p:nvSpPr>
          <p:cNvPr id="704" name="슬라이드 번호 개체 틀 10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1D39-8D10-4E1D-893A-96B5781A706D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예제 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11-6 : ItemEvent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를 활용하여 사진 보여하기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06" name="직사각형 3"/>
          <p:cNvSpPr/>
          <p:nvPr/>
        </p:nvSpPr>
        <p:spPr>
          <a:xfrm>
            <a:off x="5143680" y="1285920"/>
            <a:ext cx="2928600" cy="313956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class MyItemListener implements ItemListener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public void itemStateChanged(ItemEvent e)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if(e.getStateChange() == 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ItemEvent.</a:t>
            </a:r>
            <a:r>
              <a:rPr b="1" i="1" lang="en-US" sz="1000" spc="-1" strike="noStrike">
                <a:solidFill>
                  <a:srgbClr val="000000"/>
                </a:solidFill>
                <a:latin typeface="Tw Cen MT"/>
              </a:rPr>
              <a:t>DESELECTED)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return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if(radio[0].isSelected()) 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imageLabel.setIcon(image[0]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else if(radio[1].isSelected()) 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imageLabel.setIcon(image[1]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else 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imageLabel.setIcon(image[2]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public static void main(String [] args)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new RadioButtonItemEventEx(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 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직사각형 4"/>
          <p:cNvSpPr/>
          <p:nvPr/>
        </p:nvSpPr>
        <p:spPr>
          <a:xfrm>
            <a:off x="1071720" y="917640"/>
            <a:ext cx="3929040" cy="618516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import javax.swing.*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import java.awt.event.*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import java.awt.*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public class RadioButtonItemEventEx extends JFrame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Container contentPane; 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JRadioButton [] radio = 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new JRadioButton [3]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String [] text = {"</a:t>
            </a:r>
            <a:r>
              <a:rPr b="0" lang="ko-KR" sz="1000" spc="-1" strike="noStrike">
                <a:solidFill>
                  <a:srgbClr val="000000"/>
                </a:solidFill>
                <a:latin typeface="Tw Cen MT"/>
              </a:rPr>
              <a:t>사과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", "</a:t>
            </a:r>
            <a:r>
              <a:rPr b="0" lang="ko-KR" sz="1000" spc="-1" strike="noStrike">
                <a:solidFill>
                  <a:srgbClr val="000000"/>
                </a:solidFill>
                <a:latin typeface="Tw Cen MT"/>
              </a:rPr>
              <a:t>배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", "</a:t>
            </a:r>
            <a:r>
              <a:rPr b="0" lang="ko-KR" sz="1000" spc="-1" strike="noStrike">
                <a:solidFill>
                  <a:srgbClr val="000000"/>
                </a:solidFill>
                <a:latin typeface="Tw Cen MT"/>
              </a:rPr>
              <a:t>체리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"}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ImageIcon [] image = { 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new ImageIcon("images/apple.jpg"), 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new ImageIcon(“images/pear.jpg"),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new ImageIcon(“images/cherry.jpg")}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JLabel imageLabel = 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new JLabel(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RadioButtonItemEventEx()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setTitle("</a:t>
            </a:r>
            <a:r>
              <a:rPr b="0" lang="ko-KR" sz="1000" spc="-1" strike="noStrike">
                <a:solidFill>
                  <a:srgbClr val="000000"/>
                </a:solidFill>
                <a:latin typeface="Tw Cen MT"/>
              </a:rPr>
              <a:t>라디오버튼 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Item Event </a:t>
            </a:r>
            <a:r>
              <a:rPr b="0" lang="ko-KR" sz="1000" spc="-1" strike="noStrike">
                <a:solidFill>
                  <a:srgbClr val="000000"/>
                </a:solidFill>
                <a:latin typeface="Tw Cen MT"/>
              </a:rPr>
              <a:t>예제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setDefaultCloseOperation(JFrame.</a:t>
            </a:r>
            <a:r>
              <a:rPr b="0" i="1" lang="en-US" sz="1000" spc="-1" strike="noStrike">
                <a:solidFill>
                  <a:srgbClr val="000000"/>
                </a:solidFill>
                <a:latin typeface="Tw Cen MT"/>
              </a:rPr>
              <a:t>EXIT_ON_CLOSE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contentPane = getContentPane(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contentPane.setLayout(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new BorderLayout()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JPanel panel = 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new JPanel(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panel.setBackground(Color.</a:t>
            </a:r>
            <a:r>
              <a:rPr b="0" i="1" lang="en-US" sz="1000" spc="-1" strike="noStrike">
                <a:solidFill>
                  <a:srgbClr val="000000"/>
                </a:solidFill>
                <a:latin typeface="Tw Cen MT"/>
              </a:rPr>
              <a:t>GRAY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ButtonGroup g = 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new ButtonGroup(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for(int i=0; i&lt;radio.length; i++)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radio[i] = 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new JRadioButton(text[i]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g.add(radio[i]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panel.add(radio[i]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radio[i].addItemListener(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new MyItemListener()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radio[2].setSelected(true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contentPane.add(panel, BorderLayout.</a:t>
            </a:r>
            <a:r>
              <a:rPr b="0" i="1" lang="en-US" sz="1000" spc="-1" strike="noStrike">
                <a:solidFill>
                  <a:srgbClr val="000000"/>
                </a:solidFill>
                <a:latin typeface="Tw Cen MT"/>
              </a:rPr>
              <a:t>NORTH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contentPane.add(imageLabel, BorderLayout.</a:t>
            </a:r>
            <a:r>
              <a:rPr b="0" i="1" lang="en-US" sz="1000" spc="-1" strike="noStrike">
                <a:solidFill>
                  <a:srgbClr val="000000"/>
                </a:solidFill>
                <a:latin typeface="Tw Cen MT"/>
              </a:rPr>
              <a:t>CENTER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imageLabel.setHorizontalAlignment(SwingConstants.</a:t>
            </a:r>
            <a:r>
              <a:rPr b="1" i="1" lang="en-US" sz="1000" spc="-1" strike="noStrike">
                <a:solidFill>
                  <a:srgbClr val="000000"/>
                </a:solidFill>
                <a:latin typeface="Tw Cen MT"/>
              </a:rPr>
              <a:t>CENTER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setSize(250,200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setVisible(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true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TextBox 5"/>
          <p:cNvSpPr/>
          <p:nvPr/>
        </p:nvSpPr>
        <p:spPr>
          <a:xfrm>
            <a:off x="-7200" y="1785960"/>
            <a:ext cx="74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w Cen MT"/>
              </a:rPr>
              <a:t>라디오버튼 배열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709" name="직선 화살표 연결선 7"/>
          <p:cNvCxnSpPr/>
          <p:nvPr/>
        </p:nvCxnSpPr>
        <p:spPr>
          <a:xfrm>
            <a:off x="857160" y="1928880"/>
            <a:ext cx="357840" cy="216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710" name="TextBox 10"/>
          <p:cNvSpPr/>
          <p:nvPr/>
        </p:nvSpPr>
        <p:spPr>
          <a:xfrm>
            <a:off x="-5400" y="2786040"/>
            <a:ext cx="100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w Cen MT"/>
              </a:rPr>
              <a:t>이미지가 출력될 레이블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711" name="직선 화살표 연결선 12"/>
          <p:cNvCxnSpPr/>
          <p:nvPr/>
        </p:nvCxnSpPr>
        <p:spPr>
          <a:xfrm>
            <a:off x="928440" y="2857320"/>
            <a:ext cx="286200" cy="108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712" name="TextBox 21"/>
          <p:cNvSpPr/>
          <p:nvPr/>
        </p:nvSpPr>
        <p:spPr>
          <a:xfrm>
            <a:off x="-28440" y="400068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w Cen MT"/>
              </a:rPr>
              <a:t>라디오 버튼을 둘 패널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713" name="직선 화살표 연결선 22"/>
          <p:cNvCxnSpPr/>
          <p:nvPr/>
        </p:nvCxnSpPr>
        <p:spPr>
          <a:xfrm>
            <a:off x="857160" y="4142880"/>
            <a:ext cx="357840" cy="252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714" name="TextBox 23"/>
          <p:cNvSpPr/>
          <p:nvPr/>
        </p:nvSpPr>
        <p:spPr>
          <a:xfrm>
            <a:off x="-11160" y="4500720"/>
            <a:ext cx="89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w Cen MT"/>
              </a:rPr>
              <a:t>버튼 그룹 객체 생성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715" name="직선 화살표 연결선 24"/>
          <p:cNvCxnSpPr/>
          <p:nvPr/>
        </p:nvCxnSpPr>
        <p:spPr>
          <a:xfrm>
            <a:off x="928440" y="4571640"/>
            <a:ext cx="286200" cy="108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716" name="TextBox 25"/>
          <p:cNvSpPr/>
          <p:nvPr/>
        </p:nvSpPr>
        <p:spPr>
          <a:xfrm>
            <a:off x="-49320" y="492912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w Cen MT"/>
              </a:rPr>
              <a:t>라디오버튼을 버튼 그룹에 삽이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717" name="직선 화살표 연결선 26"/>
          <p:cNvCxnSpPr/>
          <p:nvPr/>
        </p:nvCxnSpPr>
        <p:spPr>
          <a:xfrm>
            <a:off x="928440" y="5000400"/>
            <a:ext cx="286200" cy="108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718" name="TextBox 27"/>
          <p:cNvSpPr/>
          <p:nvPr/>
        </p:nvSpPr>
        <p:spPr>
          <a:xfrm>
            <a:off x="-114480" y="521496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ItemListener </a:t>
            </a:r>
            <a:r>
              <a:rPr b="0" lang="ko-KR" sz="1000" spc="-1" strike="noStrike">
                <a:solidFill>
                  <a:srgbClr val="000000"/>
                </a:solidFill>
                <a:latin typeface="Tw Cen MT"/>
              </a:rPr>
              <a:t>들록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719" name="직선 화살표 연결선 28"/>
          <p:cNvCxnSpPr/>
          <p:nvPr/>
        </p:nvCxnSpPr>
        <p:spPr>
          <a:xfrm>
            <a:off x="928440" y="5285880"/>
            <a:ext cx="286200" cy="108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720" name="TextBox 29"/>
          <p:cNvSpPr/>
          <p:nvPr/>
        </p:nvSpPr>
        <p:spPr>
          <a:xfrm>
            <a:off x="-15120" y="5500800"/>
            <a:ext cx="111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3</a:t>
            </a:r>
            <a:r>
              <a:rPr b="0" lang="ko-KR" sz="1000" spc="-1" strike="noStrike">
                <a:solidFill>
                  <a:srgbClr val="000000"/>
                </a:solidFill>
                <a:latin typeface="Tw Cen MT"/>
              </a:rPr>
              <a:t>번째 라디오버튼을 선택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721" name="직선 화살표 연결선 30"/>
          <p:cNvCxnSpPr/>
          <p:nvPr/>
        </p:nvCxnSpPr>
        <p:spPr>
          <a:xfrm>
            <a:off x="928440" y="5571720"/>
            <a:ext cx="286200" cy="108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722" name="TextBox 31"/>
          <p:cNvSpPr/>
          <p:nvPr/>
        </p:nvSpPr>
        <p:spPr>
          <a:xfrm>
            <a:off x="-11520" y="6000840"/>
            <a:ext cx="82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w Cen MT"/>
              </a:rPr>
              <a:t>이미지를 중앙정렬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723" name="직선 화살표 연결선 32"/>
          <p:cNvCxnSpPr/>
          <p:nvPr/>
        </p:nvCxnSpPr>
        <p:spPr>
          <a:xfrm>
            <a:off x="928440" y="6071760"/>
            <a:ext cx="286200" cy="108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724" name="TextBox 33"/>
          <p:cNvSpPr/>
          <p:nvPr/>
        </p:nvSpPr>
        <p:spPr>
          <a:xfrm>
            <a:off x="8215200" y="2143080"/>
            <a:ext cx="9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w Cen MT"/>
              </a:rPr>
              <a:t>선택된 라디오 버튼에 대한 이미지 출력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725" name="직선 화살표 연결선 36"/>
          <p:cNvCxnSpPr>
            <a:stCxn id="724" idx="1"/>
          </p:cNvCxnSpPr>
          <p:nvPr/>
        </p:nvCxnSpPr>
        <p:spPr>
          <a:xfrm flipH="1">
            <a:off x="7714440" y="2342160"/>
            <a:ext cx="500760" cy="1476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726" name="모서리가 둥근 사각형 설명선 37"/>
          <p:cNvSpPr/>
          <p:nvPr/>
        </p:nvSpPr>
        <p:spPr>
          <a:xfrm>
            <a:off x="5643720" y="5198760"/>
            <a:ext cx="1714320" cy="889560"/>
          </a:xfrm>
          <a:prstGeom prst="wedgeRoundRectCallout">
            <a:avLst>
              <a:gd name="adj1" fmla="val -215166"/>
              <a:gd name="adj2" fmla="val -2995"/>
              <a:gd name="adj3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Selcted(true)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메소드 호출로 인해 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tem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이벤트가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발생하여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해당하는 이미지 출력됨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TextBox 34"/>
          <p:cNvSpPr/>
          <p:nvPr/>
        </p:nvSpPr>
        <p:spPr>
          <a:xfrm>
            <a:off x="8215200" y="1500120"/>
            <a:ext cx="928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Item </a:t>
            </a:r>
            <a:r>
              <a:rPr b="0" lang="ko-KR" sz="1000" spc="-1" strike="noStrike">
                <a:solidFill>
                  <a:srgbClr val="000000"/>
                </a:solidFill>
                <a:latin typeface="Tw Cen MT"/>
              </a:rPr>
              <a:t>이벤트가 버튼 해제로 인해 발생한 경우는 처리하지 않음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728" name="직선 화살표 연결선 35"/>
          <p:cNvCxnSpPr/>
          <p:nvPr/>
        </p:nvCxnSpPr>
        <p:spPr>
          <a:xfrm flipH="1" flipV="1">
            <a:off x="7214760" y="1999440"/>
            <a:ext cx="1000800" cy="108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729" name="슬라이드 번호 개체 틀 38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040D-B144-4D3C-9410-5A5BDD7E2892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예제 실행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: ItemEvent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를 활용하여 사진 보여하기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31" name="TextBox 6"/>
          <p:cNvSpPr/>
          <p:nvPr/>
        </p:nvSpPr>
        <p:spPr>
          <a:xfrm>
            <a:off x="1496520" y="3571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초기화면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2" name="TextBox 7"/>
          <p:cNvSpPr/>
          <p:nvPr/>
        </p:nvSpPr>
        <p:spPr>
          <a:xfrm>
            <a:off x="4002840" y="3571920"/>
            <a:ext cx="12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배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를 선택한 경우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3" name="TextBox 8"/>
          <p:cNvSpPr/>
          <p:nvPr/>
        </p:nvSpPr>
        <p:spPr>
          <a:xfrm>
            <a:off x="6583320" y="3571920"/>
            <a:ext cx="139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사과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를 선택한 경우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34" name="Picture 2" descr=""/>
          <p:cNvPicPr/>
          <p:nvPr/>
        </p:nvPicPr>
        <p:blipFill>
          <a:blip r:embed="rId1"/>
          <a:stretch/>
        </p:blipFill>
        <p:spPr>
          <a:xfrm>
            <a:off x="609480" y="1666800"/>
            <a:ext cx="2381400" cy="19051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5" descr=""/>
          <p:cNvPicPr/>
          <p:nvPr/>
        </p:nvPicPr>
        <p:blipFill>
          <a:blip r:embed="rId2"/>
          <a:stretch/>
        </p:blipFill>
        <p:spPr>
          <a:xfrm>
            <a:off x="6227640" y="1666800"/>
            <a:ext cx="2381400" cy="190512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6" descr=""/>
          <p:cNvPicPr/>
          <p:nvPr/>
        </p:nvPicPr>
        <p:blipFill>
          <a:blip r:embed="rId3"/>
          <a:stretch/>
        </p:blipFill>
        <p:spPr>
          <a:xfrm>
            <a:off x="3416400" y="1666800"/>
            <a:ext cx="2381040" cy="1905120"/>
          </a:xfrm>
          <a:prstGeom prst="rect">
            <a:avLst/>
          </a:prstGeom>
          <a:ln w="0">
            <a:noFill/>
          </a:ln>
        </p:spPr>
      </p:pic>
      <p:sp>
        <p:nvSpPr>
          <p:cNvPr id="737" name="슬라이드 번호 개체 틀 9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B161-D762-404A-995B-95B66F2438B5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JTextField,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텍스트필드 컴포넌트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612720" y="1285920"/>
            <a:ext cx="8153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텍스트 필드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줄 짜리 텍스트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문자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입력 창을 구현한 컴포넌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텍스트  입력 도중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&lt;Enter&gt;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키가 입력되면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ction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이벤트 발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입력 가능한 문자 개수와 입력 창의 크기는 서로 다르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생성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TextField(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빈 텍스트 입력 창 생성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TextField(int column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입력 창의 크기가 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columns 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개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빈 텍스트 입력 창 생성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TextField(String text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text 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문자열로 초기화된 텍스트 입력 창 생성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TextField(String text, int column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입력 창의 크기가 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columns 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개이고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text 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문자열이 초기 출력된 텍스트 입력 창 생성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</p:txBody>
      </p:sp>
      <p:sp>
        <p:nvSpPr>
          <p:cNvPr id="740" name="슬라이드 번호 개체 틀 3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BE49-1CF2-4EDC-901B-1009CC54C7B2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예제 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11-7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간단한 텍스트 필드 만들기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42" name="직사각형 5"/>
          <p:cNvSpPr/>
          <p:nvPr/>
        </p:nvSpPr>
        <p:spPr>
          <a:xfrm>
            <a:off x="571680" y="1103400"/>
            <a:ext cx="4500360" cy="606132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import java.awt.*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public class TextFieldEx extends JFrame {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ntainer contentPane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TextFieldEx() {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tTitle("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텍스트 필드 만들기  예제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tDefaultCloseOperation(JFrame.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EXIT_ON_CLOSE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ntentPane = getContentPane(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ntentPane.setLayout(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new FlowLayout()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ntentPane.add(new JLabel("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이름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: ")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ntentPane.add(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new JTextField(10)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ntentPane.add(new JLabel("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학과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: ")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ntentPane.add(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new JTextField(“xxx </a:t>
            </a:r>
            <a:r>
              <a:rPr b="1" lang="ko-KR" sz="1400" spc="-1" strike="noStrike">
                <a:solidFill>
                  <a:srgbClr val="000000"/>
                </a:solidFill>
                <a:latin typeface="Tw Cen MT"/>
              </a:rPr>
              <a:t>공학과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")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ntentPane.add(new JLabel("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주소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: ")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ntentPane.add(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new JTextField("</a:t>
            </a:r>
            <a:r>
              <a:rPr b="1" lang="ko-KR" sz="1400" spc="-1" strike="noStrike">
                <a:solidFill>
                  <a:srgbClr val="000000"/>
                </a:solidFill>
                <a:latin typeface="Tw Cen MT"/>
              </a:rPr>
              <a:t>서울시 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...", 20)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tSize(350,200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tVisible(true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public static void main(String [] args) {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new TextFieldEx(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3" name="TextBox 6"/>
          <p:cNvSpPr/>
          <p:nvPr/>
        </p:nvSpPr>
        <p:spPr>
          <a:xfrm>
            <a:off x="6496200" y="35002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초기화면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TextBox 7"/>
          <p:cNvSpPr/>
          <p:nvPr/>
        </p:nvSpPr>
        <p:spPr>
          <a:xfrm>
            <a:off x="6087960" y="592920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사용자가 입력한 경우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45" name="Picture 2" descr=""/>
          <p:cNvPicPr/>
          <p:nvPr/>
        </p:nvPicPr>
        <p:blipFill>
          <a:blip r:embed="rId1"/>
          <a:stretch/>
        </p:blipFill>
        <p:spPr>
          <a:xfrm>
            <a:off x="5286240" y="1522440"/>
            <a:ext cx="3333960" cy="190512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3" descr=""/>
          <p:cNvPicPr/>
          <p:nvPr/>
        </p:nvPicPr>
        <p:blipFill>
          <a:blip r:embed="rId2"/>
          <a:stretch/>
        </p:blipFill>
        <p:spPr>
          <a:xfrm>
            <a:off x="5286240" y="3949560"/>
            <a:ext cx="3333960" cy="1905120"/>
          </a:xfrm>
          <a:prstGeom prst="rect">
            <a:avLst/>
          </a:prstGeom>
          <a:ln w="0">
            <a:noFill/>
          </a:ln>
        </p:spPr>
      </p:pic>
      <p:sp>
        <p:nvSpPr>
          <p:cNvPr id="747" name="슬라이드 번호 개체 틀 8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5483-0DE9-485C-95C8-CED880C0650E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텍스트 필드의 주요 메소드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612720" y="1285920"/>
            <a:ext cx="8153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텍스트의 편집을 불가능하게 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TextField.setEditable(false);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텍스트 창에 강제로 문자열 출력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TextField.setText(“hello”);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텍스트 폰트 지정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TextField.setFont(new Font(“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고딕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, Font.ITALIC, 20);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텍스트 창에 있는 문자열 선택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TextField.select(0, 5); //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번 문자에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번째까지 문자열 선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0" name="슬라이드 번호 개체 틀 3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5079-A558-4378-809E-76BCA3E2FE87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TextArea,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텍스트영역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컴포넌트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612720" y="1285920"/>
            <a:ext cx="8153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텍스트영역이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여러 줄을 입력할 수 있는 텍스트 입력 창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스크롤바를 지원하지 않는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JScrollPane 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객체에 삽입하는 방식으로 스크롤바 지원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생성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TextArea(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빈 텍스트 입력 창 생성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TextArea(int rows, int column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창의 크기가 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rows x columns,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빈 텍스트 입력 창 생성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TextArea(String text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text 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문자열로 초기화된 텍스트 입력 창 생성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TextArea(String text, int rows, int column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창의 크기가 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rows x columns, 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text 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문자열이 초기 출력된 텍스트 입력 창 생성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3" name="슬라이드 번호 개체 틀 3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E11B-05D3-44E1-9076-366330E045AC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Picture 7" descr=""/>
          <p:cNvPicPr/>
          <p:nvPr/>
        </p:nvPicPr>
        <p:blipFill>
          <a:blip r:embed="rId1"/>
          <a:stretch/>
        </p:blipFill>
        <p:spPr>
          <a:xfrm>
            <a:off x="4932360" y="1514520"/>
            <a:ext cx="2360520" cy="160668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6" descr=""/>
          <p:cNvPicPr/>
          <p:nvPr/>
        </p:nvPicPr>
        <p:blipFill>
          <a:blip r:embed="rId2"/>
          <a:stretch/>
        </p:blipFill>
        <p:spPr>
          <a:xfrm>
            <a:off x="1344600" y="1514520"/>
            <a:ext cx="2360520" cy="1606680"/>
          </a:xfrm>
          <a:prstGeom prst="rect">
            <a:avLst/>
          </a:prstGeom>
          <a:ln w="0">
            <a:noFill/>
          </a:ln>
        </p:spPr>
      </p:pic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57" name="오른쪽 중괄호 7"/>
          <p:cNvSpPr/>
          <p:nvPr/>
        </p:nvSpPr>
        <p:spPr>
          <a:xfrm>
            <a:off x="3419640" y="1773360"/>
            <a:ext cx="285480" cy="1000080"/>
          </a:xfrm>
          <a:custGeom>
            <a:avLst/>
            <a:gdLst>
              <a:gd name="textAreaLeft" fmla="*/ 0 w 285480"/>
              <a:gd name="textAreaRight" fmla="*/ 102960 w 285480"/>
              <a:gd name="textAreaTop" fmla="*/ 51840 h 1000080"/>
              <a:gd name="textAreaBottom" fmla="*/ 9482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00"/>
                  <a:pt x="10800" y="3600"/>
                </a:cubicBezTo>
                <a:lnTo>
                  <a:pt x="10800" y="7200"/>
                </a:lnTo>
                <a:cubicBezTo>
                  <a:pt x="10800" y="9000"/>
                  <a:pt x="16200" y="10800"/>
                  <a:pt x="21600" y="10800"/>
                </a:cubicBezTo>
                <a:cubicBezTo>
                  <a:pt x="16200" y="10800"/>
                  <a:pt x="10800" y="12600"/>
                  <a:pt x="10800" y="14400"/>
                </a:cubicBezTo>
                <a:lnTo>
                  <a:pt x="10800" y="18000"/>
                </a:lnTo>
                <a:cubicBezTo>
                  <a:pt x="10800" y="19800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TextBox 8"/>
          <p:cNvSpPr/>
          <p:nvPr/>
        </p:nvSpPr>
        <p:spPr>
          <a:xfrm>
            <a:off x="3670560" y="2130480"/>
            <a:ext cx="47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Tw Cen MT"/>
              </a:rPr>
              <a:t>7 </a:t>
            </a:r>
            <a:r>
              <a:rPr b="0" lang="ko-KR" sz="1400" spc="-1" strike="noStrike">
                <a:solidFill>
                  <a:srgbClr val="c00000"/>
                </a:solidFill>
                <a:latin typeface="Tw Cen MT"/>
              </a:rPr>
              <a:t>줄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오른쪽 중괄호 9"/>
          <p:cNvSpPr/>
          <p:nvPr/>
        </p:nvSpPr>
        <p:spPr>
          <a:xfrm rot="5400000">
            <a:off x="2347920" y="2121120"/>
            <a:ext cx="285840" cy="1714320"/>
          </a:xfrm>
          <a:custGeom>
            <a:avLst/>
            <a:gdLst>
              <a:gd name="textAreaLeft" fmla="*/ 0 w 285840"/>
              <a:gd name="textAreaRight" fmla="*/ 103320 w 285840"/>
              <a:gd name="textAreaTop" fmla="*/ 51840 h 1714320"/>
              <a:gd name="textAreaBottom" fmla="*/ 166248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50"/>
                  <a:pt x="10800" y="2100"/>
                </a:cubicBezTo>
                <a:lnTo>
                  <a:pt x="10800" y="8700"/>
                </a:lnTo>
                <a:cubicBezTo>
                  <a:pt x="10800" y="9750"/>
                  <a:pt x="16200" y="10800"/>
                  <a:pt x="21600" y="10800"/>
                </a:cubicBezTo>
                <a:cubicBezTo>
                  <a:pt x="16200" y="10800"/>
                  <a:pt x="10800" y="11850"/>
                  <a:pt x="10800" y="12900"/>
                </a:cubicBezTo>
                <a:lnTo>
                  <a:pt x="10800" y="19500"/>
                </a:lnTo>
                <a:cubicBezTo>
                  <a:pt x="10800" y="20550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0" name="TextBox 10"/>
          <p:cNvSpPr/>
          <p:nvPr/>
        </p:nvSpPr>
        <p:spPr>
          <a:xfrm>
            <a:off x="2176920" y="30495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Tw Cen MT"/>
              </a:rPr>
              <a:t>20 </a:t>
            </a:r>
            <a:r>
              <a:rPr b="0" lang="ko-KR" sz="1400" spc="-1" strike="noStrike">
                <a:solidFill>
                  <a:srgbClr val="c00000"/>
                </a:solidFill>
                <a:latin typeface="Tw Cen MT"/>
              </a:rPr>
              <a:t>문자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TextBox 13"/>
          <p:cNvSpPr/>
          <p:nvPr/>
        </p:nvSpPr>
        <p:spPr>
          <a:xfrm>
            <a:off x="1434600" y="328464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new JTextArea(“hello”, 7, 20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자유형 14"/>
          <p:cNvSpPr/>
          <p:nvPr/>
        </p:nvSpPr>
        <p:spPr>
          <a:xfrm>
            <a:off x="3236760" y="2567160"/>
            <a:ext cx="258840" cy="761760"/>
          </a:xfrm>
          <a:custGeom>
            <a:avLst/>
            <a:gdLst/>
            <a:ahLst/>
            <a:rect l="l" t="t" r="r" b="b"/>
            <a:pathLst>
              <a:path w="259080" h="762000">
                <a:moveTo>
                  <a:pt x="91440" y="762000"/>
                </a:moveTo>
                <a:cubicBezTo>
                  <a:pt x="175260" y="698500"/>
                  <a:pt x="259080" y="635000"/>
                  <a:pt x="243840" y="508000"/>
                </a:cubicBezTo>
                <a:cubicBezTo>
                  <a:pt x="228600" y="381000"/>
                  <a:pt x="114300" y="190500"/>
                  <a:pt x="0" y="0"/>
                </a:cubicBezTo>
              </a:path>
            </a:pathLst>
          </a:custGeom>
          <a:noFill/>
          <a:ln w="10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3" name="TextBox 15"/>
          <p:cNvSpPr/>
          <p:nvPr/>
        </p:nvSpPr>
        <p:spPr>
          <a:xfrm>
            <a:off x="4292640" y="3265560"/>
            <a:ext cx="398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new JScrollPane(new JTextArea(“hello”, 7, 20)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자유형 18"/>
          <p:cNvSpPr/>
          <p:nvPr/>
        </p:nvSpPr>
        <p:spPr>
          <a:xfrm flipH="1">
            <a:off x="4932360" y="2550960"/>
            <a:ext cx="285840" cy="762120"/>
          </a:xfrm>
          <a:custGeom>
            <a:avLst/>
            <a:gdLst/>
            <a:ahLst/>
            <a:rect l="l" t="t" r="r" b="b"/>
            <a:pathLst>
              <a:path w="259080" h="762000">
                <a:moveTo>
                  <a:pt x="91440" y="762000"/>
                </a:moveTo>
                <a:cubicBezTo>
                  <a:pt x="175260" y="698500"/>
                  <a:pt x="259080" y="635000"/>
                  <a:pt x="243840" y="508000"/>
                </a:cubicBezTo>
                <a:cubicBezTo>
                  <a:pt x="228600" y="381000"/>
                  <a:pt x="114300" y="190500"/>
                  <a:pt x="0" y="0"/>
                </a:cubicBezTo>
              </a:path>
            </a:pathLst>
          </a:custGeom>
          <a:noFill/>
          <a:ln w="10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슬라이드 번호 개체 틀 12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73E0-4F8C-4EB9-ABD9-64E535F36179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예제 </a:t>
            </a:r>
            <a:r>
              <a:rPr b="0" lang="en-US" sz="2900" spc="-1" strike="noStrike">
                <a:solidFill>
                  <a:srgbClr val="775f55"/>
                </a:solidFill>
                <a:latin typeface="맑은 고딕"/>
              </a:rPr>
              <a:t>11-8 : JTextArea </a:t>
            </a:r>
            <a:br>
              <a:rPr sz="2900"/>
            </a:b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컴포넌트 생성 예</a:t>
            </a:r>
            <a:endParaRPr b="0" lang="en-US" sz="29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67" name="직사각형 3"/>
          <p:cNvSpPr/>
          <p:nvPr/>
        </p:nvSpPr>
        <p:spPr>
          <a:xfrm>
            <a:off x="4714920" y="163440"/>
            <a:ext cx="4286160" cy="662256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import javax.swing.*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import java.awt.event.*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import java.awt.*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public class TextAreaEx extends JFrame 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Container contentPane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TextAreaEx() {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setTitle("</a:t>
            </a:r>
            <a:r>
              <a:rPr b="0" lang="ko-KR" sz="1100" spc="-1" strike="noStrike">
                <a:solidFill>
                  <a:srgbClr val="000000"/>
                </a:solidFill>
                <a:latin typeface="Tw Cen MT"/>
              </a:rPr>
              <a:t>텍스트 영역 만들기  예제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setDefaultCloseOperation(JFrame.</a:t>
            </a:r>
            <a:r>
              <a:rPr b="0" i="1" lang="en-US" sz="1100" spc="-1" strike="noStrike">
                <a:solidFill>
                  <a:srgbClr val="000000"/>
                </a:solidFill>
                <a:latin typeface="Tw Cen MT"/>
              </a:rPr>
              <a:t>EXIT_ON_CLOSE)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contentPane = getContentPane()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contentPane.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add(new MyCenterPanel(), BorderLayout.CENTER)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setSize(300,300)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setVisible(true)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class MyCenterPanel extends JPanel 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JTextField tf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JButton btn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JTextArea ta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MyCenterPanel() {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tf = 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new JTextField(20)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btn = 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new JButton("</a:t>
            </a:r>
            <a:r>
              <a:rPr b="1" lang="ko-KR" sz="1100" spc="-1" strike="noStrike">
                <a:solidFill>
                  <a:srgbClr val="000000"/>
                </a:solidFill>
                <a:latin typeface="Tw Cen MT"/>
              </a:rPr>
              <a:t>추가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btn.addActionListener(new ActionListener() {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public void actionPerformed(ActionEvent e) {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ta.append(tf.getText()+"\n")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})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ta =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 new JTextArea("hello", 7, 20)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add(new JLabel("</a:t>
            </a:r>
            <a:r>
              <a:rPr b="0" lang="ko-KR" sz="1100" spc="-1" strike="noStrike">
                <a:solidFill>
                  <a:srgbClr val="000000"/>
                </a:solidFill>
                <a:latin typeface="Tw Cen MT"/>
              </a:rPr>
              <a:t>아래 창에 문자열을 입력하고 버튼을 클릭하세요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"))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add(tf)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add(btn)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add(</a:t>
            </a:r>
            <a:r>
              <a:rPr b="1" lang="en-US" sz="1100" spc="-1" strike="noStrike">
                <a:solidFill>
                  <a:srgbClr val="000000"/>
                </a:solidFill>
                <a:latin typeface="Tw Cen MT"/>
              </a:rPr>
              <a:t>new JScrollPane(ta))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;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}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public static void main(String [] args) {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new TextAreaEx();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}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8" name="TextBox 6"/>
          <p:cNvSpPr/>
          <p:nvPr/>
        </p:nvSpPr>
        <p:spPr>
          <a:xfrm>
            <a:off x="1013040" y="3433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초기화면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TextBox 7"/>
          <p:cNvSpPr/>
          <p:nvPr/>
        </p:nvSpPr>
        <p:spPr>
          <a:xfrm>
            <a:off x="80280" y="6237360"/>
            <a:ext cx="26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텍스트필드에 입력 후 추가 버튼을 누른 경우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TextBox 8"/>
          <p:cNvSpPr/>
          <p:nvPr/>
        </p:nvSpPr>
        <p:spPr>
          <a:xfrm>
            <a:off x="2675520" y="5357880"/>
            <a:ext cx="185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스크롤바를 출력하기 위해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JTextArea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컴포넌트를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JScrollPane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에 삽입하고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JScrollPane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객체를 패널에 삽입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771" name="직선 화살표 연결선 10"/>
          <p:cNvCxnSpPr/>
          <p:nvPr/>
        </p:nvCxnSpPr>
        <p:spPr>
          <a:xfrm>
            <a:off x="4071600" y="5500800"/>
            <a:ext cx="1143720" cy="216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2" name="TextBox 12"/>
          <p:cNvSpPr/>
          <p:nvPr/>
        </p:nvSpPr>
        <p:spPr>
          <a:xfrm>
            <a:off x="2714760" y="4714920"/>
            <a:ext cx="185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20x7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크기에 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hello”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문자열을 가진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JTextArea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컴포넌트 생성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773" name="직선 화살표 연결선 14"/>
          <p:cNvCxnSpPr/>
          <p:nvPr/>
        </p:nvCxnSpPr>
        <p:spPr>
          <a:xfrm>
            <a:off x="4500720" y="4785840"/>
            <a:ext cx="714960" cy="252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4" name="TextBox 18"/>
          <p:cNvSpPr/>
          <p:nvPr/>
        </p:nvSpPr>
        <p:spPr>
          <a:xfrm>
            <a:off x="2786040" y="3857760"/>
            <a:ext cx="185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버튼이 선택되면 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ta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의 영역 끝에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tf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에 입력된 문자열을 추가함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775" name="직선 화살표 연결선 20"/>
          <p:cNvCxnSpPr/>
          <p:nvPr/>
        </p:nvCxnSpPr>
        <p:spPr>
          <a:xfrm>
            <a:off x="4357440" y="4000680"/>
            <a:ext cx="857880" cy="216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776" name="Picture 2" descr=""/>
          <p:cNvPicPr/>
          <p:nvPr/>
        </p:nvPicPr>
        <p:blipFill>
          <a:blip r:embed="rId1"/>
          <a:stretch/>
        </p:blipFill>
        <p:spPr>
          <a:xfrm>
            <a:off x="266760" y="1106640"/>
            <a:ext cx="2319120" cy="231912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3" descr=""/>
          <p:cNvPicPr/>
          <p:nvPr/>
        </p:nvPicPr>
        <p:blipFill>
          <a:blip r:embed="rId2"/>
          <a:stretch/>
        </p:blipFill>
        <p:spPr>
          <a:xfrm>
            <a:off x="214200" y="3849840"/>
            <a:ext cx="2319480" cy="2319120"/>
          </a:xfrm>
          <a:prstGeom prst="rect">
            <a:avLst/>
          </a:prstGeom>
          <a:ln w="0">
            <a:noFill/>
          </a:ln>
        </p:spPr>
      </p:pic>
      <p:sp>
        <p:nvSpPr>
          <p:cNvPr id="778" name="슬라이드 번호 개체 틀 13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475E-244E-415B-973B-9796F31B5B18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JList,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리스트 컴포넌트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612720" y="1285920"/>
            <a:ext cx="8153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리스트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사용자에게 하나 이상의 객체 리스트를 보여주고 하나 혹은 다수의 아이템을 선택할 수 있게 하는 컴포넌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ComboBox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와 기본적으로 같은 기능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List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는 스크롤링을지원하지 않는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JScrollPane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에 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JList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를 삽입하여 스크롤링 가능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컴포넌트 생성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List(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비어있는 리스트 생성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List(Vector listData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벡트인 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listData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로붙어 리스트 아이템을 공급받는 리스트 컴포넌트 생성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read-only : 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벡트 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listData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를 수정하여도 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JList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를 변경할 수 없음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List(Object [] listData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배열 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listData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로부터 리스트 아이템을 공급받는 리스트 컴포넌트 생성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read-only : 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배열 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listData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를 수정하여도 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JList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를 변경할 수 없음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1" name="슬라이드 번호 개체 틀 3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8E1F-8EDB-46E0-872F-BC1A2AA6A4DF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스윙컴포넌트의 공통 메소드</a:t>
            </a:r>
            <a:r>
              <a:rPr b="0" lang="en-US" sz="2900" spc="-1" strike="noStrike">
                <a:solidFill>
                  <a:srgbClr val="775f55"/>
                </a:solidFill>
                <a:latin typeface="맑은 고딕"/>
              </a:rPr>
              <a:t>. JComponent</a:t>
            </a: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의메소드</a:t>
            </a:r>
            <a:endParaRPr b="0" lang="en-US" sz="29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542" name="TextBox 4"/>
          <p:cNvSpPr/>
          <p:nvPr/>
        </p:nvSpPr>
        <p:spPr>
          <a:xfrm>
            <a:off x="409680" y="2014560"/>
            <a:ext cx="3068640" cy="1159560"/>
          </a:xfrm>
          <a:prstGeom prst="rect">
            <a:avLst/>
          </a:prstGeom>
          <a:noFill/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void setForeground(Color) </a:t>
            </a:r>
            <a:r>
              <a:rPr b="0" lang="ko-KR" sz="1400" spc="-1" strike="noStrike">
                <a:solidFill>
                  <a:srgbClr val="ebb391"/>
                </a:solidFill>
                <a:latin typeface="Tw Cen MT"/>
              </a:rPr>
              <a:t>전경색설정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void setBackground(Color) </a:t>
            </a:r>
            <a:r>
              <a:rPr b="0" lang="ko-KR" sz="1400" spc="-1" strike="noStrike">
                <a:solidFill>
                  <a:srgbClr val="ebb391"/>
                </a:solidFill>
                <a:latin typeface="Tw Cen MT"/>
              </a:rPr>
              <a:t>배경색설정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void setOpaque(boolean) </a:t>
            </a:r>
            <a:r>
              <a:rPr b="0" lang="ko-KR" sz="1400" spc="-1" strike="noStrike">
                <a:solidFill>
                  <a:srgbClr val="ebb391"/>
                </a:solidFill>
                <a:latin typeface="Tw Cen MT"/>
              </a:rPr>
              <a:t>불투명성설정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  <a:ea typeface="HY얕은샘물M"/>
              </a:rPr>
              <a:t>void setFont(Font) </a:t>
            </a:r>
            <a:r>
              <a:rPr b="0" lang="ko-KR" sz="1400" spc="-1" strike="noStrike">
                <a:solidFill>
                  <a:srgbClr val="ebb391"/>
                </a:solidFill>
                <a:latin typeface="Tw Cen MT"/>
                <a:ea typeface="HY얕은샘물M"/>
              </a:rPr>
              <a:t>폰트 설정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  <a:ea typeface="HY얕은샘물M"/>
              </a:rPr>
              <a:t>Font getFont() </a:t>
            </a:r>
            <a:r>
              <a:rPr b="0" lang="ko-KR" sz="1400" spc="-1" strike="noStrike">
                <a:solidFill>
                  <a:srgbClr val="ebb391"/>
                </a:solidFill>
                <a:latin typeface="Tw Cen MT"/>
                <a:ea typeface="HY얕은샘물M"/>
              </a:rPr>
              <a:t>폰트 리턴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TextBox 8"/>
          <p:cNvSpPr/>
          <p:nvPr/>
        </p:nvSpPr>
        <p:spPr>
          <a:xfrm>
            <a:off x="5321880" y="2000160"/>
            <a:ext cx="3753720" cy="733320"/>
          </a:xfrm>
          <a:prstGeom prst="rect">
            <a:avLst/>
          </a:prstGeom>
          <a:noFill/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  <a:ea typeface="HY얕은샘물M"/>
              </a:rPr>
              <a:t>void setEnabled(boolean) </a:t>
            </a:r>
            <a:r>
              <a:rPr b="0" lang="ko-KR" sz="1400" spc="-1" strike="noStrike">
                <a:solidFill>
                  <a:srgbClr val="ebb391"/>
                </a:solidFill>
                <a:latin typeface="Tw Cen MT"/>
                <a:ea typeface="HY얕은샘물M"/>
              </a:rPr>
              <a:t>컴포넌트 활성화</a:t>
            </a:r>
            <a:r>
              <a:rPr b="0" lang="en-US" sz="1400" spc="-1" strike="noStrike">
                <a:solidFill>
                  <a:srgbClr val="ebb391"/>
                </a:solidFill>
                <a:latin typeface="Tw Cen MT"/>
                <a:ea typeface="HY얕은샘물M"/>
              </a:rPr>
              <a:t>/</a:t>
            </a:r>
            <a:r>
              <a:rPr b="0" lang="ko-KR" sz="1400" spc="-1" strike="noStrike">
                <a:solidFill>
                  <a:srgbClr val="ebb391"/>
                </a:solidFill>
                <a:latin typeface="Tw Cen MT"/>
                <a:ea typeface="HY얕은샘물M"/>
              </a:rPr>
              <a:t>비활성화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  <a:ea typeface="HY얕은샘물M"/>
              </a:rPr>
              <a:t>void setVisible(boolean) </a:t>
            </a:r>
            <a:r>
              <a:rPr b="0" lang="ko-KR" sz="1400" spc="-1" strike="noStrike">
                <a:solidFill>
                  <a:srgbClr val="ebb391"/>
                </a:solidFill>
                <a:latin typeface="Tw Cen MT"/>
                <a:ea typeface="HY얕은샘물M"/>
              </a:rPr>
              <a:t>컴포넌트 보이기</a:t>
            </a:r>
            <a:r>
              <a:rPr b="0" lang="en-US" sz="1400" spc="-1" strike="noStrike">
                <a:solidFill>
                  <a:srgbClr val="ebb391"/>
                </a:solidFill>
                <a:latin typeface="Tw Cen MT"/>
                <a:ea typeface="HY얕은샘물M"/>
              </a:rPr>
              <a:t>/</a:t>
            </a:r>
            <a:r>
              <a:rPr b="0" lang="ko-KR" sz="1400" spc="-1" strike="noStrike">
                <a:solidFill>
                  <a:srgbClr val="ebb391"/>
                </a:solidFill>
                <a:latin typeface="Tw Cen MT"/>
                <a:ea typeface="HY얕은샘물M"/>
              </a:rPr>
              <a:t>숨기기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  <a:ea typeface="HY얕은샘물M"/>
              </a:rPr>
              <a:t>boolean isVisible() </a:t>
            </a:r>
            <a:r>
              <a:rPr b="0" lang="ko-KR" sz="1400" spc="-1" strike="noStrike">
                <a:solidFill>
                  <a:srgbClr val="ebb391"/>
                </a:solidFill>
                <a:latin typeface="Tw Cen MT"/>
                <a:ea typeface="HY얕은샘물M"/>
              </a:rPr>
              <a:t>컴포넌트의 보이는 상태 리턴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TextBox 9"/>
          <p:cNvSpPr/>
          <p:nvPr/>
        </p:nvSpPr>
        <p:spPr>
          <a:xfrm>
            <a:off x="302760" y="4429080"/>
            <a:ext cx="4398840" cy="1585800"/>
          </a:xfrm>
          <a:prstGeom prst="rect">
            <a:avLst/>
          </a:prstGeom>
          <a:noFill/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  <a:ea typeface="HY얕은샘물M"/>
              </a:rPr>
              <a:t>int getWidth() </a:t>
            </a:r>
            <a:r>
              <a:rPr b="0" lang="ko-KR" sz="1400" spc="-1" strike="noStrike">
                <a:solidFill>
                  <a:srgbClr val="ebb391"/>
                </a:solidFill>
                <a:latin typeface="Tw Cen MT"/>
                <a:ea typeface="HY얕은샘물M"/>
              </a:rPr>
              <a:t>폭 리턴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  <a:ea typeface="HY얕은샘물M"/>
              </a:rPr>
              <a:t>int getHeight() </a:t>
            </a:r>
            <a:r>
              <a:rPr b="0" lang="ko-KR" sz="1400" spc="-1" strike="noStrike">
                <a:solidFill>
                  <a:srgbClr val="ebb391"/>
                </a:solidFill>
                <a:latin typeface="Tw Cen MT"/>
                <a:ea typeface="HY얕은샘물M"/>
              </a:rPr>
              <a:t>높이 리턴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  <a:ea typeface="HY얕은샘물M"/>
              </a:rPr>
              <a:t>int getX() </a:t>
            </a:r>
            <a:r>
              <a:rPr b="0" lang="en-US" sz="1400" spc="-1" strike="noStrike">
                <a:solidFill>
                  <a:srgbClr val="ebb391"/>
                </a:solidFill>
                <a:latin typeface="Tw Cen MT"/>
                <a:ea typeface="HY얕은샘물M"/>
              </a:rPr>
              <a:t>x </a:t>
            </a:r>
            <a:r>
              <a:rPr b="0" lang="ko-KR" sz="1400" spc="-1" strike="noStrike">
                <a:solidFill>
                  <a:srgbClr val="ebb391"/>
                </a:solidFill>
                <a:latin typeface="Tw Cen MT"/>
                <a:ea typeface="HY얕은샘물M"/>
              </a:rPr>
              <a:t>좌표 리턴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  <a:ea typeface="HY얕은샘물M"/>
              </a:rPr>
              <a:t>int getY() </a:t>
            </a:r>
            <a:r>
              <a:rPr b="0" lang="en-US" sz="1400" spc="-1" strike="noStrike">
                <a:solidFill>
                  <a:srgbClr val="ebb391"/>
                </a:solidFill>
                <a:latin typeface="Tw Cen MT"/>
                <a:ea typeface="HY얕은샘물M"/>
              </a:rPr>
              <a:t>y </a:t>
            </a:r>
            <a:r>
              <a:rPr b="0" lang="ko-KR" sz="1400" spc="-1" strike="noStrike">
                <a:solidFill>
                  <a:srgbClr val="ebb391"/>
                </a:solidFill>
                <a:latin typeface="Tw Cen MT"/>
                <a:ea typeface="HY얕은샘물M"/>
              </a:rPr>
              <a:t>좌표 리턴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  <a:ea typeface="HY얕은샘물M"/>
              </a:rPr>
              <a:t>Point getLocationOnScreen() </a:t>
            </a:r>
            <a:r>
              <a:rPr b="0" lang="ko-KR" sz="1400" spc="-1" strike="noStrike">
                <a:solidFill>
                  <a:srgbClr val="ebb391"/>
                </a:solidFill>
                <a:latin typeface="Tw Cen MT"/>
                <a:ea typeface="HY얕은샘물M"/>
              </a:rPr>
              <a:t>스크린 좌표상에서의 컴포넌트 좌표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  <a:ea typeface="HY얕은샘물M"/>
              </a:rPr>
              <a:t>void setLocation(int, int) </a:t>
            </a:r>
            <a:r>
              <a:rPr b="0" lang="ko-KR" sz="1400" spc="-1" strike="noStrike">
                <a:solidFill>
                  <a:srgbClr val="ebb391"/>
                </a:solidFill>
                <a:latin typeface="Tw Cen MT"/>
                <a:ea typeface="HY얕은샘물M"/>
              </a:rPr>
              <a:t>위치 지정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  <a:ea typeface="HY얕은샘물M"/>
              </a:rPr>
              <a:t>void setSize(int, int) </a:t>
            </a:r>
            <a:r>
              <a:rPr b="0" lang="ko-KR" sz="1400" spc="-1" strike="noStrike">
                <a:solidFill>
                  <a:srgbClr val="ebb391"/>
                </a:solidFill>
                <a:latin typeface="Tw Cen MT"/>
                <a:ea typeface="HY얕은샘물M"/>
              </a:rPr>
              <a:t>크기 지정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직사각형 10"/>
          <p:cNvSpPr/>
          <p:nvPr/>
        </p:nvSpPr>
        <p:spPr>
          <a:xfrm>
            <a:off x="4932360" y="4651200"/>
            <a:ext cx="3960720" cy="1798920"/>
          </a:xfrm>
          <a:prstGeom prst="rect">
            <a:avLst/>
          </a:prstGeom>
          <a:noFill/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  <a:ea typeface="HY얕은샘물M"/>
              </a:rPr>
              <a:t>Component add(Component) 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  <a:ea typeface="HY얕은샘물M"/>
              </a:rPr>
              <a:t> </a:t>
            </a:r>
            <a:r>
              <a:rPr b="0" lang="ko-KR" sz="1400" spc="-1" strike="noStrike">
                <a:solidFill>
                  <a:srgbClr val="ebb391"/>
                </a:solidFill>
                <a:latin typeface="Tw Cen MT"/>
                <a:ea typeface="HY얕은샘물M"/>
              </a:rPr>
              <a:t>자식 컴포넌트 추가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  <a:ea typeface="HY얕은샘물M"/>
              </a:rPr>
              <a:t>void remove(Component) </a:t>
            </a:r>
            <a:r>
              <a:rPr b="0" lang="ko-KR" sz="1400" spc="-1" strike="noStrike">
                <a:solidFill>
                  <a:srgbClr val="ebb391"/>
                </a:solidFill>
                <a:latin typeface="Tw Cen MT"/>
                <a:ea typeface="HY얕은샘물M"/>
              </a:rPr>
              <a:t>자식 컴포넌트 제거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  <a:ea typeface="HY얕은샘물M"/>
              </a:rPr>
              <a:t>void removeAll() </a:t>
            </a:r>
            <a:r>
              <a:rPr b="0" lang="ko-KR" sz="1400" spc="-1" strike="noStrike">
                <a:solidFill>
                  <a:srgbClr val="ebb391"/>
                </a:solidFill>
                <a:latin typeface="Tw Cen MT"/>
                <a:ea typeface="HY얕은샘물M"/>
              </a:rPr>
              <a:t>모든 자식 컴포넌트 제거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  <a:ea typeface="HY얕은샘물M"/>
              </a:rPr>
              <a:t>Component[] getComponents() </a:t>
            </a:r>
            <a:r>
              <a:rPr b="0" lang="ko-KR" sz="1400" spc="-1" strike="noStrike">
                <a:solidFill>
                  <a:srgbClr val="ebb391"/>
                </a:solidFill>
                <a:latin typeface="Tw Cen MT"/>
                <a:ea typeface="HY얕은샘물M"/>
              </a:rPr>
              <a:t>자식 컴포넌트 리스트 리턴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  <a:ea typeface="HY얕은샘물M"/>
              </a:rPr>
              <a:t>Container getParent() </a:t>
            </a:r>
            <a:r>
              <a:rPr b="0" lang="ko-KR" sz="1400" spc="-1" strike="noStrike">
                <a:solidFill>
                  <a:srgbClr val="ebb391"/>
                </a:solidFill>
                <a:latin typeface="Tw Cen MT"/>
                <a:ea typeface="HY얕은샘물M"/>
              </a:rPr>
              <a:t>부모 컨테이너 리턴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  <a:ea typeface="HY얕은샘물M"/>
              </a:rPr>
              <a:t>Container getTopLevelAncestor() </a:t>
            </a:r>
            <a:r>
              <a:rPr b="0" lang="ko-KR" sz="1400" spc="-1" strike="noStrike">
                <a:solidFill>
                  <a:srgbClr val="ebb391"/>
                </a:solidFill>
                <a:latin typeface="Tw Cen MT"/>
                <a:ea typeface="HY얕은샘물M"/>
              </a:rPr>
              <a:t>최상위 부모 컨테이너 리턴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TextBox 11"/>
          <p:cNvSpPr/>
          <p:nvPr/>
        </p:nvSpPr>
        <p:spPr>
          <a:xfrm>
            <a:off x="535320" y="1728720"/>
            <a:ext cx="20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컴포넌트의 모양과 관련된 메소드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TextBox 12"/>
          <p:cNvSpPr/>
          <p:nvPr/>
        </p:nvSpPr>
        <p:spPr>
          <a:xfrm>
            <a:off x="5496120" y="1676520"/>
            <a:ext cx="20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컴포넌트의 상태와 관련된 메소드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TextBox 13"/>
          <p:cNvSpPr/>
          <p:nvPr/>
        </p:nvSpPr>
        <p:spPr>
          <a:xfrm>
            <a:off x="534600" y="4143240"/>
            <a:ext cx="24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컴포넌트의 위치와 크기에 관련된 메소드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TextBox 14"/>
          <p:cNvSpPr/>
          <p:nvPr/>
        </p:nvSpPr>
        <p:spPr>
          <a:xfrm>
            <a:off x="4911120" y="436716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컨테이너를 위한 메소드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슬라이드 번호 개체 틀 15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F614-48E3-4E0A-8F1D-B1B39F7786BD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JList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를 생성하는 방법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83" name="직사각형 3"/>
          <p:cNvSpPr/>
          <p:nvPr/>
        </p:nvSpPr>
        <p:spPr>
          <a:xfrm>
            <a:off x="311400" y="1271520"/>
            <a:ext cx="5884920" cy="73332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tring [] fruits= {"apple", "banana", "kiwi", "mango", "pear", "peach",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erry", "strawberry", "blackberry"}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JList strList = 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new JList(fruits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4" name="직사각형 5"/>
          <p:cNvSpPr/>
          <p:nvPr/>
        </p:nvSpPr>
        <p:spPr>
          <a:xfrm>
            <a:off x="714240" y="2486160"/>
            <a:ext cx="2928960" cy="115956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Vector v = new Vector(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v.add("apple"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v.add("banana"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v.add("kiwi");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JList vList = 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new JList(v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5" name="직사각형 6"/>
          <p:cNvSpPr/>
          <p:nvPr/>
        </p:nvSpPr>
        <p:spPr>
          <a:xfrm>
            <a:off x="714240" y="4129200"/>
            <a:ext cx="6858000" cy="158580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ImageIcon [] images = {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new ImageIcon("images/icon1.png"), 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new ImageIcon("images/icon2.png"),  new ImageIcon("images/icon3.png"), 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new ImageIcon("images/icon4.png"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JList imageList = 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new JList(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imageList.setListData(images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직사각형 17"/>
          <p:cNvSpPr/>
          <p:nvPr/>
        </p:nvSpPr>
        <p:spPr>
          <a:xfrm>
            <a:off x="714240" y="6000840"/>
            <a:ext cx="2928960" cy="73332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JList scrollList = 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new JList(fruits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new JScrollPane(scrollList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7" name="TextBox 18"/>
          <p:cNvSpPr/>
          <p:nvPr/>
        </p:nvSpPr>
        <p:spPr>
          <a:xfrm>
            <a:off x="307440" y="985680"/>
            <a:ext cx="29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객체 배열로 리스트 데이타를 제공하는 방법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8" name="TextBox 19"/>
          <p:cNvSpPr/>
          <p:nvPr/>
        </p:nvSpPr>
        <p:spPr>
          <a:xfrm>
            <a:off x="227880" y="2128680"/>
            <a:ext cx="29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2. Vector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로 리스트 데이타를 제공하는 방법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9" name="TextBox 20"/>
          <p:cNvSpPr/>
          <p:nvPr/>
        </p:nvSpPr>
        <p:spPr>
          <a:xfrm>
            <a:off x="-13320" y="3772080"/>
            <a:ext cx="59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빈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JList 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컴포넌트를 생성하고 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etListData() 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메소드로 리스트 데이타를 제공하는 방법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0" name="TextBox 21"/>
          <p:cNvSpPr/>
          <p:nvPr/>
        </p:nvSpPr>
        <p:spPr>
          <a:xfrm>
            <a:off x="268560" y="5667480"/>
            <a:ext cx="190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4. 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스크롤링을 지원하는 방법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91" name="Picture 2" descr=""/>
          <p:cNvPicPr/>
          <p:nvPr/>
        </p:nvPicPr>
        <p:blipFill>
          <a:blip r:embed="rId1"/>
          <a:stretch/>
        </p:blipFill>
        <p:spPr>
          <a:xfrm>
            <a:off x="6143760" y="1143000"/>
            <a:ext cx="1428480" cy="238140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3" descr=""/>
          <p:cNvPicPr/>
          <p:nvPr/>
        </p:nvPicPr>
        <p:blipFill>
          <a:blip r:embed="rId2"/>
          <a:stretch/>
        </p:blipFill>
        <p:spPr>
          <a:xfrm>
            <a:off x="3879720" y="2357280"/>
            <a:ext cx="1428840" cy="132408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3"/>
          <a:stretch/>
        </p:blipFill>
        <p:spPr>
          <a:xfrm>
            <a:off x="7689960" y="3560760"/>
            <a:ext cx="1428480" cy="238140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4"/>
          <a:stretch/>
        </p:blipFill>
        <p:spPr>
          <a:xfrm>
            <a:off x="3780000" y="5065560"/>
            <a:ext cx="1050840" cy="1752840"/>
          </a:xfrm>
          <a:prstGeom prst="rect">
            <a:avLst/>
          </a:prstGeom>
          <a:ln w="0">
            <a:noFill/>
          </a:ln>
        </p:spPr>
      </p:pic>
      <p:sp>
        <p:nvSpPr>
          <p:cNvPr id="795" name="슬라이드 번호 개체 틀 14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8647-3892-49DD-B7A2-454BAC3DFBD3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예제 </a:t>
            </a:r>
            <a:r>
              <a:rPr b="0" lang="en-US" sz="2900" spc="-1" strike="noStrike">
                <a:solidFill>
                  <a:srgbClr val="775f55"/>
                </a:solidFill>
                <a:latin typeface="맑은 고딕"/>
              </a:rPr>
              <a:t>11-9 : </a:t>
            </a: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다양한 </a:t>
            </a:r>
            <a:br>
              <a:rPr sz="2900"/>
            </a:b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리스트</a:t>
            </a:r>
            <a:r>
              <a:rPr b="0" lang="en-US" sz="2900" spc="-1" strike="noStrike">
                <a:solidFill>
                  <a:srgbClr val="775f55"/>
                </a:solidFill>
                <a:latin typeface="맑은 고딕"/>
              </a:rPr>
              <a:t> </a:t>
            </a: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컴포넌트 생성 예</a:t>
            </a:r>
            <a:endParaRPr b="0" lang="en-US" sz="29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797" name="직사각형 3"/>
          <p:cNvSpPr/>
          <p:nvPr/>
        </p:nvSpPr>
        <p:spPr>
          <a:xfrm>
            <a:off x="4286160" y="0"/>
            <a:ext cx="4572000" cy="702972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x.swing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.awt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class ListEx extends JFrame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ainer contentPane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tring [] fruits= {"apple", "banana", "kiwi", "mango", "pear",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"peach", "berry", "strawberry", "blackberry"}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ageIcon [] images = {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ImageIcon("images/icon1.png"),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ImageIcon("images/icon2.png"),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ImageIcon("images/icon3.png"),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ImageIcon("images/icon4.png")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ListEx(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Title("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리스트 만들기  예제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DefaultCloseOperation(JFrame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EXIT_ON_CLOS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 = getContentPane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setLayout(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FlowLayout()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JList strList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JList(fruits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add(strList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JList imageList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JList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ageList.setListData(images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add(imageList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JList scrollList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JList(fruits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add(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JScrollPane(scrollList)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Size(300,30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Visible(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tr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static void main(String [] args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ListEx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98" name="Picture 2" descr=""/>
          <p:cNvPicPr/>
          <p:nvPr/>
        </p:nvPicPr>
        <p:blipFill>
          <a:blip r:embed="rId1"/>
          <a:stretch/>
        </p:blipFill>
        <p:spPr>
          <a:xfrm>
            <a:off x="755640" y="197496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799" name="슬라이드 번호 개체 틀 4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FCF4-CB96-4143-AD2F-7BF15A0E99CC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JComboBox,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콤보박스 컴포넌트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612720" y="1285920"/>
            <a:ext cx="8153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콤보박스란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텍스트 필드와 버튼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그리고 드롭다운 리스트로 구성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컴포넌트 생성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JComboBox()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아이템이 비어 있는 콤보 박스 컴포넌트 생성</a:t>
            </a:r>
            <a:endParaRPr b="0" lang="en-US" sz="17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JComboBox(ComboBoxModel model)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휴먼편지체"/>
              </a:rPr>
              <a:t>model</a:t>
            </a: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에 의해 아이템을 공급 받는 콤보박스 컴포넌트 생성</a:t>
            </a:r>
            <a:endParaRPr b="0" lang="en-US" sz="17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JComboBox(Object [] items)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휴먼편지체"/>
              </a:rPr>
              <a:t>items </a:t>
            </a: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배열로부터 아이템을 공급받는 콤보박스 컴포넌트 생성</a:t>
            </a:r>
            <a:endParaRPr b="0" lang="en-US" sz="17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JComboBox(Vector items)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휴먼편지체"/>
              </a:rPr>
              <a:t>items </a:t>
            </a: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벡트로부터 아이템을 공급받는 콤보박스 컴포넌트 생성</a:t>
            </a:r>
            <a:endParaRPr b="0" lang="en-US" sz="17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802" name="그룹 16"/>
          <p:cNvGrpSpPr/>
          <p:nvPr/>
        </p:nvGrpSpPr>
        <p:grpSpPr>
          <a:xfrm>
            <a:off x="2531160" y="2000160"/>
            <a:ext cx="3691440" cy="1819440"/>
            <a:chOff x="2531160" y="2000160"/>
            <a:chExt cx="3691440" cy="1819440"/>
          </a:xfrm>
        </p:grpSpPr>
        <p:pic>
          <p:nvPicPr>
            <p:cNvPr id="803" name="Picture 2" descr=""/>
            <p:cNvPicPr/>
            <p:nvPr/>
          </p:nvPicPr>
          <p:blipFill>
            <a:blip r:embed="rId1"/>
            <a:stretch/>
          </p:blipFill>
          <p:spPr>
            <a:xfrm>
              <a:off x="3857760" y="2000160"/>
              <a:ext cx="876240" cy="18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TextBox 5"/>
            <p:cNvSpPr/>
            <p:nvPr/>
          </p:nvSpPr>
          <p:spPr>
            <a:xfrm>
              <a:off x="2531160" y="20001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Tw Cen MT"/>
                </a:rPr>
                <a:t>텍스트필드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05" name="TextBox 6"/>
            <p:cNvSpPr/>
            <p:nvPr/>
          </p:nvSpPr>
          <p:spPr>
            <a:xfrm>
              <a:off x="5126400" y="20001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Tw Cen MT"/>
                </a:rPr>
                <a:t>버튼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cxnSp>
          <p:nvCxnSpPr>
            <p:cNvPr id="806" name="직선 화살표 연결선 8"/>
            <p:cNvCxnSpPr/>
            <p:nvPr/>
          </p:nvCxnSpPr>
          <p:spPr>
            <a:xfrm flipH="1" flipV="1">
              <a:off x="4714560" y="2142360"/>
              <a:ext cx="357840" cy="2160"/>
            </a:xfrm>
            <a:prstGeom prst="straightConnector1">
              <a:avLst/>
            </a:prstGeom>
            <a:ln w="1008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807" name="TextBox 9"/>
            <p:cNvSpPr/>
            <p:nvPr/>
          </p:nvSpPr>
          <p:spPr>
            <a:xfrm>
              <a:off x="5135040" y="2714400"/>
              <a:ext cx="108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Tw Cen MT"/>
                </a:rPr>
                <a:t>드롭다운 리스트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cxnSp>
          <p:nvCxnSpPr>
            <p:cNvPr id="808" name="직선 화살표 연결선 11"/>
            <p:cNvCxnSpPr>
              <a:stCxn id="807" idx="1"/>
            </p:cNvCxnSpPr>
            <p:nvPr/>
          </p:nvCxnSpPr>
          <p:spPr>
            <a:xfrm flipH="1">
              <a:off x="4428720" y="2882880"/>
              <a:ext cx="786600" cy="117000"/>
            </a:xfrm>
            <a:prstGeom prst="straightConnector1">
              <a:avLst/>
            </a:prstGeom>
            <a:ln w="1008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809" name="직선 화살표 연결선 13"/>
            <p:cNvCxnSpPr>
              <a:stCxn id="804" idx="3"/>
            </p:cNvCxnSpPr>
            <p:nvPr/>
          </p:nvCxnSpPr>
          <p:spPr>
            <a:xfrm flipV="1">
              <a:off x="3280320" y="2142000"/>
              <a:ext cx="577800" cy="27000"/>
            </a:xfrm>
            <a:prstGeom prst="straightConnector1">
              <a:avLst/>
            </a:prstGeom>
            <a:ln w="10080">
              <a:solidFill>
                <a:srgbClr val="ff0000"/>
              </a:solidFill>
              <a:miter/>
              <a:tailEnd len="med" type="arrow" w="med"/>
            </a:ln>
          </p:spPr>
        </p:cxnSp>
      </p:grpSp>
      <p:sp>
        <p:nvSpPr>
          <p:cNvPr id="810" name="슬라이드 번호 개체 틀 12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45FF-2E8E-4CCF-BAE5-E94B7D4D91B7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예제 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11-10 :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콤보 박스 컴포넌트 만들기 예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812" name="직사각형 3"/>
          <p:cNvSpPr/>
          <p:nvPr/>
        </p:nvSpPr>
        <p:spPr>
          <a:xfrm>
            <a:off x="571680" y="1041480"/>
            <a:ext cx="4572000" cy="611712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x.swing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.awt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class ComboBoxEx extends JFrame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ainer contentPane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tring [] fruits = {"apple", "banana", "kiwi", "mango", "pear",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"peach", "berry", "strawberry", "blackberry"}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tring [] names = {"kitae", "jaemoon", "hyosoo", "namyun"}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mboBoxEx(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Title("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리스트 만들기  예제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DefaultCloseOperation(JFrame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EXIT_ON_CLOS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 = getContentPane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setLayout(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FlowLayout()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JComboBox strCombo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JComboBox(fruits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add(strCombo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JComboBox nameCombo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JComboBox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for(int i=0; i&lt;names.length; i++)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nameCombo.addItem(names[i]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add(nameCombo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Size(300,30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Visible(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tr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static void main(String [] args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ComboBoxEx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TextBox 5"/>
          <p:cNvSpPr/>
          <p:nvPr/>
        </p:nvSpPr>
        <p:spPr>
          <a:xfrm>
            <a:off x="5174640" y="4572000"/>
            <a:ext cx="224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addItem() 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메소드를 호출하여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아이템을 동적으로 삽입할 수 있다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14" name="직선 화살표 연결선 7"/>
          <p:cNvCxnSpPr>
            <a:stCxn id="813" idx="1"/>
          </p:cNvCxnSpPr>
          <p:nvPr/>
        </p:nvCxnSpPr>
        <p:spPr>
          <a:xfrm flipH="1" flipV="1">
            <a:off x="3214440" y="4857120"/>
            <a:ext cx="2000880" cy="684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815" name="Picture 2" descr=""/>
          <p:cNvPicPr/>
          <p:nvPr/>
        </p:nvPicPr>
        <p:blipFill>
          <a:blip r:embed="rId1"/>
          <a:stretch/>
        </p:blipFill>
        <p:spPr>
          <a:xfrm>
            <a:off x="5580000" y="12682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816" name="슬라이드 번호 개체 틀 6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8C9E-5F96-4AFE-A732-3E5B7111C04D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JComboBox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와 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Action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이벤트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612720" y="1285920"/>
            <a:ext cx="8153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콤보박스에서 아이템 선택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Acti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이벤트 발생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ctionListener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이용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한 번의 아이템 선택시 한 번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ActionEvent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발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콤보박스에서 아이템의 선택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Item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이벤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발생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temListener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이용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새로운 아이템이 선택되면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2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번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tem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이벤트 발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새로 아이템이 선택되었음을 알리는 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Item 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이벤트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발생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이전에 선택된 아이템이 해제됨을 알리는 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Item 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이벤트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발생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사용자가 아이템을 선택하지만 선택된 아이템이 변경되지 않을 경우에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tem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이벤트가 발생하지 않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현재 선택된 아이템 알아내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t JComboBox.getSelectedIndex(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선택 상태인 아이템의 인덱스 번호 리턴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Object JComboBox.getSelectedItem(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선택 상태인 아이템 객체 레퍼런스 리턴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</p:txBody>
      </p:sp>
      <p:sp>
        <p:nvSpPr>
          <p:cNvPr id="819" name="슬라이드 번호 개체 틀 3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E3E9-60CC-40B9-8E5E-C89EDCC06879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예제 </a:t>
            </a:r>
            <a:r>
              <a:rPr b="0" lang="en-US" sz="2900" spc="-1" strike="noStrike">
                <a:solidFill>
                  <a:srgbClr val="775f55"/>
                </a:solidFill>
                <a:latin typeface="맑은 고딕"/>
              </a:rPr>
              <a:t>11-11 : Action </a:t>
            </a: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이벤트를 </a:t>
            </a:r>
            <a:br>
              <a:rPr sz="2900"/>
            </a:b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이용한 콤보 박스 활용 예</a:t>
            </a:r>
            <a:endParaRPr b="0" lang="en-US" sz="29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821" name="직사각형 5"/>
          <p:cNvSpPr/>
          <p:nvPr/>
        </p:nvSpPr>
        <p:spPr>
          <a:xfrm>
            <a:off x="5000760" y="0"/>
            <a:ext cx="4000320" cy="775980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x.swing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.awt.event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.awt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class ComboActionEx extends JFrame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ainer contentPane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tring [] fruits = {"apple", "banana", "kiwi", "mango"}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ageIcon [] images =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ImageIcon("images/apple.jpg"),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ImageIcon("images/banana.jpg"),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ImageIcon("images/kiwi.jpg"),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ImageIcon("images/mango.jpg") 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JLabel imgLabel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JLabel(images[0]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mboActionEx(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Title("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리스트 만들기  예제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DefaultCloseOperation(JFrame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EXIT_ON_CLOS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 = getContentPane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setLayout(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FlowLayout()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JComboBox strCombo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JComboBox(fruits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trCombo.addActionListener(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ActionListener(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void actionPerformed(ActionEvent e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JComboBox cb = (JComboBox)e.getSource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int index = cb.getSelectedIndex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gLabel.setIcon(images[index]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add(strCombo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add(imgLabel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Size(300,30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Visible(tr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ublic static void main(String [] args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new ComboActionEx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22" name="Picture 2" descr=""/>
          <p:cNvPicPr/>
          <p:nvPr/>
        </p:nvPicPr>
        <p:blipFill>
          <a:blip r:embed="rId1"/>
          <a:stretch/>
        </p:blipFill>
        <p:spPr>
          <a:xfrm>
            <a:off x="1071720" y="1413000"/>
            <a:ext cx="2857320" cy="238104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3" descr=""/>
          <p:cNvPicPr/>
          <p:nvPr/>
        </p:nvPicPr>
        <p:blipFill>
          <a:blip r:embed="rId2"/>
          <a:stretch/>
        </p:blipFill>
        <p:spPr>
          <a:xfrm>
            <a:off x="1071720" y="4076640"/>
            <a:ext cx="2857320" cy="2381400"/>
          </a:xfrm>
          <a:prstGeom prst="rect">
            <a:avLst/>
          </a:prstGeom>
          <a:ln w="0">
            <a:noFill/>
          </a:ln>
        </p:spPr>
      </p:pic>
      <p:sp>
        <p:nvSpPr>
          <p:cNvPr id="824" name="슬라이드 번호 개체 틀 6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C102-098B-459B-9713-05BE8C4E3258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 txBox="1"/>
          <p:nvPr/>
        </p:nvSpPr>
        <p:spPr>
          <a:xfrm>
            <a:off x="612720" y="1285920"/>
            <a:ext cx="8153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슬라이더란</a:t>
            </a:r>
            <a:r>
              <a:rPr b="0" lang="en-US" sz="17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일정 범위 내에서 마우스로 움직이면서 값을 선택하는 컴포넌트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슬라이더 구성 요소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맑은 고딕"/>
              </a:rPr>
              <a:t>슬라이더 생성</a:t>
            </a:r>
            <a:endParaRPr b="0" lang="en-US" sz="17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슬라이더의 디폴트 값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minimum=0, maximum=100, value=50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인 수평 슬라이더</a:t>
            </a:r>
            <a:endParaRPr b="0" lang="en-US" sz="13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JSlider()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디폴트 슬라이더 컴포넌트 생성</a:t>
            </a:r>
            <a:endParaRPr b="0" lang="en-US" sz="13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JSlider(int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rientation)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orientation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의</a:t>
            </a: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 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방향으로 구성된 슬라이더 컴포넌트 생성</a:t>
            </a:r>
            <a:endParaRPr b="0" lang="en-US" sz="13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JSlider(int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min, int max, int  val)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minimum, maximum, value 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값이 각각 </a:t>
            </a: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min, max, val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로 초기화된 수평 슬라이더 컴포넌트 생성</a:t>
            </a:r>
            <a:endParaRPr b="0" lang="en-US" sz="13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JSlider(int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rientation, int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min, int max, int  val)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minimum, maximum, value 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값이 각각 </a:t>
            </a: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min, max, val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로 초기화된 슬라이더 컴포넌트 생성</a:t>
            </a: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. </a:t>
            </a:r>
            <a:r>
              <a:rPr b="0" lang="ko-KR" sz="1300" spc="-1" strike="noStrike">
                <a:solidFill>
                  <a:srgbClr val="000000"/>
                </a:solidFill>
                <a:latin typeface="휴먼편지체"/>
              </a:rPr>
              <a:t>방향은 </a:t>
            </a:r>
            <a:r>
              <a:rPr b="0" lang="en-US" sz="1300" spc="-1" strike="noStrike">
                <a:solidFill>
                  <a:srgbClr val="000000"/>
                </a:solidFill>
                <a:latin typeface="휴먼편지체"/>
              </a:rPr>
              <a:t>orientation</a:t>
            </a:r>
            <a:endParaRPr b="0" lang="en-US" sz="13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슬라이더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, JSlider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827" name="TextBox 47"/>
          <p:cNvSpPr/>
          <p:nvPr/>
        </p:nvSpPr>
        <p:spPr>
          <a:xfrm>
            <a:off x="6803280" y="1481040"/>
            <a:ext cx="248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0000"/>
                </a:solidFill>
                <a:latin typeface="Tw Cen MT"/>
              </a:rPr>
              <a:t>수직 슬라이더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w Cen MT"/>
              </a:rPr>
              <a:t>(orientation = VERTICAL)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828" name="그룹 3"/>
          <p:cNvGrpSpPr/>
          <p:nvPr/>
        </p:nvGrpSpPr>
        <p:grpSpPr>
          <a:xfrm>
            <a:off x="3143160" y="1857240"/>
            <a:ext cx="3867480" cy="2265840"/>
            <a:chOff x="3143160" y="1857240"/>
            <a:chExt cx="3867480" cy="2265840"/>
          </a:xfrm>
        </p:grpSpPr>
        <p:sp>
          <p:nvSpPr>
            <p:cNvPr id="829" name="직사각형 45"/>
            <p:cNvSpPr/>
            <p:nvPr/>
          </p:nvSpPr>
          <p:spPr>
            <a:xfrm>
              <a:off x="3143160" y="1857240"/>
              <a:ext cx="3857760" cy="2071440"/>
            </a:xfrm>
            <a:prstGeom prst="rect">
              <a:avLst/>
            </a:prstGeom>
            <a:solidFill>
              <a:srgbClr val="f1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pic>
          <p:nvPicPr>
            <p:cNvPr id="830" name="Picture 2" descr=""/>
            <p:cNvPicPr/>
            <p:nvPr/>
          </p:nvPicPr>
          <p:blipFill>
            <a:blip r:embed="rId1"/>
            <a:stretch/>
          </p:blipFill>
          <p:spPr>
            <a:xfrm>
              <a:off x="3572640" y="2644560"/>
              <a:ext cx="270540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TextBox 30"/>
            <p:cNvSpPr/>
            <p:nvPr/>
          </p:nvSpPr>
          <p:spPr>
            <a:xfrm>
              <a:off x="4467960" y="3463560"/>
              <a:ext cx="91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w Cen MT"/>
                </a:rPr>
                <a:t>value(100)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2" name="TextBox 4"/>
            <p:cNvSpPr/>
            <p:nvPr/>
          </p:nvSpPr>
          <p:spPr>
            <a:xfrm>
              <a:off x="4191120" y="2034720"/>
              <a:ext cx="53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w Cen MT"/>
                </a:rPr>
                <a:t>track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3" name="TextBox 7"/>
            <p:cNvSpPr/>
            <p:nvPr/>
          </p:nvSpPr>
          <p:spPr>
            <a:xfrm>
              <a:off x="6433920" y="2783880"/>
              <a:ext cx="52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w Cen MT"/>
                </a:rPr>
                <a:t>label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4" name="TextBox 8"/>
            <p:cNvSpPr/>
            <p:nvPr/>
          </p:nvSpPr>
          <p:spPr>
            <a:xfrm>
              <a:off x="5054040" y="3249360"/>
              <a:ext cx="172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w Cen MT"/>
                </a:rPr>
                <a:t>minorTickSpacing(10)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5" name="TextBox 10"/>
            <p:cNvSpPr/>
            <p:nvPr/>
          </p:nvSpPr>
          <p:spPr>
            <a:xfrm>
              <a:off x="3183840" y="3249360"/>
              <a:ext cx="171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w Cen MT"/>
                </a:rPr>
                <a:t>majorTickSpacing(50)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6" name="TextBox 11"/>
            <p:cNvSpPr/>
            <p:nvPr/>
          </p:nvSpPr>
          <p:spPr>
            <a:xfrm>
              <a:off x="5488920" y="2034720"/>
              <a:ext cx="126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w Cen MT"/>
                </a:rPr>
                <a:t>maximum(200)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37" name="TextBox 12"/>
            <p:cNvSpPr/>
            <p:nvPr/>
          </p:nvSpPr>
          <p:spPr>
            <a:xfrm>
              <a:off x="3261960" y="2034720"/>
              <a:ext cx="105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w Cen MT"/>
                </a:rPr>
                <a:t>minimum(0)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cxnSp>
          <p:nvCxnSpPr>
            <p:cNvPr id="838" name="직선 화살표 연결선 14"/>
            <p:cNvCxnSpPr/>
            <p:nvPr/>
          </p:nvCxnSpPr>
          <p:spPr>
            <a:xfrm flipH="1">
              <a:off x="4060440" y="2321280"/>
              <a:ext cx="2160" cy="429120"/>
            </a:xfrm>
            <a:prstGeom prst="straightConnector1">
              <a:avLst/>
            </a:prstGeom>
            <a:ln w="10080">
              <a:solidFill>
                <a:srgbClr val="b95b22"/>
              </a:solidFill>
              <a:miter/>
              <a:tailEnd len="med" type="arrow" w="med"/>
            </a:ln>
          </p:spPr>
        </p:cxnSp>
        <p:cxnSp>
          <p:nvCxnSpPr>
            <p:cNvPr id="839" name="직선 화살표 연결선 16"/>
            <p:cNvCxnSpPr/>
            <p:nvPr/>
          </p:nvCxnSpPr>
          <p:spPr>
            <a:xfrm flipH="1">
              <a:off x="5756040" y="2320560"/>
              <a:ext cx="2160" cy="429120"/>
            </a:xfrm>
            <a:prstGeom prst="straightConnector1">
              <a:avLst/>
            </a:prstGeom>
            <a:ln w="10080">
              <a:solidFill>
                <a:srgbClr val="b95b22"/>
              </a:solidFill>
              <a:miter/>
              <a:tailEnd len="med" type="arrow" w="med"/>
            </a:ln>
          </p:spPr>
        </p:cxnSp>
        <p:cxnSp>
          <p:nvCxnSpPr>
            <p:cNvPr id="840" name="직선 화살표 연결선 21"/>
            <p:cNvCxnSpPr/>
            <p:nvPr/>
          </p:nvCxnSpPr>
          <p:spPr>
            <a:xfrm flipH="1">
              <a:off x="4428720" y="2249280"/>
              <a:ext cx="1440" cy="428400"/>
            </a:xfrm>
            <a:prstGeom prst="straightConnector1">
              <a:avLst/>
            </a:prstGeom>
            <a:ln w="10080">
              <a:solidFill>
                <a:srgbClr val="b95b22"/>
              </a:solidFill>
              <a:miter/>
              <a:tailEnd len="med" type="arrow" w="med"/>
            </a:ln>
          </p:spPr>
        </p:cxnSp>
        <p:sp>
          <p:nvSpPr>
            <p:cNvPr id="841" name="왼쪽 중괄호 25"/>
            <p:cNvSpPr/>
            <p:nvPr/>
          </p:nvSpPr>
          <p:spPr>
            <a:xfrm rot="16200000">
              <a:off x="4214880" y="2963520"/>
              <a:ext cx="142560" cy="42840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15840 h 428400"/>
                <a:gd name="textAreaBottom" fmla="*/ 4125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286"/>
                    <a:pt x="10800" y="2571"/>
                  </a:cubicBezTo>
                  <a:lnTo>
                    <a:pt x="10800" y="8229"/>
                  </a:lnTo>
                  <a:cubicBezTo>
                    <a:pt x="10800" y="9515"/>
                    <a:pt x="5400" y="10800"/>
                    <a:pt x="0" y="10800"/>
                  </a:cubicBezTo>
                  <a:cubicBezTo>
                    <a:pt x="5400" y="10800"/>
                    <a:pt x="10800" y="12086"/>
                    <a:pt x="10800" y="13371"/>
                  </a:cubicBezTo>
                  <a:lnTo>
                    <a:pt x="10800" y="19029"/>
                  </a:lnTo>
                  <a:cubicBezTo>
                    <a:pt x="10800" y="20315"/>
                    <a:pt x="16200" y="21600"/>
                    <a:pt x="21600" y="21600"/>
                  </a:cubicBezTo>
                </a:path>
              </a:pathLst>
            </a:custGeom>
            <a:noFill/>
            <a:ln w="10080">
              <a:solidFill>
                <a:srgbClr val="b95b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cxnSp>
          <p:nvCxnSpPr>
            <p:cNvPr id="842" name="직선 화살표 연결선 27"/>
            <p:cNvCxnSpPr/>
            <p:nvPr/>
          </p:nvCxnSpPr>
          <p:spPr>
            <a:xfrm flipV="1">
              <a:off x="5560560" y="2892600"/>
              <a:ext cx="2160" cy="429120"/>
            </a:xfrm>
            <a:prstGeom prst="straightConnector1">
              <a:avLst/>
            </a:prstGeom>
            <a:ln w="10080">
              <a:solidFill>
                <a:srgbClr val="b95b22"/>
              </a:solidFill>
              <a:miter/>
              <a:tailEnd len="med" type="arrow" w="med"/>
            </a:ln>
          </p:spPr>
        </p:cxnSp>
        <p:sp>
          <p:nvSpPr>
            <p:cNvPr id="843" name="자유형 28"/>
            <p:cNvSpPr/>
            <p:nvPr/>
          </p:nvSpPr>
          <p:spPr>
            <a:xfrm>
              <a:off x="5864760" y="2932200"/>
              <a:ext cx="622800" cy="105480"/>
            </a:xfrm>
            <a:custGeom>
              <a:avLst/>
              <a:gdLst/>
              <a:ahLst/>
              <a:rect l="l" t="t" r="r" b="b"/>
              <a:pathLst>
                <a:path w="622997" h="105508">
                  <a:moveTo>
                    <a:pt x="622997" y="8374"/>
                  </a:moveTo>
                  <a:cubicBezTo>
                    <a:pt x="545122" y="4187"/>
                    <a:pt x="467248" y="0"/>
                    <a:pt x="401934" y="8374"/>
                  </a:cubicBezTo>
                  <a:cubicBezTo>
                    <a:pt x="336620" y="16748"/>
                    <a:pt x="278004" y="43544"/>
                    <a:pt x="231112" y="58616"/>
                  </a:cubicBezTo>
                  <a:cubicBezTo>
                    <a:pt x="184220" y="73689"/>
                    <a:pt x="159099" y="92110"/>
                    <a:pt x="120580" y="98809"/>
                  </a:cubicBezTo>
                  <a:cubicBezTo>
                    <a:pt x="82061" y="105508"/>
                    <a:pt x="0" y="98809"/>
                    <a:pt x="0" y="98809"/>
                  </a:cubicBezTo>
                </a:path>
              </a:pathLst>
            </a:custGeom>
            <a:noFill/>
            <a:ln w="10080">
              <a:solidFill>
                <a:srgbClr val="b95b2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cxnSp>
          <p:nvCxnSpPr>
            <p:cNvPr id="844" name="직선 화살표 연결선 32"/>
            <p:cNvCxnSpPr>
              <a:stCxn id="831" idx="0"/>
            </p:cNvCxnSpPr>
            <p:nvPr/>
          </p:nvCxnSpPr>
          <p:spPr>
            <a:xfrm flipV="1">
              <a:off x="4925520" y="3106080"/>
              <a:ext cx="3960" cy="357840"/>
            </a:xfrm>
            <a:prstGeom prst="straightConnector1">
              <a:avLst/>
            </a:prstGeom>
            <a:ln w="10080">
              <a:solidFill>
                <a:srgbClr val="b95b22"/>
              </a:solidFill>
              <a:miter/>
              <a:tailEnd len="med" type="arrow" w="med"/>
            </a:ln>
          </p:spPr>
        </p:cxnSp>
        <p:sp>
          <p:nvSpPr>
            <p:cNvPr id="845" name="TextBox 35"/>
            <p:cNvSpPr/>
            <p:nvPr/>
          </p:nvSpPr>
          <p:spPr>
            <a:xfrm>
              <a:off x="3314160" y="3785760"/>
              <a:ext cx="369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ff0000"/>
                  </a:solidFill>
                  <a:latin typeface="Tw Cen MT"/>
                </a:rPr>
                <a:t>수평 슬라이더</a:t>
              </a:r>
              <a:r>
                <a:rPr b="0" lang="en-US" sz="1600" spc="-1" strike="noStrike">
                  <a:solidFill>
                    <a:srgbClr val="ff0000"/>
                  </a:solidFill>
                  <a:latin typeface="Tw Cen MT"/>
                </a:rPr>
                <a:t>(orientation = HORIZONTAL)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846" name="TextBox 26"/>
            <p:cNvSpPr/>
            <p:nvPr/>
          </p:nvSpPr>
          <p:spPr>
            <a:xfrm>
              <a:off x="4680000" y="203472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Tw Cen MT"/>
                </a:rPr>
                <a:t>손잡이</a:t>
              </a:r>
              <a:endParaRPr b="0" lang="en-US" sz="12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cxnSp>
          <p:nvCxnSpPr>
            <p:cNvPr id="847" name="직선 화살표 연결선 29"/>
            <p:cNvCxnSpPr/>
            <p:nvPr/>
          </p:nvCxnSpPr>
          <p:spPr>
            <a:xfrm flipH="1">
              <a:off x="4907880" y="2249280"/>
              <a:ext cx="1440" cy="428400"/>
            </a:xfrm>
            <a:prstGeom prst="straightConnector1">
              <a:avLst/>
            </a:prstGeom>
            <a:ln w="10080">
              <a:solidFill>
                <a:srgbClr val="b95b22"/>
              </a:solidFill>
              <a:miter/>
              <a:tailEnd len="med" type="arrow" w="med"/>
            </a:ln>
          </p:spPr>
        </p:cxnSp>
      </p:grpSp>
      <p:pic>
        <p:nvPicPr>
          <p:cNvPr id="848" name="Picture 3" descr=""/>
          <p:cNvPicPr/>
          <p:nvPr/>
        </p:nvPicPr>
        <p:blipFill>
          <a:blip r:embed="rId2"/>
          <a:stretch/>
        </p:blipFill>
        <p:spPr>
          <a:xfrm>
            <a:off x="7524720" y="2076480"/>
            <a:ext cx="1162080" cy="2057400"/>
          </a:xfrm>
          <a:prstGeom prst="rect">
            <a:avLst/>
          </a:prstGeom>
          <a:ln w="0">
            <a:noFill/>
          </a:ln>
        </p:spPr>
      </p:pic>
      <p:sp>
        <p:nvSpPr>
          <p:cNvPr id="849" name="슬라이드 번호 개체 틀 31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17DB-867A-4659-A7BA-C625BB637F2F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슬라이더의 모양 제어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612720" y="1285920"/>
            <a:ext cx="8153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슬라이더 방향 설정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</a:rPr>
              <a:t>void setOrientation(int orientation)</a:t>
            </a: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휴먼편지체"/>
              </a:rPr>
              <a:t>orientation : JSlider.HORIZONTAL, JSlider.VERTICAL</a:t>
            </a:r>
            <a:endParaRPr b="0" lang="en-US" sz="1100" spc="-1" strike="noStrike">
              <a:solidFill>
                <a:srgbClr val="000000"/>
              </a:solidFill>
              <a:latin typeface="휴먼편지체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최대 최소 값 설정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</a:rPr>
              <a:t>void setMaximum(int max)</a:t>
            </a: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</a:rPr>
              <a:t>void setMinimum(int min)</a:t>
            </a: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맑은 고딕"/>
              </a:rPr>
              <a:t>label</a:t>
            </a: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보이기</a:t>
            </a:r>
            <a:r>
              <a:rPr b="0" lang="en-US" sz="15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감추기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</a:rPr>
              <a:t>void setPaintLabels(boolean b)</a:t>
            </a: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휴먼편지체"/>
              </a:rPr>
              <a:t>b</a:t>
            </a:r>
            <a:r>
              <a:rPr b="0" lang="ko-KR" sz="1100" spc="-1" strike="noStrike">
                <a:solidFill>
                  <a:srgbClr val="000000"/>
                </a:solidFill>
                <a:latin typeface="휴먼편지체"/>
              </a:rPr>
              <a:t>가 </a:t>
            </a:r>
            <a:r>
              <a:rPr b="0" lang="en-US" sz="1100" spc="-1" strike="noStrike">
                <a:solidFill>
                  <a:srgbClr val="000000"/>
                </a:solidFill>
                <a:latin typeface="휴먼편지체"/>
              </a:rPr>
              <a:t>true</a:t>
            </a:r>
            <a:r>
              <a:rPr b="0" lang="ko-KR" sz="1100" spc="-1" strike="noStrike">
                <a:solidFill>
                  <a:srgbClr val="000000"/>
                </a:solidFill>
                <a:latin typeface="휴먼편지체"/>
              </a:rPr>
              <a:t>이면 </a:t>
            </a:r>
            <a:r>
              <a:rPr b="0" lang="en-US" sz="1100" spc="-1" strike="noStrike">
                <a:solidFill>
                  <a:srgbClr val="000000"/>
                </a:solidFill>
                <a:latin typeface="휴먼편지체"/>
              </a:rPr>
              <a:t>label </a:t>
            </a:r>
            <a:r>
              <a:rPr b="0" lang="ko-KR" sz="1100" spc="-1" strike="noStrike">
                <a:solidFill>
                  <a:srgbClr val="000000"/>
                </a:solidFill>
                <a:latin typeface="휴먼편지체"/>
              </a:rPr>
              <a:t>출력</a:t>
            </a:r>
            <a:endParaRPr b="0" lang="en-US" sz="1100" spc="-1" strike="noStrike">
              <a:solidFill>
                <a:srgbClr val="000000"/>
              </a:solidFill>
              <a:latin typeface="휴먼편지체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맑은 고딕"/>
              </a:rPr>
              <a:t>tick </a:t>
            </a: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보이기</a:t>
            </a:r>
            <a:r>
              <a:rPr b="0" lang="en-US" sz="15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감추기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</a:rPr>
              <a:t>void setPaintTicks(boolean b)</a:t>
            </a: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휴먼편지체"/>
              </a:rPr>
              <a:t>b</a:t>
            </a:r>
            <a:r>
              <a:rPr b="0" lang="ko-KR" sz="1100" spc="-1" strike="noStrike">
                <a:solidFill>
                  <a:srgbClr val="000000"/>
                </a:solidFill>
                <a:latin typeface="휴먼편지체"/>
              </a:rPr>
              <a:t>가 </a:t>
            </a:r>
            <a:r>
              <a:rPr b="0" lang="en-US" sz="1100" spc="-1" strike="noStrike">
                <a:solidFill>
                  <a:srgbClr val="000000"/>
                </a:solidFill>
                <a:latin typeface="휴먼편지체"/>
              </a:rPr>
              <a:t>true</a:t>
            </a:r>
            <a:r>
              <a:rPr b="0" lang="ko-KR" sz="1100" spc="-1" strike="noStrike">
                <a:solidFill>
                  <a:srgbClr val="000000"/>
                </a:solidFill>
                <a:latin typeface="휴먼편지체"/>
              </a:rPr>
              <a:t>이면 눈금</a:t>
            </a:r>
            <a:r>
              <a:rPr b="0" lang="en-US" sz="1100" spc="-1" strike="noStrike">
                <a:solidFill>
                  <a:srgbClr val="000000"/>
                </a:solidFill>
                <a:latin typeface="휴먼편지체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휴먼편지체"/>
              </a:rPr>
              <a:t>출력</a:t>
            </a:r>
            <a:endParaRPr b="0" lang="en-US" sz="1100" spc="-1" strike="noStrike">
              <a:solidFill>
                <a:srgbClr val="000000"/>
              </a:solidFill>
              <a:latin typeface="휴먼편지체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맑은 고딕"/>
              </a:rPr>
              <a:t>track</a:t>
            </a: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보이기</a:t>
            </a:r>
            <a:r>
              <a:rPr b="0" lang="en-US" sz="15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감추기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</a:rPr>
              <a:t>void setPaintTrack(boolean b)</a:t>
            </a: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휴먼편지체"/>
              </a:rPr>
              <a:t>b</a:t>
            </a:r>
            <a:r>
              <a:rPr b="0" lang="ko-KR" sz="1100" spc="-1" strike="noStrike">
                <a:solidFill>
                  <a:srgbClr val="000000"/>
                </a:solidFill>
                <a:latin typeface="휴먼편지체"/>
              </a:rPr>
              <a:t>가 </a:t>
            </a:r>
            <a:r>
              <a:rPr b="0" lang="en-US" sz="1100" spc="-1" strike="noStrike">
                <a:solidFill>
                  <a:srgbClr val="000000"/>
                </a:solidFill>
                <a:latin typeface="휴먼편지체"/>
              </a:rPr>
              <a:t>true</a:t>
            </a:r>
            <a:r>
              <a:rPr b="0" lang="ko-KR" sz="1100" spc="-1" strike="noStrike">
                <a:solidFill>
                  <a:srgbClr val="000000"/>
                </a:solidFill>
                <a:latin typeface="휴먼편지체"/>
              </a:rPr>
              <a:t>이면 </a:t>
            </a:r>
            <a:r>
              <a:rPr b="0" lang="en-US" sz="1100" spc="-1" strike="noStrike">
                <a:solidFill>
                  <a:srgbClr val="000000"/>
                </a:solidFill>
                <a:latin typeface="휴먼편지체"/>
              </a:rPr>
              <a:t>track </a:t>
            </a:r>
            <a:r>
              <a:rPr b="0" lang="ko-KR" sz="1100" spc="-1" strike="noStrike">
                <a:solidFill>
                  <a:srgbClr val="000000"/>
                </a:solidFill>
                <a:latin typeface="휴먼편지체"/>
              </a:rPr>
              <a:t>출력</a:t>
            </a:r>
            <a:endParaRPr b="0" lang="en-US" sz="1100" spc="-1" strike="noStrike">
              <a:solidFill>
                <a:srgbClr val="000000"/>
              </a:solidFill>
              <a:latin typeface="휴먼편지체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큰 눈금 간격 지정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</a:rPr>
              <a:t>void setMajorTickSpacing(int space)</a:t>
            </a: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작은 눈금 간격 지정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</a:rPr>
              <a:t>void setMinorTickSpacing(int space)</a:t>
            </a: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맑은 고딕"/>
              </a:rPr>
              <a:t>슬라이더 값 제어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</a:rPr>
              <a:t>void setVaule(int n)</a:t>
            </a: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휴먼편지체"/>
              </a:rPr>
              <a:t>n</a:t>
            </a:r>
            <a:r>
              <a:rPr b="0" lang="ko-KR" sz="1100" spc="-1" strike="noStrike">
                <a:solidFill>
                  <a:srgbClr val="000000"/>
                </a:solidFill>
                <a:latin typeface="휴먼편지체"/>
              </a:rPr>
              <a:t>이 슬라이더의 값이 되며 이에 따라 슬라이더의 손잡이 위치가 변경된다</a:t>
            </a:r>
            <a:r>
              <a:rPr b="0" lang="en-US" sz="1100" spc="-1" strike="noStrike">
                <a:solidFill>
                  <a:srgbClr val="000000"/>
                </a:solidFill>
                <a:latin typeface="휴먼편지체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휴먼편지체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휴먼편지체"/>
            </a:endParaRPr>
          </a:p>
        </p:txBody>
      </p:sp>
      <p:sp>
        <p:nvSpPr>
          <p:cNvPr id="852" name="슬라이드 번호 개체 틀 3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8B3A-A4B6-47FB-9059-E731F2A0163E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예제 </a:t>
            </a:r>
            <a:r>
              <a:rPr b="0" lang="en-US" sz="2900" spc="-1" strike="noStrike">
                <a:solidFill>
                  <a:srgbClr val="775f55"/>
                </a:solidFill>
                <a:latin typeface="맑은 고딕"/>
              </a:rPr>
              <a:t>11-12 : JSlider</a:t>
            </a:r>
            <a:r>
              <a:rPr b="0" lang="ko-KR" sz="2900" spc="-1" strike="noStrike">
                <a:solidFill>
                  <a:srgbClr val="775f55"/>
                </a:solidFill>
                <a:latin typeface="맑은 고딕"/>
              </a:rPr>
              <a:t>로 슬라이더 생성 및 모양 제어 예</a:t>
            </a:r>
            <a:endParaRPr b="0" lang="en-US" sz="29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854" name="직사각형 7"/>
          <p:cNvSpPr/>
          <p:nvPr/>
        </p:nvSpPr>
        <p:spPr>
          <a:xfrm>
            <a:off x="3571920" y="785880"/>
            <a:ext cx="5429160" cy="606132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import java.awt.*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public class SliderEx extends JFrame {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ntainer contentPane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liderEx() {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tTitle("</a:t>
            </a:r>
            <a:r>
              <a:rPr b="0" lang="ko-KR" sz="1400" spc="-1" strike="noStrike">
                <a:solidFill>
                  <a:srgbClr val="000000"/>
                </a:solidFill>
                <a:latin typeface="Tw Cen MT"/>
              </a:rPr>
              <a:t>슬라이더 만들기  예제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tDefaultCloseOperation(JFrame.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EXIT_ON_CLOSE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ntentPane = getContentPane(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ntentPane.setLayout(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new FlowLayout()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da-DK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da-DK" sz="1400" spc="-1" strike="noStrike">
                <a:solidFill>
                  <a:srgbClr val="000000"/>
                </a:solidFill>
                <a:latin typeface="Tw Cen MT"/>
              </a:rPr>
              <a:t>JSlider slider = </a:t>
            </a:r>
            <a:r>
              <a:rPr b="1" lang="da-DK" sz="1400" spc="-1" strike="noStrike">
                <a:solidFill>
                  <a:srgbClr val="000000"/>
                </a:solidFill>
                <a:latin typeface="Tw Cen MT"/>
              </a:rPr>
              <a:t>new JSlider(JSlider.</a:t>
            </a:r>
            <a:r>
              <a:rPr b="1" i="1" lang="da-DK" sz="1400" spc="-1" strike="noStrike">
                <a:solidFill>
                  <a:srgbClr val="000000"/>
                </a:solidFill>
                <a:latin typeface="Tw Cen MT"/>
              </a:rPr>
              <a:t>HORIZONTAL, 0, 200, 100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slider.setPaintLabels(true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slider.setPaintTicks(true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slider.setPaintTrack(true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slider.setMajorTickSpacing(50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slider.setMinorTickSpacing(10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ntentPane.add(slider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tSize(300,100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etVisible(true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public static void main(String [] args) {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new SliderEx()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55" name="Picture 2" descr=""/>
          <p:cNvPicPr/>
          <p:nvPr/>
        </p:nvPicPr>
        <p:blipFill>
          <a:blip r:embed="rId1"/>
          <a:stretch/>
        </p:blipFill>
        <p:spPr>
          <a:xfrm>
            <a:off x="468360" y="2952720"/>
            <a:ext cx="2857320" cy="952560"/>
          </a:xfrm>
          <a:prstGeom prst="rect">
            <a:avLst/>
          </a:prstGeom>
          <a:ln w="0">
            <a:noFill/>
          </a:ln>
        </p:spPr>
      </p:pic>
      <p:sp>
        <p:nvSpPr>
          <p:cNvPr id="856" name="슬라이드 번호 개체 틀 4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97F9-4975-4507-AD99-F2C5D080A939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JSlider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와 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Change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이벤트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612720" y="1285920"/>
            <a:ext cx="8153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Change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이벤트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이벤트 소스 컴포넌트의 값이 변경되었을 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리스너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ChangeListener 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인터페이스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hangeEvent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hangeListener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클래스가 속한 패키지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javax.swing.event 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패키지에 정의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ChangeListen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의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메소드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public void stateChanged(ChangeEvent e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JSlid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의 경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value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가 변경될 때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hang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이벤트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발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사용자가 슬라이더의 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value 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값을 변경하는 동안 계속 발생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응용프로그램에서 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JSlider.setValue(int n)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을 호출하여 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value 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값을 변경할 때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</p:txBody>
      </p:sp>
      <p:sp>
        <p:nvSpPr>
          <p:cNvPr id="859" name="슬라이드 번호 개체 틀 3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2667-197F-4368-8A52-6701CB947A19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스윙 컴포넌트의 공통 메소드 확인 사례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552" name="직사각형 3"/>
          <p:cNvSpPr/>
          <p:nvPr/>
        </p:nvSpPr>
        <p:spPr>
          <a:xfrm>
            <a:off x="4000680" y="642960"/>
            <a:ext cx="4892400" cy="6032880"/>
          </a:xfrm>
          <a:prstGeom prst="rect">
            <a:avLst/>
          </a:prstGeom>
          <a:solidFill>
            <a:srgbClr val="d4e2ed"/>
          </a:solidFill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class MyButtonListener implements ActionListener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public void actionPerformed(ActionEvent e)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Object source = e.getSource(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if(source == b1)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System.</a:t>
            </a:r>
            <a:r>
              <a:rPr b="0" i="1" lang="en-US" sz="1000" spc="-1" strike="noStrike">
                <a:solidFill>
                  <a:srgbClr val="000000"/>
                </a:solidFill>
                <a:latin typeface="Tw Cen MT"/>
              </a:rPr>
              <a:t>out.println("</a:t>
            </a:r>
            <a:r>
              <a:rPr b="0" i="1" lang="ko-KR" sz="1000" spc="-1" strike="noStrike">
                <a:solidFill>
                  <a:srgbClr val="000000"/>
                </a:solidFill>
                <a:latin typeface="Tw Cen MT"/>
              </a:rPr>
              <a:t>버튼의 위치와 크기</a:t>
            </a:r>
            <a:r>
              <a:rPr b="0" i="1" lang="en-US" sz="10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System.</a:t>
            </a:r>
            <a:r>
              <a:rPr b="1" i="1" lang="en-US" sz="1000" spc="-1" strike="noStrike">
                <a:solidFill>
                  <a:srgbClr val="000000"/>
                </a:solidFill>
                <a:latin typeface="Tw Cen MT"/>
              </a:rPr>
              <a:t>out.println("</a:t>
            </a:r>
            <a:r>
              <a:rPr b="1" i="1" lang="ko-KR" sz="1000" spc="-1" strike="noStrike">
                <a:solidFill>
                  <a:srgbClr val="000000"/>
                </a:solidFill>
                <a:latin typeface="Tw Cen MT"/>
              </a:rPr>
              <a:t>위치 </a:t>
            </a:r>
            <a:r>
              <a:rPr b="1" i="1" lang="en-US" sz="1000" spc="-1" strike="noStrike">
                <a:solidFill>
                  <a:srgbClr val="000000"/>
                </a:solidFill>
                <a:latin typeface="Tw Cen MT"/>
              </a:rPr>
              <a:t>= ("</a:t>
            </a:r>
            <a:r>
              <a:rPr b="1" i="1" lang="ko-KR" sz="1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w Cen MT"/>
              </a:rPr>
              <a:t>+ b1.getX() + "," + b1.getY() + ")"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System.</a:t>
            </a:r>
            <a:r>
              <a:rPr b="1" i="1" lang="en-US" sz="1000" spc="-1" strike="noStrike">
                <a:solidFill>
                  <a:srgbClr val="000000"/>
                </a:solidFill>
                <a:latin typeface="Tw Cen MT"/>
              </a:rPr>
              <a:t>out.println("</a:t>
            </a:r>
            <a:r>
              <a:rPr b="1" i="1" lang="ko-KR" sz="1000" spc="-1" strike="noStrike">
                <a:solidFill>
                  <a:srgbClr val="000000"/>
                </a:solidFill>
                <a:latin typeface="Tw Cen MT"/>
              </a:rPr>
              <a:t>크기 </a:t>
            </a:r>
            <a:r>
              <a:rPr b="1" i="1" lang="en-US" sz="1000" spc="-1" strike="noStrike">
                <a:solidFill>
                  <a:srgbClr val="000000"/>
                </a:solidFill>
                <a:latin typeface="Tw Cen MT"/>
              </a:rPr>
              <a:t>= ("</a:t>
            </a:r>
            <a:r>
              <a:rPr b="1" i="1" lang="ko-KR" sz="1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w Cen MT"/>
              </a:rPr>
              <a:t>+ b1.getWidth() + "x" + b1.getHeight() + ")"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JPanel c = (JPanel)b2.getParent(); 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System.</a:t>
            </a:r>
            <a:r>
              <a:rPr b="0" i="1" lang="en-US" sz="1000" spc="-1" strike="noStrike">
                <a:solidFill>
                  <a:srgbClr val="000000"/>
                </a:solidFill>
                <a:latin typeface="Tw Cen MT"/>
              </a:rPr>
              <a:t>out.println("</a:t>
            </a:r>
            <a:r>
              <a:rPr b="0" i="1" lang="ko-KR" sz="1000" spc="-1" strike="noStrike">
                <a:solidFill>
                  <a:srgbClr val="000000"/>
                </a:solidFill>
                <a:latin typeface="Tw Cen MT"/>
              </a:rPr>
              <a:t>컨텐트팬의 위치와 크기</a:t>
            </a:r>
            <a:r>
              <a:rPr b="0" i="1" lang="en-US" sz="10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System.</a:t>
            </a:r>
            <a:r>
              <a:rPr b="1" i="1" lang="en-US" sz="1000" spc="-1" strike="noStrike">
                <a:solidFill>
                  <a:srgbClr val="000000"/>
                </a:solidFill>
                <a:latin typeface="Tw Cen MT"/>
              </a:rPr>
              <a:t>out.println("</a:t>
            </a:r>
            <a:r>
              <a:rPr b="1" i="1" lang="ko-KR" sz="1000" spc="-1" strike="noStrike">
                <a:solidFill>
                  <a:srgbClr val="000000"/>
                </a:solidFill>
                <a:latin typeface="Tw Cen MT"/>
              </a:rPr>
              <a:t>위치 </a:t>
            </a:r>
            <a:r>
              <a:rPr b="1" i="1" lang="en-US" sz="1000" spc="-1" strike="noStrike">
                <a:solidFill>
                  <a:srgbClr val="000000"/>
                </a:solidFill>
                <a:latin typeface="Tw Cen MT"/>
              </a:rPr>
              <a:t>= ("</a:t>
            </a:r>
            <a:r>
              <a:rPr b="1" i="1" lang="ko-KR" sz="1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w Cen MT"/>
              </a:rPr>
              <a:t>+ c.getX() + "," + c.getY() + ")"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System.</a:t>
            </a:r>
            <a:r>
              <a:rPr b="1" i="1" lang="en-US" sz="1000" spc="-1" strike="noStrike">
                <a:solidFill>
                  <a:srgbClr val="000000"/>
                </a:solidFill>
                <a:latin typeface="Tw Cen MT"/>
              </a:rPr>
              <a:t>out.println("</a:t>
            </a:r>
            <a:r>
              <a:rPr b="1" i="1" lang="ko-KR" sz="1000" spc="-1" strike="noStrike">
                <a:solidFill>
                  <a:srgbClr val="000000"/>
                </a:solidFill>
                <a:latin typeface="Tw Cen MT"/>
              </a:rPr>
              <a:t>크기 </a:t>
            </a:r>
            <a:r>
              <a:rPr b="1" i="1" lang="en-US" sz="1000" spc="-1" strike="noStrike">
                <a:solidFill>
                  <a:srgbClr val="000000"/>
                </a:solidFill>
                <a:latin typeface="Tw Cen MT"/>
              </a:rPr>
              <a:t>= ("</a:t>
            </a:r>
            <a:r>
              <a:rPr b="1" i="1" lang="ko-KR" sz="1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w Cen MT"/>
              </a:rPr>
              <a:t>+ c.getWidth() + "x" + c.getHeight() + ")"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else if(source == b2)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System.</a:t>
            </a:r>
            <a:r>
              <a:rPr b="1" i="1" lang="en-US" sz="1000" spc="-1" strike="noStrike">
                <a:solidFill>
                  <a:srgbClr val="000000"/>
                </a:solidFill>
                <a:latin typeface="Tw Cen MT"/>
              </a:rPr>
              <a:t>out.println("</a:t>
            </a:r>
            <a:r>
              <a:rPr b="1" i="1" lang="ko-KR" sz="1000" spc="-1" strike="noStrike">
                <a:solidFill>
                  <a:srgbClr val="000000"/>
                </a:solidFill>
                <a:latin typeface="Tw Cen MT"/>
              </a:rPr>
              <a:t>폰트 </a:t>
            </a:r>
            <a:r>
              <a:rPr b="1" i="1" lang="en-US" sz="1000" spc="-1" strike="noStrike">
                <a:solidFill>
                  <a:srgbClr val="000000"/>
                </a:solidFill>
                <a:latin typeface="Tw Cen MT"/>
              </a:rPr>
              <a:t>= "</a:t>
            </a:r>
            <a:r>
              <a:rPr b="1" i="1" lang="ko-KR" sz="1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w Cen MT"/>
              </a:rPr>
              <a:t>+ b2.getFont()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System.</a:t>
            </a:r>
            <a:r>
              <a:rPr b="1" i="1" lang="en-US" sz="1000" spc="-1" strike="noStrike">
                <a:solidFill>
                  <a:srgbClr val="000000"/>
                </a:solidFill>
                <a:latin typeface="Tw Cen MT"/>
              </a:rPr>
              <a:t>out.println("</a:t>
            </a:r>
            <a:r>
              <a:rPr b="1" i="1" lang="ko-KR" sz="1000" spc="-1" strike="noStrike">
                <a:solidFill>
                  <a:srgbClr val="000000"/>
                </a:solidFill>
                <a:latin typeface="Tw Cen MT"/>
              </a:rPr>
              <a:t>배경색 </a:t>
            </a:r>
            <a:r>
              <a:rPr b="1" i="1" lang="en-US" sz="1000" spc="-1" strike="noStrike">
                <a:solidFill>
                  <a:srgbClr val="000000"/>
                </a:solidFill>
                <a:latin typeface="Tw Cen MT"/>
              </a:rPr>
              <a:t>= "</a:t>
            </a:r>
            <a:r>
              <a:rPr b="1" i="1" lang="ko-KR" sz="1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w Cen MT"/>
              </a:rPr>
              <a:t>+ b2.getBackground()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System.</a:t>
            </a:r>
            <a:r>
              <a:rPr b="1" i="1" lang="en-US" sz="1000" spc="-1" strike="noStrike">
                <a:solidFill>
                  <a:srgbClr val="000000"/>
                </a:solidFill>
                <a:latin typeface="Tw Cen MT"/>
              </a:rPr>
              <a:t>out.println("</a:t>
            </a:r>
            <a:r>
              <a:rPr b="1" i="1" lang="ko-KR" sz="1000" spc="-1" strike="noStrike">
                <a:solidFill>
                  <a:srgbClr val="000000"/>
                </a:solidFill>
                <a:latin typeface="Tw Cen MT"/>
              </a:rPr>
              <a:t>글자색 </a:t>
            </a:r>
            <a:r>
              <a:rPr b="1" i="1" lang="en-US" sz="1000" spc="-1" strike="noStrike">
                <a:solidFill>
                  <a:srgbClr val="000000"/>
                </a:solidFill>
                <a:latin typeface="Tw Cen MT"/>
              </a:rPr>
              <a:t>= "</a:t>
            </a:r>
            <a:r>
              <a:rPr b="1" i="1" lang="ko-KR" sz="1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w Cen MT"/>
              </a:rPr>
              <a:t>+ b2.getForeground()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else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if(b1.isVisible())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b1.setVisible(false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b2.setVisible(false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b3.setVisible(false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else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b1.setVisible(true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b2.setVisible(true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b3.setVisible(true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public static void main(String [] args)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new SwingAPIEx(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 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직사각형 4"/>
          <p:cNvSpPr/>
          <p:nvPr/>
        </p:nvSpPr>
        <p:spPr>
          <a:xfrm>
            <a:off x="214200" y="642960"/>
            <a:ext cx="3571920" cy="6032880"/>
          </a:xfrm>
          <a:prstGeom prst="rect">
            <a:avLst/>
          </a:prstGeom>
          <a:solidFill>
            <a:srgbClr val="d4e2ed"/>
          </a:solidFill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import javax.swing.*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import java.awt.event.*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import java.awt.*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public class SwingAPIEx extends JFrame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Container contentPane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JLabel la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JButton b1, b2, b3, b4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SwingAPIEx() {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setTitle("Swing </a:t>
            </a:r>
            <a:r>
              <a:rPr b="0" lang="ko-KR" sz="1000" spc="-1" strike="noStrike">
                <a:solidFill>
                  <a:srgbClr val="000000"/>
                </a:solidFill>
                <a:latin typeface="Tw Cen MT"/>
              </a:rPr>
              <a:t>공통 메소드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Tw Cen MT"/>
              </a:rPr>
              <a:t>예제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setDefaultCloseOperation(JFrame.</a:t>
            </a:r>
            <a:r>
              <a:rPr b="0" i="1" lang="en-US" sz="1000" spc="-1" strike="noStrike">
                <a:solidFill>
                  <a:srgbClr val="000000"/>
                </a:solidFill>
                <a:latin typeface="Tw Cen MT"/>
              </a:rPr>
              <a:t>EXIT_ON_CLOSE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contentPane = getContentPane(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contentPane.setLayout(new FlowLayout()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b1</a:t>
            </a:r>
            <a:r>
              <a:rPr b="0" lang="ko-KR" sz="1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new</a:t>
            </a:r>
            <a:r>
              <a:rPr b="1" lang="ko-KR" sz="1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JButton("</a:t>
            </a:r>
            <a:r>
              <a:rPr b="1" lang="ko-KR" sz="1000" spc="-1" strike="noStrike">
                <a:solidFill>
                  <a:srgbClr val="000000"/>
                </a:solidFill>
                <a:latin typeface="Tw Cen MT"/>
              </a:rPr>
              <a:t>위치와 크기 정보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b1.addActionListener(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new MyButtonListener()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contentPane.add(b1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b2 = 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new JButton("</a:t>
            </a:r>
            <a:r>
              <a:rPr b="1" lang="ko-KR" sz="1000" spc="-1" strike="noStrike">
                <a:solidFill>
                  <a:srgbClr val="000000"/>
                </a:solidFill>
                <a:latin typeface="Tw Cen MT"/>
              </a:rPr>
              <a:t>모양 정보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b2.setOpaque(true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b2.setForeground(Color.</a:t>
            </a:r>
            <a:r>
              <a:rPr b="1" i="1" lang="en-US" sz="1000" spc="-1" strike="noStrike">
                <a:solidFill>
                  <a:srgbClr val="000000"/>
                </a:solidFill>
                <a:latin typeface="Tw Cen MT"/>
              </a:rPr>
              <a:t>MAGENTA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b2.setBackground(Color.</a:t>
            </a:r>
            <a:r>
              <a:rPr b="1" i="1" lang="en-US" sz="1000" spc="-1" strike="noStrike">
                <a:solidFill>
                  <a:srgbClr val="000000"/>
                </a:solidFill>
                <a:latin typeface="Tw Cen MT"/>
              </a:rPr>
              <a:t>YELLOW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b2.setFont(new Font("</a:t>
            </a:r>
            <a:r>
              <a:rPr b="1" lang="ko-KR" sz="1000" spc="-1" strike="noStrike">
                <a:solidFill>
                  <a:srgbClr val="000000"/>
                </a:solidFill>
                <a:latin typeface="Tw Cen MT"/>
              </a:rPr>
              <a:t>고딕체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", Font.</a:t>
            </a:r>
            <a:r>
              <a:rPr b="1" i="1" lang="en-US" sz="1000" spc="-1" strike="noStrike">
                <a:solidFill>
                  <a:srgbClr val="000000"/>
                </a:solidFill>
                <a:latin typeface="Tw Cen MT"/>
              </a:rPr>
              <a:t>ITALIC, 20)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b2.addActionListener(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new MyButtonListener()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contentPane.add(b2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b3</a:t>
            </a:r>
            <a:r>
              <a:rPr b="0" lang="ko-KR" sz="1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new</a:t>
            </a:r>
            <a:r>
              <a:rPr b="1" lang="ko-KR" sz="1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JButton("</a:t>
            </a:r>
            <a:r>
              <a:rPr b="1" lang="ko-KR" sz="1000" spc="-1" strike="noStrike">
                <a:solidFill>
                  <a:srgbClr val="000000"/>
                </a:solidFill>
                <a:latin typeface="Tw Cen MT"/>
              </a:rPr>
              <a:t>작동하지 않는 버튼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b3.setEnabled(false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b3.addActionListener(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new MyButtonListener()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contentPane.add(b3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b4</a:t>
            </a:r>
            <a:r>
              <a:rPr b="0" lang="ko-KR" sz="1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new</a:t>
            </a:r>
            <a:r>
              <a:rPr b="1" lang="ko-KR" sz="1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JButton("</a:t>
            </a:r>
            <a:r>
              <a:rPr b="1" lang="ko-KR" sz="1000" spc="-1" strike="noStrike">
                <a:solidFill>
                  <a:srgbClr val="000000"/>
                </a:solidFill>
                <a:latin typeface="Tw Cen MT"/>
              </a:rPr>
              <a:t>숨기기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/</a:t>
            </a:r>
            <a:r>
              <a:rPr b="1" lang="ko-KR" sz="1000" spc="-1" strike="noStrike">
                <a:solidFill>
                  <a:srgbClr val="000000"/>
                </a:solidFill>
                <a:latin typeface="Tw Cen MT"/>
              </a:rPr>
              <a:t>보이기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b4.addActionListener(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new MyButtonListener()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contentPane.add(b4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setSize(250,200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w Cen MT"/>
              </a:rPr>
              <a:t>setVisible(true)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슬라이드 번호 개체 틀 5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0BD2-03B2-4EAF-8D51-C32CA97B12A1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0" y="-2412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775f55"/>
                </a:solidFill>
                <a:latin typeface="맑은 고딕"/>
              </a:rPr>
              <a:t>예제 </a:t>
            </a:r>
            <a:r>
              <a:rPr b="0" lang="en-US" sz="2400" spc="-1" strike="noStrike">
                <a:solidFill>
                  <a:srgbClr val="775f55"/>
                </a:solidFill>
                <a:latin typeface="맑은 고딕"/>
              </a:rPr>
              <a:t>11-13</a:t>
            </a:r>
            <a:r>
              <a:rPr b="0" lang="ko-KR" sz="2400" spc="-1" strike="noStrike">
                <a:solidFill>
                  <a:srgbClr val="775f55"/>
                </a:solidFill>
                <a:latin typeface="맑은 고딕"/>
              </a:rPr>
              <a:t> </a:t>
            </a:r>
            <a:r>
              <a:rPr b="0" lang="en-US" sz="2400" spc="-1" strike="noStrike">
                <a:solidFill>
                  <a:srgbClr val="775f55"/>
                </a:solidFill>
                <a:latin typeface="맑은 고딕"/>
              </a:rPr>
              <a:t>: JSlider</a:t>
            </a:r>
            <a:r>
              <a:rPr b="0" lang="ko-KR" sz="2400" spc="-1" strike="noStrike">
                <a:solidFill>
                  <a:srgbClr val="775f55"/>
                </a:solidFill>
                <a:latin typeface="맑은 고딕"/>
              </a:rPr>
              <a:t>와 </a:t>
            </a:r>
            <a:r>
              <a:rPr b="0" lang="en-US" sz="2400" spc="-1" strike="noStrike">
                <a:solidFill>
                  <a:srgbClr val="775f55"/>
                </a:solidFill>
                <a:latin typeface="맑은 고딕"/>
              </a:rPr>
              <a:t>Change</a:t>
            </a:r>
            <a:r>
              <a:rPr b="0" lang="ko-KR" sz="2400" spc="-1" strike="noStrike">
                <a:solidFill>
                  <a:srgbClr val="775f55"/>
                </a:solidFill>
                <a:latin typeface="맑은 고딕"/>
              </a:rPr>
              <a:t>이벤트를 활용한 색깔 다루기</a:t>
            </a:r>
            <a:endParaRPr b="0" lang="en-US" sz="24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861" name="직사각형 3"/>
          <p:cNvSpPr/>
          <p:nvPr/>
        </p:nvSpPr>
        <p:spPr>
          <a:xfrm>
            <a:off x="142920" y="487440"/>
            <a:ext cx="4572000" cy="648216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x.swing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.awt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x.swing.event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class SliderChangeEx extends JFrame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ainer contentPane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JLabel colorLabel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da-DK" sz="1200" spc="-1" strike="noStrike">
                <a:solidFill>
                  <a:srgbClr val="000000"/>
                </a:solidFill>
                <a:latin typeface="Tw Cen MT"/>
              </a:rPr>
              <a:t>JSlider [] sl = </a:t>
            </a:r>
            <a:r>
              <a:rPr b="1" lang="da-DK" sz="1200" spc="-1" strike="noStrike">
                <a:solidFill>
                  <a:srgbClr val="000000"/>
                </a:solidFill>
                <a:latin typeface="Tw Cen MT"/>
              </a:rPr>
              <a:t>new JSlider [3]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SliderChangeEx()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Title("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슬라이더와 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hangeEvent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예제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DefaultCloseOperation(JFrame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EXIT_ON_CLOS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 = getContentPane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setLayout(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FlowLayout());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lorLabel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JLabel("        SLIDER EXAMPLE        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for(int i=0; i&lt;sl.length; i++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l[i]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JSlider(JSlider.</a:t>
            </a:r>
            <a:r>
              <a:rPr b="1" i="1" lang="en-US" sz="1200" spc="-1" strike="noStrike">
                <a:solidFill>
                  <a:srgbClr val="000000"/>
                </a:solidFill>
                <a:latin typeface="Tw Cen MT"/>
              </a:rPr>
              <a:t>HORIZONTAL, 0, 255, 128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l[i].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setPaintLabels(tr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l[i].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setPaintTicks(tr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l[i].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setPaintTrack(tr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l[i].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setMajorTickSpacing(5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l[i].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setMinorTickSpacing(1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l[i].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addChangeListener(new MyChangeListener()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add(sl[i]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l[0].setForeground(Color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RED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l[1].setForeground(Color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GREEN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l[2].setForeground(Color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BL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lorLabel.setOpaque(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tr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lorLabel.setBackground(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Color(sl[0].getValue(),sl[1].getValue(), sl[2].getValue())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add(colorLabel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Size(300,30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Visible(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tr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직사각형 4"/>
          <p:cNvSpPr/>
          <p:nvPr/>
        </p:nvSpPr>
        <p:spPr>
          <a:xfrm>
            <a:off x="4857840" y="857160"/>
            <a:ext cx="4143240" cy="228420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class MyChangeListener implements ChangeListener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void stateChanged(ChangeEvent e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lorLabel.setBackground(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Color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(sl[0].getValue(),sl[1].getValue(), sl[2].getValue())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ublic static void main(String [] args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new SliderChangeEx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63" name="Picture 2" descr=""/>
          <p:cNvPicPr/>
          <p:nvPr/>
        </p:nvPicPr>
        <p:blipFill>
          <a:blip r:embed="rId1"/>
          <a:stretch/>
        </p:blipFill>
        <p:spPr>
          <a:xfrm>
            <a:off x="5537160" y="2333520"/>
            <a:ext cx="2857680" cy="219096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3" descr=""/>
          <p:cNvPicPr/>
          <p:nvPr/>
        </p:nvPicPr>
        <p:blipFill>
          <a:blip r:embed="rId2"/>
          <a:stretch/>
        </p:blipFill>
        <p:spPr>
          <a:xfrm>
            <a:off x="5537160" y="4637160"/>
            <a:ext cx="2857680" cy="2190600"/>
          </a:xfrm>
          <a:prstGeom prst="rect">
            <a:avLst/>
          </a:prstGeom>
          <a:ln w="0">
            <a:noFill/>
          </a:ln>
        </p:spPr>
      </p:pic>
      <p:sp>
        <p:nvSpPr>
          <p:cNvPr id="865" name="슬라이드 번호 개체 틀 6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9523-E38C-4374-BA55-1B851FB363AB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"/>
          <p:cNvPicPr/>
          <p:nvPr/>
        </p:nvPicPr>
        <p:blipFill>
          <a:blip r:embed="rId1"/>
          <a:stretch/>
        </p:blipFill>
        <p:spPr>
          <a:xfrm>
            <a:off x="1206360" y="4456080"/>
            <a:ext cx="2381400" cy="19051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2" descr=""/>
          <p:cNvPicPr/>
          <p:nvPr/>
        </p:nvPicPr>
        <p:blipFill>
          <a:blip r:embed="rId2"/>
          <a:stretch/>
        </p:blipFill>
        <p:spPr>
          <a:xfrm>
            <a:off x="1206360" y="1357200"/>
            <a:ext cx="2381400" cy="190512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실행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스윙 컴포넌트의 공통 요소 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558" name="직사각형 4"/>
          <p:cNvSpPr/>
          <p:nvPr/>
        </p:nvSpPr>
        <p:spPr>
          <a:xfrm>
            <a:off x="4500720" y="1357200"/>
            <a:ext cx="4214520" cy="1919160"/>
          </a:xfrm>
          <a:prstGeom prst="rect">
            <a:avLst/>
          </a:prstGeom>
          <a:solidFill>
            <a:srgbClr val="e4d3c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버튼의 위치와 크기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위치 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= (51,5)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크기 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= (131x28)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컨텐트팬의 위치와 크기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위치 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= (0,0)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크기 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= (234x164)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폰트 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= java.awt.Font[family=Dialog,name=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고딕체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,style=italic,size=20]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배경색 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= java.awt.Color[r=255,g=255,b=0]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글자색 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= java.awt.Color[r=255,g=0,b=255]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TextBox 17"/>
          <p:cNvSpPr/>
          <p:nvPr/>
        </p:nvSpPr>
        <p:spPr>
          <a:xfrm>
            <a:off x="2786040" y="3714840"/>
            <a:ext cx="121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버튼을 선택하면 나머지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개의 버튼이 보이지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않게 됨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0" name="TextBox 19"/>
          <p:cNvSpPr/>
          <p:nvPr/>
        </p:nvSpPr>
        <p:spPr>
          <a:xfrm>
            <a:off x="3781440" y="4429080"/>
            <a:ext cx="9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버튼을 선택하면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다시 보이게 됨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561" name="직선 화살표 연결선 21"/>
          <p:cNvCxnSpPr/>
          <p:nvPr/>
        </p:nvCxnSpPr>
        <p:spPr>
          <a:xfrm>
            <a:off x="2857680" y="4857840"/>
            <a:ext cx="2000880" cy="2160"/>
          </a:xfrm>
          <a:prstGeom prst="straightConnector1">
            <a:avLst/>
          </a:prstGeom>
          <a:ln w="10080">
            <a:solidFill>
              <a:srgbClr val="b95b22"/>
            </a:solidFill>
            <a:prstDash val="dash"/>
            <a:miter/>
            <a:tailEnd len="med" type="arrow" w="med"/>
          </a:ln>
        </p:spPr>
      </p:cxnSp>
      <p:cxnSp>
        <p:nvCxnSpPr>
          <p:cNvPr id="562" name="직선 화살표 연결선 14"/>
          <p:cNvCxnSpPr/>
          <p:nvPr/>
        </p:nvCxnSpPr>
        <p:spPr>
          <a:xfrm flipH="1">
            <a:off x="2785680" y="2857320"/>
            <a:ext cx="2160" cy="1500840"/>
          </a:xfrm>
          <a:prstGeom prst="straightConnector1">
            <a:avLst/>
          </a:prstGeom>
          <a:ln w="10080">
            <a:solidFill>
              <a:srgbClr val="b95b22"/>
            </a:solidFill>
            <a:prstDash val="dash"/>
            <a:miter/>
            <a:tailEnd len="med" type="arrow" w="med"/>
          </a:ln>
        </p:spPr>
      </p:cxnSp>
      <p:sp>
        <p:nvSpPr>
          <p:cNvPr id="563" name="왼쪽 중괄호 30"/>
          <p:cNvSpPr/>
          <p:nvPr/>
        </p:nvSpPr>
        <p:spPr>
          <a:xfrm>
            <a:off x="4282920" y="1441440"/>
            <a:ext cx="214560" cy="928800"/>
          </a:xfrm>
          <a:custGeom>
            <a:avLst/>
            <a:gdLst>
              <a:gd name="textAreaLeft" fmla="*/ 137160 w 214560"/>
              <a:gd name="textAreaRight" fmla="*/ 214920 w 214560"/>
              <a:gd name="textAreaTop" fmla="*/ 40680 h 928800"/>
              <a:gd name="textAreaBottom" fmla="*/ 88812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22"/>
                  <a:pt x="10800" y="3043"/>
                </a:cubicBezTo>
                <a:lnTo>
                  <a:pt x="10800" y="7757"/>
                </a:lnTo>
                <a:cubicBezTo>
                  <a:pt x="10800" y="9279"/>
                  <a:pt x="5400" y="10800"/>
                  <a:pt x="0" y="10800"/>
                </a:cubicBezTo>
                <a:cubicBezTo>
                  <a:pt x="5400" y="10800"/>
                  <a:pt x="10800" y="12322"/>
                  <a:pt x="10800" y="13843"/>
                </a:cubicBezTo>
                <a:lnTo>
                  <a:pt x="10800" y="18557"/>
                </a:lnTo>
                <a:cubicBezTo>
                  <a:pt x="10800" y="20079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b95b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왼쪽 중괄호 33"/>
          <p:cNvSpPr/>
          <p:nvPr/>
        </p:nvSpPr>
        <p:spPr>
          <a:xfrm>
            <a:off x="4282920" y="2513160"/>
            <a:ext cx="214560" cy="500040"/>
          </a:xfrm>
          <a:custGeom>
            <a:avLst/>
            <a:gdLst>
              <a:gd name="textAreaLeft" fmla="*/ 137160 w 214560"/>
              <a:gd name="textAreaRight" fmla="*/ 214920 w 214560"/>
              <a:gd name="textAreaTop" fmla="*/ 29160 h 500040"/>
              <a:gd name="textAreaBottom" fmla="*/ 4708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25"/>
                  <a:pt x="10800" y="4050"/>
                </a:cubicBezTo>
                <a:lnTo>
                  <a:pt x="10800" y="6750"/>
                </a:lnTo>
                <a:cubicBezTo>
                  <a:pt x="10800" y="8775"/>
                  <a:pt x="5400" y="10800"/>
                  <a:pt x="0" y="10800"/>
                </a:cubicBezTo>
                <a:cubicBezTo>
                  <a:pt x="5400" y="10800"/>
                  <a:pt x="10800" y="12825"/>
                  <a:pt x="10800" y="14850"/>
                </a:cubicBezTo>
                <a:lnTo>
                  <a:pt x="10800" y="17550"/>
                </a:lnTo>
                <a:cubicBezTo>
                  <a:pt x="10800" y="19575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b95b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왼쪽 중괄호 40"/>
          <p:cNvSpPr/>
          <p:nvPr/>
        </p:nvSpPr>
        <p:spPr>
          <a:xfrm>
            <a:off x="857160" y="1643040"/>
            <a:ext cx="428760" cy="15001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05840 h 1500120"/>
              <a:gd name="textAreaBottom" fmla="*/ 1394280 h 150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40"/>
                  <a:pt x="10800" y="4880"/>
                </a:cubicBezTo>
                <a:lnTo>
                  <a:pt x="10800" y="5920"/>
                </a:lnTo>
                <a:cubicBezTo>
                  <a:pt x="10800" y="8360"/>
                  <a:pt x="5400" y="10800"/>
                  <a:pt x="0" y="10800"/>
                </a:cubicBezTo>
                <a:cubicBezTo>
                  <a:pt x="5400" y="10800"/>
                  <a:pt x="10800" y="13240"/>
                  <a:pt x="10800" y="15680"/>
                </a:cubicBezTo>
                <a:lnTo>
                  <a:pt x="10800" y="16720"/>
                </a:lnTo>
                <a:cubicBezTo>
                  <a:pt x="10800" y="19160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b95b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왼쪽 중괄호 42"/>
          <p:cNvSpPr/>
          <p:nvPr/>
        </p:nvSpPr>
        <p:spPr>
          <a:xfrm rot="16200000">
            <a:off x="2178720" y="2250000"/>
            <a:ext cx="428760" cy="2214360"/>
          </a:xfrm>
          <a:custGeom>
            <a:avLst/>
            <a:gdLst>
              <a:gd name="textAreaLeft" fmla="*/ 273960 w 428760"/>
              <a:gd name="textAreaRight" fmla="*/ 429120 w 428760"/>
              <a:gd name="textAreaTop" fmla="*/ 105840 h 2214360"/>
              <a:gd name="textAreaBottom" fmla="*/ 2108520 h 22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53"/>
                  <a:pt x="10800" y="3306"/>
                </a:cubicBezTo>
                <a:lnTo>
                  <a:pt x="10800" y="7494"/>
                </a:lnTo>
                <a:cubicBezTo>
                  <a:pt x="10800" y="9147"/>
                  <a:pt x="5400" y="10800"/>
                  <a:pt x="0" y="10800"/>
                </a:cubicBezTo>
                <a:cubicBezTo>
                  <a:pt x="5400" y="10800"/>
                  <a:pt x="10800" y="12453"/>
                  <a:pt x="10800" y="14106"/>
                </a:cubicBezTo>
                <a:lnTo>
                  <a:pt x="10800" y="18294"/>
                </a:lnTo>
                <a:cubicBezTo>
                  <a:pt x="10800" y="19947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b95b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TextBox 43"/>
          <p:cNvSpPr/>
          <p:nvPr/>
        </p:nvSpPr>
        <p:spPr>
          <a:xfrm>
            <a:off x="277200" y="2357280"/>
            <a:ext cx="7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164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픽셀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TextBox 44"/>
          <p:cNvSpPr/>
          <p:nvPr/>
        </p:nvSpPr>
        <p:spPr>
          <a:xfrm>
            <a:off x="1167480" y="3500280"/>
            <a:ext cx="14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컨텐트팬의 폭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234 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픽셀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9" name="TextBox 46"/>
          <p:cNvSpPr/>
          <p:nvPr/>
        </p:nvSpPr>
        <p:spPr>
          <a:xfrm>
            <a:off x="5535000" y="107172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콘솔 창에 출력된 내용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TextBox 47"/>
          <p:cNvSpPr/>
          <p:nvPr/>
        </p:nvSpPr>
        <p:spPr>
          <a:xfrm>
            <a:off x="276480" y="207180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컨텐트팬의 높이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571" name="직선 화살표 연결선 5"/>
          <p:cNvCxnSpPr>
            <a:endCxn id="563" idx="1"/>
          </p:cNvCxnSpPr>
          <p:nvPr/>
        </p:nvCxnSpPr>
        <p:spPr>
          <a:xfrm>
            <a:off x="2987640" y="1844640"/>
            <a:ext cx="1296000" cy="61200"/>
          </a:xfrm>
          <a:prstGeom prst="straightConnector1">
            <a:avLst/>
          </a:prstGeom>
          <a:ln w="10080">
            <a:solidFill>
              <a:srgbClr val="b95b22"/>
            </a:solidFill>
            <a:prstDash val="dash"/>
            <a:miter/>
            <a:tailEnd len="med" type="arrow" w="med"/>
          </a:ln>
        </p:spPr>
      </p:cxnSp>
      <p:cxnSp>
        <p:nvCxnSpPr>
          <p:cNvPr id="572" name="직선 화살표 연결선 22"/>
          <p:cNvCxnSpPr>
            <a:endCxn id="564" idx="1"/>
          </p:cNvCxnSpPr>
          <p:nvPr/>
        </p:nvCxnSpPr>
        <p:spPr>
          <a:xfrm>
            <a:off x="2857320" y="2209320"/>
            <a:ext cx="1425600" cy="553320"/>
          </a:xfrm>
          <a:prstGeom prst="straightConnector1">
            <a:avLst/>
          </a:prstGeom>
          <a:ln w="10080">
            <a:solidFill>
              <a:srgbClr val="b95b22"/>
            </a:solidFill>
            <a:prstDash val="dash"/>
            <a:miter/>
            <a:tailEnd len="med" type="arrow" w="med"/>
          </a:ln>
        </p:spPr>
      </p:cxnSp>
      <p:pic>
        <p:nvPicPr>
          <p:cNvPr id="573" name="Picture 2" descr=""/>
          <p:cNvPicPr/>
          <p:nvPr/>
        </p:nvPicPr>
        <p:blipFill>
          <a:blip r:embed="rId3"/>
          <a:stretch/>
        </p:blipFill>
        <p:spPr>
          <a:xfrm>
            <a:off x="4856040" y="4429080"/>
            <a:ext cx="2381400" cy="1905120"/>
          </a:xfrm>
          <a:prstGeom prst="rect">
            <a:avLst/>
          </a:prstGeom>
          <a:ln w="0">
            <a:noFill/>
          </a:ln>
        </p:spPr>
      </p:pic>
      <p:sp>
        <p:nvSpPr>
          <p:cNvPr id="574" name="TextBox 32"/>
          <p:cNvSpPr/>
          <p:nvPr/>
        </p:nvSpPr>
        <p:spPr>
          <a:xfrm>
            <a:off x="3513240" y="1568520"/>
            <a:ext cx="97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버튼을 선택한 경우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5" name="TextBox 37"/>
          <p:cNvSpPr/>
          <p:nvPr/>
        </p:nvSpPr>
        <p:spPr>
          <a:xfrm>
            <a:off x="3500280" y="2325600"/>
            <a:ext cx="97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버튼을 선택한 경우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6" name="슬라이드 번호 개체 틀 23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0D7C-203B-441E-8581-3C6BB0DDBF8E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JLabel,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레이블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컴포넌트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12720" y="1285920"/>
            <a:ext cx="8153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JLabel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의 용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텍스트나 이미지를 컴포넌트화 하기 위한 목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레이블 컴포넌트 생성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Label(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텍스트나 이미지 정보가 없는 빈 레이블 컴포넌트 생성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Label(Icon image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이미지만을 가진 레이블 컴포넌트 생성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Label(String text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텍스트만을 가진 레이블 컴포넌트 생성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JLabel(String text, Icon image, int hAlignment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텍스트와 이미지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수평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정렬 값을 가진 레이블 컴포넌트 생성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수평정렬 값인 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hAlignment</a:t>
            </a: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로 사용가능한 값들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wingConstants.LEFT, CENTER, RIGHT, LEADING or TRAILING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슬라이드 번호 개체 틀 4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255E-BB03-4BCA-A1A9-7C245B603BDC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레이블 컴포넌트 생성 예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12720" y="1285560"/>
            <a:ext cx="81532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단순 텍스트 만을 가진 레이블 컴포넌트 생성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이미지를 가진 레이블 컴포넌트 생성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이미지 파일로부터 이미지 생성을 위해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mageIcon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클래스 사용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출력 가능한 이미지 종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png, gif, jpg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unset.jpg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의 경로명이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"images/sunset.jpg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인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경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수평정렬 값을 가진 레이블 컴포넌트 생성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수평정렬 값으로 사용되는 값을 생성자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3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번째 인자로 지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편지체"/>
              </a:rPr>
              <a:t>텍스트 이미지 모두 출력하고자 하는 경우 수평정렬 값을 지정하여야 함</a:t>
            </a:r>
            <a:r>
              <a:rPr b="0" lang="en-US" sz="1800" spc="-1" strike="noStrike">
                <a:solidFill>
                  <a:srgbClr val="000000"/>
                </a:solidFill>
                <a:latin typeface="휴먼편지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휴먼편지체"/>
            </a:endParaRPr>
          </a:p>
        </p:txBody>
      </p:sp>
      <p:sp>
        <p:nvSpPr>
          <p:cNvPr id="582" name="직사각형 3"/>
          <p:cNvSpPr/>
          <p:nvPr/>
        </p:nvSpPr>
        <p:spPr>
          <a:xfrm>
            <a:off x="1357200" y="1785960"/>
            <a:ext cx="4786560" cy="337320"/>
          </a:xfrm>
          <a:prstGeom prst="rect">
            <a:avLst/>
          </a:prstGeom>
          <a:solidFill>
            <a:srgbClr val="d4e2ed"/>
          </a:solidFill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JLabel textLabel = new JLabel("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사랑합니다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직사각형 4"/>
          <p:cNvSpPr/>
          <p:nvPr/>
        </p:nvSpPr>
        <p:spPr>
          <a:xfrm>
            <a:off x="1500120" y="3929040"/>
            <a:ext cx="4786560" cy="824040"/>
          </a:xfrm>
          <a:prstGeom prst="rect">
            <a:avLst/>
          </a:prstGeom>
          <a:solidFill>
            <a:srgbClr val="d4e2ed"/>
          </a:solidFill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ImageIcon image = new ImageIcon("images/sunset.jpg")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JLabel imageLabel = new JLabel(image)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직사각형 5"/>
          <p:cNvSpPr/>
          <p:nvPr/>
        </p:nvSpPr>
        <p:spPr>
          <a:xfrm>
            <a:off x="1500120" y="5786280"/>
            <a:ext cx="6215040" cy="824040"/>
          </a:xfrm>
          <a:prstGeom prst="rect">
            <a:avLst/>
          </a:prstGeom>
          <a:solidFill>
            <a:srgbClr val="d4e2ed"/>
          </a:solidFill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ImageIcon image = new ImageIcon("images/sunset.jpg")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JLabel label = new JLabel("</a:t>
            </a:r>
            <a:r>
              <a:rPr b="0" lang="ko-KR" sz="1600" spc="-1" strike="noStrike">
                <a:solidFill>
                  <a:srgbClr val="000000"/>
                </a:solidFill>
                <a:latin typeface="Tw Cen MT"/>
              </a:rPr>
              <a:t>사랑합니다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", image, SwingConstants.CENTER)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슬라이드 번호 개체 틀 6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9422-22E7-4C30-B8D9-924024CABA0E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"/>
          <p:cNvPicPr/>
          <p:nvPr/>
        </p:nvPicPr>
        <p:blipFill>
          <a:blip r:embed="rId1"/>
          <a:stretch/>
        </p:blipFill>
        <p:spPr>
          <a:xfrm>
            <a:off x="5319720" y="1143000"/>
            <a:ext cx="3540240" cy="531036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예제 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11-1 : JLabel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컴포넌트 생성 예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588" name="직사각형 6"/>
          <p:cNvSpPr/>
          <p:nvPr/>
        </p:nvSpPr>
        <p:spPr>
          <a:xfrm>
            <a:off x="214200" y="1071720"/>
            <a:ext cx="4786560" cy="5934600"/>
          </a:xfrm>
          <a:prstGeom prst="rect">
            <a:avLst/>
          </a:prstGeom>
          <a:solidFill>
            <a:srgbClr val="d4e2ed"/>
          </a:solidFill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x.swing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.awt.event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port java.awt.*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public class LabelEx extends JFrame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ainer contentPane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LabelEx(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Title("</a:t>
            </a:r>
            <a:r>
              <a:rPr b="0" lang="ko-KR" sz="1200" spc="-1" strike="noStrike">
                <a:solidFill>
                  <a:srgbClr val="000000"/>
                </a:solidFill>
                <a:latin typeface="Tw Cen MT"/>
              </a:rPr>
              <a:t>레이블 예제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DefaultCloseOperation(JFrame.</a:t>
            </a:r>
            <a:r>
              <a:rPr b="0" i="1" lang="en-US" sz="1200" spc="-1" strike="noStrike">
                <a:solidFill>
                  <a:srgbClr val="000000"/>
                </a:solidFill>
                <a:latin typeface="Tw Cen MT"/>
              </a:rPr>
              <a:t>EXIT_ON_CLOS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 = getContentPane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setLayout(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FlowLayout()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JLabel textLabel 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JLabel("</a:t>
            </a:r>
            <a:r>
              <a:rPr b="1" lang="ko-KR" sz="1200" spc="-1" strike="noStrike">
                <a:solidFill>
                  <a:srgbClr val="000000"/>
                </a:solidFill>
                <a:latin typeface="Tw Cen MT"/>
              </a:rPr>
              <a:t>사랑합니다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.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ageIcon beauty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ImageIcon("images/beauty.jpg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JLabel imageLabel 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JLabel(beauty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mageIcon normalIcon 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ImageIcon("images/normalIcon.gif"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JLabel label 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new JLabel("</a:t>
            </a:r>
            <a:r>
              <a:rPr b="1" lang="ko-KR" sz="1200" spc="-1" strike="noStrike">
                <a:solidFill>
                  <a:srgbClr val="000000"/>
                </a:solidFill>
                <a:latin typeface="Tw Cen MT"/>
              </a:rPr>
              <a:t>보고싶으면 전화하세요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", normalIcon,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SwingConstants.</a:t>
            </a:r>
            <a:r>
              <a:rPr b="1" i="1" lang="en-US" sz="1200" spc="-1" strike="noStrike">
                <a:solidFill>
                  <a:srgbClr val="000000"/>
                </a:solidFill>
                <a:latin typeface="Tw Cen MT"/>
              </a:rPr>
              <a:t>CENTER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add(textLabel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add(imageLabel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ntentPane.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add(label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Size(400,600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tVisible(</a:t>
            </a:r>
            <a:r>
              <a:rPr b="1" lang="en-US" sz="1200" spc="-1" strike="noStrike">
                <a:solidFill>
                  <a:srgbClr val="000000"/>
                </a:solidFill>
                <a:latin typeface="Tw Cen MT"/>
              </a:rPr>
              <a:t>true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ublic static void main(String [] args) {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new LabelEx()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자유형 7"/>
          <p:cNvSpPr/>
          <p:nvPr/>
        </p:nvSpPr>
        <p:spPr>
          <a:xfrm>
            <a:off x="3365640" y="1484280"/>
            <a:ext cx="3367080" cy="1735200"/>
          </a:xfrm>
          <a:custGeom>
            <a:avLst/>
            <a:gdLst/>
            <a:ahLst/>
            <a:rect l="l" t="t" r="r" b="b"/>
            <a:pathLst>
              <a:path w="3453319" h="1583987">
                <a:moveTo>
                  <a:pt x="0" y="1583987"/>
                </a:moveTo>
                <a:cubicBezTo>
                  <a:pt x="94844" y="1575881"/>
                  <a:pt x="189689" y="1567775"/>
                  <a:pt x="369651" y="1476983"/>
                </a:cubicBezTo>
                <a:cubicBezTo>
                  <a:pt x="549613" y="1386192"/>
                  <a:pt x="872247" y="1227306"/>
                  <a:pt x="1079770" y="1039238"/>
                </a:cubicBezTo>
                <a:cubicBezTo>
                  <a:pt x="1287293" y="851170"/>
                  <a:pt x="1416996" y="513945"/>
                  <a:pt x="1614792" y="348575"/>
                </a:cubicBezTo>
                <a:cubicBezTo>
                  <a:pt x="1812588" y="183205"/>
                  <a:pt x="1960124" y="94034"/>
                  <a:pt x="2266545" y="47017"/>
                </a:cubicBezTo>
                <a:cubicBezTo>
                  <a:pt x="2572966" y="0"/>
                  <a:pt x="3013142" y="33236"/>
                  <a:pt x="3453319" y="66472"/>
                </a:cubicBezTo>
              </a:path>
            </a:pathLst>
          </a:custGeom>
          <a:noFill/>
          <a:ln w="10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자유형 8"/>
          <p:cNvSpPr/>
          <p:nvPr/>
        </p:nvSpPr>
        <p:spPr>
          <a:xfrm>
            <a:off x="3375000" y="3429000"/>
            <a:ext cx="2349360" cy="250920"/>
          </a:xfrm>
          <a:custGeom>
            <a:avLst/>
            <a:gdLst/>
            <a:ahLst/>
            <a:rect l="l" t="t" r="r" b="b"/>
            <a:pathLst>
              <a:path w="2130357" h="207524">
                <a:moveTo>
                  <a:pt x="0" y="175098"/>
                </a:moveTo>
                <a:cubicBezTo>
                  <a:pt x="261836" y="191311"/>
                  <a:pt x="523673" y="207524"/>
                  <a:pt x="778213" y="194554"/>
                </a:cubicBezTo>
                <a:cubicBezTo>
                  <a:pt x="1032753" y="181584"/>
                  <a:pt x="1301885" y="129703"/>
                  <a:pt x="1527242" y="97277"/>
                </a:cubicBezTo>
                <a:cubicBezTo>
                  <a:pt x="1752599" y="64851"/>
                  <a:pt x="1941478" y="32425"/>
                  <a:pt x="2130357" y="0"/>
                </a:cubicBezTo>
              </a:path>
            </a:pathLst>
          </a:custGeom>
          <a:noFill/>
          <a:ln w="10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1" name="자유형 9"/>
          <p:cNvSpPr/>
          <p:nvPr/>
        </p:nvSpPr>
        <p:spPr>
          <a:xfrm>
            <a:off x="3794040" y="4181400"/>
            <a:ext cx="2362320" cy="1335240"/>
          </a:xfrm>
          <a:custGeom>
            <a:avLst/>
            <a:gdLst/>
            <a:ahLst/>
            <a:rect l="l" t="t" r="r" b="b"/>
            <a:pathLst>
              <a:path w="2461098" h="1703961">
                <a:moveTo>
                  <a:pt x="0" y="1621"/>
                </a:moveTo>
                <a:cubicBezTo>
                  <a:pt x="111057" y="810"/>
                  <a:pt x="222115" y="0"/>
                  <a:pt x="340468" y="50259"/>
                </a:cubicBezTo>
                <a:cubicBezTo>
                  <a:pt x="458821" y="100518"/>
                  <a:pt x="575553" y="95655"/>
                  <a:pt x="710119" y="303178"/>
                </a:cubicBezTo>
                <a:cubicBezTo>
                  <a:pt x="844685" y="510701"/>
                  <a:pt x="856034" y="1061935"/>
                  <a:pt x="1147864" y="1295399"/>
                </a:cubicBezTo>
                <a:cubicBezTo>
                  <a:pt x="1439694" y="1528863"/>
                  <a:pt x="1950396" y="1616412"/>
                  <a:pt x="2461098" y="1703961"/>
                </a:cubicBezTo>
              </a:path>
            </a:pathLst>
          </a:custGeom>
          <a:noFill/>
          <a:ln w="10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슬라이드 번호 개체 틀 10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E2BF-9979-4760-91DD-DD1F6A4DF67B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6215040" y="3857760"/>
            <a:ext cx="2381400" cy="142848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JButton,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버튼</a:t>
            </a:r>
            <a:r>
              <a:rPr b="0" lang="en-US" sz="3200" spc="-1" strike="noStrike">
                <a:solidFill>
                  <a:srgbClr val="775f55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775f55"/>
                </a:solidFill>
                <a:latin typeface="맑은 고딕"/>
              </a:rPr>
              <a:t>컴포넌트</a:t>
            </a:r>
            <a:endParaRPr b="0" lang="en-US" sz="3200" spc="-1" strike="noStrike">
              <a:solidFill>
                <a:srgbClr val="775f55"/>
              </a:solidFill>
              <a:latin typeface="맑은 고딕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12720" y="1285920"/>
            <a:ext cx="8153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버튼 컴포넌트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버튼 모양의 컴포넌트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버튼은 클릭될 때 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Action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이벤트를 발생시킴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버튼 컴포넌트 생성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JButton()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텍스트나 이미지 아이콘를 가지지 않은 디폴트 버튼 생성</a:t>
            </a:r>
            <a:endParaRPr b="0" lang="en-US" sz="17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JButton(Icon icon)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이미지 아이콘만을 가진 버튼 생성</a:t>
            </a:r>
            <a:endParaRPr b="0" lang="en-US" sz="17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JButton(String text)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텍스트만을 가진 버튼 생성</a:t>
            </a:r>
            <a:endParaRPr b="0" lang="en-US" sz="1700" spc="-1" strike="noStrike">
              <a:solidFill>
                <a:srgbClr val="000000"/>
              </a:solidFill>
              <a:latin typeface="휴먼편지체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JButton(String text, Icon icon)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휴먼편지체"/>
              </a:rPr>
              <a:t>텍스트와 이미지 아이콘을 모두 가진 버튼 생성</a:t>
            </a:r>
            <a:endParaRPr b="0" lang="en-US" sz="1700" spc="-1" strike="noStrike">
              <a:solidFill>
                <a:srgbClr val="000000"/>
              </a:solidFill>
              <a:latin typeface="휴먼편지체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맑은 고딕"/>
              </a:rPr>
              <a:t>버튼 컴포넌트 생성 예</a:t>
            </a:r>
            <a:endParaRPr b="0" lang="en-US" sz="22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hello” 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문자열을 가진 버튼 컴포넌트 생성 예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6" name="TextBox 4"/>
          <p:cNvSpPr/>
          <p:nvPr/>
        </p:nvSpPr>
        <p:spPr>
          <a:xfrm>
            <a:off x="6396120" y="550692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버튼 이미지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TextBox 5"/>
          <p:cNvSpPr/>
          <p:nvPr/>
        </p:nvSpPr>
        <p:spPr>
          <a:xfrm>
            <a:off x="7819200" y="550692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w Cen MT"/>
              </a:rPr>
              <a:t>버튼 문자열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자유형 6"/>
          <p:cNvSpPr/>
          <p:nvPr/>
        </p:nvSpPr>
        <p:spPr>
          <a:xfrm>
            <a:off x="7843680" y="4651200"/>
            <a:ext cx="392400" cy="874800"/>
          </a:xfrm>
          <a:custGeom>
            <a:avLst/>
            <a:gdLst/>
            <a:ahLst/>
            <a:rect l="l" t="t" r="r" b="b"/>
            <a:pathLst>
              <a:path w="604736" h="875490">
                <a:moveTo>
                  <a:pt x="535021" y="875490"/>
                </a:moveTo>
                <a:cubicBezTo>
                  <a:pt x="569878" y="753894"/>
                  <a:pt x="604736" y="632298"/>
                  <a:pt x="515566" y="486383"/>
                </a:cubicBezTo>
                <a:cubicBezTo>
                  <a:pt x="426396" y="340468"/>
                  <a:pt x="213198" y="170234"/>
                  <a:pt x="0" y="0"/>
                </a:cubicBezTo>
              </a:path>
            </a:pathLst>
          </a:custGeom>
          <a:noFill/>
          <a:ln w="10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자유형 8"/>
          <p:cNvSpPr/>
          <p:nvPr/>
        </p:nvSpPr>
        <p:spPr>
          <a:xfrm>
            <a:off x="6910560" y="4863960"/>
            <a:ext cx="166680" cy="681120"/>
          </a:xfrm>
          <a:custGeom>
            <a:avLst/>
            <a:gdLst/>
            <a:ahLst/>
            <a:rect l="l" t="t" r="r" b="b"/>
            <a:pathLst>
              <a:path w="165370" h="680936">
                <a:moveTo>
                  <a:pt x="0" y="680936"/>
                </a:moveTo>
                <a:cubicBezTo>
                  <a:pt x="810" y="543127"/>
                  <a:pt x="1621" y="405319"/>
                  <a:pt x="29183" y="291830"/>
                </a:cubicBezTo>
                <a:cubicBezTo>
                  <a:pt x="56745" y="178341"/>
                  <a:pt x="111057" y="89170"/>
                  <a:pt x="165370" y="0"/>
                </a:cubicBezTo>
              </a:path>
            </a:pathLst>
          </a:custGeom>
          <a:noFill/>
          <a:ln w="10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직사각형 9"/>
          <p:cNvSpPr/>
          <p:nvPr/>
        </p:nvSpPr>
        <p:spPr>
          <a:xfrm>
            <a:off x="1513080" y="6000840"/>
            <a:ext cx="3875040" cy="368280"/>
          </a:xfrm>
          <a:prstGeom prst="rect">
            <a:avLst/>
          </a:prstGeom>
          <a:solidFill>
            <a:srgbClr val="d4e2ed"/>
          </a:solidFill>
          <a:ln w="93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JButton btn = new JButton("hello")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슬라이드 번호 개체 틀 10"/>
          <p:cNvSpPr/>
          <p:nvPr/>
        </p:nvSpPr>
        <p:spPr>
          <a:xfrm>
            <a:off x="0" y="9921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E99D-B76E-416B-880D-FDE6449B25A9}" type="slidenum">
              <a:rPr b="1" lang="ko-K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01:24:33Z</dcterms:created>
  <dc:creator>황기태</dc:creator>
  <dc:description/>
  <dc:language>en-US</dc:language>
  <cp:lastModifiedBy>COMGAL</cp:lastModifiedBy>
  <dcterms:modified xsi:type="dcterms:W3CDTF">2011-08-27T00:35:30Z</dcterms:modified>
  <cp:revision>447</cp:revision>
  <dc:subject/>
  <dc:title>슬라이드 1</dc:title>
</cp:coreProperties>
</file>