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8CA8-F35A-4FC1-849E-0D59C50EF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3D60-302C-4E2D-8CC2-6E56216CB2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D1F5-FA85-4B05-B01B-A2851E70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004D-1431-450F-8943-712F5888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F9CC8-E2DE-449C-B036-FC670FAF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AA5F9-37F5-4CFB-90E9-786DD11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74102-A409-4F45-9422-031076D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E58C3-F1D5-468D-A158-B48F317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58CE4-8F4B-43B0-9B6C-E80943BB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A18F4-D95D-4201-B1B8-0683719E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F8D35-4B51-4C52-AB39-5E1EB716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88CD9-146A-43D1-AEF1-AB06E5AE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3F83-A00D-4FED-9B12-66B49C361B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1D339-FFFC-4CD6-883D-168AB56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781BC-72FE-4EEF-9872-AB11761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C01F5-AF76-4CAC-9F88-F174159F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01328-7EFC-42A8-B3F3-37D467D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F7F07-3601-4065-A709-3251528B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9F17C-37C2-434D-8192-82EE981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574F8-2D28-4C59-A364-A1B5DB0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338BA-B95B-49CF-B62A-7C99E9C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F6704-6599-47C3-9D57-91A911E5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8967E-5D06-44B3-BD59-12149DE4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7751-B225-413A-8195-8841874896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AF57B-E581-40C8-93B2-A92018F6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A4FE4-A24A-4566-8BCE-C0E2A70A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38CAA7-A574-4303-891F-374096B3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E7AFAC-BABA-4614-97D1-962271A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7F8DF4-C394-4521-A1E8-CB9B879E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DA58C-D24E-42E4-B95B-DECE372C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84FD22-CDE2-47F3-BBFE-D7770FE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BC60D3-F7ED-4662-9766-44118F4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2D4A21-F21D-4C3D-8055-9BF46B0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81B5FF-A628-4137-9350-AEEEFF6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CED6C-7255-43FD-9898-F7E421A7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862A3B-2291-412E-B755-2F209FF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4B340F-16CC-40EA-A378-234E9BDC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3E31D-977F-4216-99DD-0F7F85A4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1070C-41B2-4191-A811-7D6A35B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9BA10-60D4-4EFA-8466-4D35A6C0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2B6B9-E149-4F61-A05F-18CBF720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49F04-AA8D-46B7-AAA1-505ECA0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9ACAE-B556-4269-BA7F-182D5984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3B49C-853A-4834-AFDB-E1C48C9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FCE9-1D9C-4FE3-8871-76C04D557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EED32-DE60-48B2-98BB-FB43F65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528D-EA99-484E-878F-7C1ACE9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54F24-CFD4-47E8-8AF6-5FE562D1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25895-4D40-42E9-8BFF-DF334420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2DC2C-0C6C-4CF1-9A5E-3B15ACF6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FC6E-6D0B-432D-B554-6801BB3D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5AC-BDDE-4D31-B0A3-F3E137F1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4291-9ACD-4C67-BFF3-5ECC0B8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977-247E-4802-B9A8-6D29ECFF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B387-8146-4F6B-9C25-787BC3D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6AFE-577B-4386-AD10-199D8750F5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9398-88A5-4124-A850-BAD5F058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14A-413C-4A76-A375-B607550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D3E4-23CA-49F1-B999-DC2758C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D5B9-B9FF-41DC-8EEE-AA72A8D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885-C11F-4591-9B71-DE853C6E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F941-DDB0-4606-9332-6A3DD9F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107D-40C0-4146-826F-815E3748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78EE-1F34-476A-90AA-AB238639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9307-4A02-42BB-B6E8-5C286E3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F275-F1AA-40A4-8F3C-38658A6F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945B-70DE-4F45-BF2A-000EF8CEBF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5759-2B7F-4861-994F-EE21DD85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EDE9-C4E0-4994-AACF-2C30724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362F-5FBE-402E-BF75-60E18D0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8B8A-C715-4BAF-92FA-998DBF2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EB0B-DC0A-442C-8698-07AEA7F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846B-CE48-4096-90E3-7778864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1688-CA1C-4FD9-A627-72CA4A6A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E77A-8762-43F7-92BB-5E7CCE4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0FC0-967E-4BED-AE0C-5609DD67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3021-5E99-4F45-ADF6-139CEFD6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9992-9735-46E3-A539-C69D7D67AF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A0EC-812C-439A-928C-851C47E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11D4-AAFB-436C-8ADD-83E10F7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1C31-0EF9-424B-AEE8-B4F0298D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4B4E-FA24-411B-9E9D-B79FF85F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3D8C-2378-49C7-AE5B-6F1C6DA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8810-86C8-4AA7-A749-0BCAC72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AE98-CD38-4AA5-9FB5-560604B0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8EBF-ABC6-4605-A817-8490ABA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3EC5-06A7-4D6F-A551-B968292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F007D-C1E6-4184-A88B-7650972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596A-55E0-4589-B476-83D48C6C69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F40A-9365-4AD9-A53D-624BD920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9945D9-9375-4302-89F8-ED32A576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43237-85EF-480F-95C0-4AECBA5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AC3AE2-BAF2-408E-87EF-D959DC0F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0F8A5-6966-475E-9C17-0792C3B4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EDBF0-E46C-4E9D-BB51-CAD7DDD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30B94-F4ED-42D3-AF52-774C509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7BD76-7DE2-46A6-87A6-AE64E04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F284E-ABDA-48DF-A927-852205E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5C444-0898-497E-97A1-FA09132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7A9F-7925-4F06-AF85-5D8C18B828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400F6-6CD4-4048-A16D-A9C435F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298C1-9C8D-462A-A623-77FE7523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2252B-A3AA-419A-86E6-ED1EBA0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164E35-C706-4FE2-8C67-F00F5A44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D2444-1818-412E-A197-D4602CE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51A9BC-FC6E-41B4-87D6-FA58CDAD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3F62E-0FF8-4EAA-AB4A-DB1C762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05F1C-6805-4825-86D4-5907AE1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C6EE48-D817-483A-8101-B09849C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2865F-48B7-4C51-B1E8-47CF76F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5A04-4D17-45A1-80CF-D41EB79696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6212F7-623D-4B4B-B5BB-1E150A4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E9DE55-AFC8-4EBF-8C49-1FD540F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E7B1A-44F0-498D-9A9A-412CF94A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D1506-811C-4006-ADF7-A9111B75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79C8B-9B3C-4811-B0FB-9F5C58B0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F766F-8B0B-4F0A-9C7C-FD400340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E30FB3-AEFC-4CF4-BE3C-DA3CA2D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75AAF5-A151-4F30-8DA0-3486F9C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5BF358-4732-476B-89BE-825E888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FDDF5-87EA-4B5D-B999-8435F64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1549-9CEE-4BAA-9106-7CE5648B7F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F2BDC3-2ABE-419B-BF20-8BF6D251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5CC6C-E0F9-41B3-A605-C11F48EF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95D7A-C208-47EA-9CB3-0D81A603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586D88-97F2-46A9-B557-52BDC0A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FD436-5109-4ABD-B238-324D9A3F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40851-45EC-48FC-A57D-E501C243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A59DCD-05EE-4538-ADF5-3DC862E5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A9FCA-523C-49E2-A65F-F1BA5B28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23A23-6377-4C54-8EE2-EF9C3BF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9D60-6D76-457A-B7B6-64EB502D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D457-9606-43A6-A7A3-5AAB6A9865ED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9AA-5FDE-4355-9680-141368FD732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8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340-DD64-4001-A41B-0E30979C623D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C245-3505-457A-8570-7AC1D30B149E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F5F-74D0-4D63-9E48-6005C8803A80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3055-A5B2-46EE-BC01-AEBF2C2966F2}" type="datetime"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26年 7月 29日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00"/>
                </a:solidFill>
                <a:latin typeface="HY나무M"/>
                <a:ea typeface="HY나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9F5-5AF3-4579-865F-9CA276FDAFEC}" type="slidenum">
              <a:rPr b="1" lang="ko-K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1BF0-B164-444F-9A41-87DE91FD5EF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A22-E175-4AB8-9BE6-8183A2DE1686}" type="slidenum"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3F9-B018-4FB8-B3EC-B21B65D5EAB6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AA9-E60B-4D94-9D3F-CD824C27DCB9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EE2-C1DE-43E4-9F50-8D8DA2E8E60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BF0D-7B8C-4578-9D94-3D3A3AF440DA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68C-EB1E-48F3-922B-20AB84845B04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E48-402E-4CD8-90E3-48CCC325F36A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709-69E0-4C2F-871B-1A886B16B7C0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3252-A279-4A5B-89C9-63724C38A1B8}" type="slidenum">
              <a:rPr b="1" lang="ko-K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289-5D44-4E68-B835-138A67B18363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E98-0483-4D62-8273-30FD1C348EAC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2EA-60C0-47AC-9029-9AFA91E94438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ADE-8551-4FF0-8FE6-21C635546EB5}" type="slidenum">
              <a:rPr b="1" lang="ko-K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제 </a:t>
            </a: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13 </a:t>
            </a: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장 스레드와 멀티태스킹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82" name="슬라이드 번호 개체 틀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9EF-4BB4-42A6-B448-9BC5AFC329EC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바닥글 개체 틀 4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Thread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래스의 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28400" y="1500120"/>
            <a:ext cx="40669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Thread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Thread(Runnable target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Thread(String name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Thread(Runnable target, String name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시작시키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void start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코드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void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run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 잠자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static void sleep(long mills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다른 스레드 죽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void interrupt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다른 스레드에게 양보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static void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yield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현재 스레드의 실행을 중단하고 다른 스레드가 실행될 수 있도록 양보한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1640" y="1589040"/>
            <a:ext cx="4159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다른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가 죽을 때까지 기다리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void join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현재 스레드 객체 알아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static Thread currentThread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 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ID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알아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long getId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이름 알아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String getName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우선순위값 알아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n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getPriority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스레드의 상태 알아내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Thread.State getState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7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564D-ECB9-4581-AEC4-F566A4E1B5A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바닥글 개체 틀 5"/>
          <p:cNvSpPr/>
          <p:nvPr/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명품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Thread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래스를 이용한 스레드 생성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13840" y="1285920"/>
            <a:ext cx="5031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클래스 작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read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래스 상속받아 새 클래스 작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코드 작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오버라이딩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를 스레드 코드라고 부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에서 스레드 실행 시작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객체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시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 호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1" name="직사각형 5"/>
          <p:cNvSpPr/>
          <p:nvPr/>
        </p:nvSpPr>
        <p:spPr>
          <a:xfrm>
            <a:off x="5429160" y="1285920"/>
            <a:ext cx="3357720" cy="22842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TimerThread extends Thread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void run() { // run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오버라이딩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직사각형 6"/>
          <p:cNvSpPr/>
          <p:nvPr/>
        </p:nvSpPr>
        <p:spPr>
          <a:xfrm>
            <a:off x="5429160" y="4071960"/>
            <a:ext cx="3357720" cy="5806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imerThread th = new TimerThread();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직사각형 7"/>
          <p:cNvSpPr/>
          <p:nvPr/>
        </p:nvSpPr>
        <p:spPr>
          <a:xfrm>
            <a:off x="5358600" y="4572000"/>
            <a:ext cx="1052280" cy="33732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14" name="직선 화살표 연결선 9"/>
          <p:cNvCxnSpPr/>
          <p:nvPr/>
        </p:nvCxnSpPr>
        <p:spPr>
          <a:xfrm flipV="1">
            <a:off x="3499920" y="1499400"/>
            <a:ext cx="2001240" cy="723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5" name="직선 화살표 연결선 11"/>
          <p:cNvCxnSpPr/>
          <p:nvPr/>
        </p:nvCxnSpPr>
        <p:spPr>
          <a:xfrm flipV="1">
            <a:off x="3285720" y="2214360"/>
            <a:ext cx="2429640" cy="4291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6" name="직선 화살표 연결선 13"/>
          <p:cNvCxnSpPr>
            <a:endCxn id="612" idx="1"/>
          </p:cNvCxnSpPr>
          <p:nvPr/>
        </p:nvCxnSpPr>
        <p:spPr>
          <a:xfrm flipV="1">
            <a:off x="3214440" y="4241160"/>
            <a:ext cx="2215080" cy="450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7" name="직선 화살표 연결선 16"/>
          <p:cNvCxnSpPr>
            <a:endCxn id="613" idx="1"/>
          </p:cNvCxnSpPr>
          <p:nvPr/>
        </p:nvCxnSpPr>
        <p:spPr>
          <a:xfrm flipV="1">
            <a:off x="3285720" y="4741200"/>
            <a:ext cx="2143800" cy="450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8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D2C-6FB0-4446-96FE-0B8C80C5F9A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직사각형 3"/>
          <p:cNvSpPr/>
          <p:nvPr/>
        </p:nvSpPr>
        <p:spPr>
          <a:xfrm>
            <a:off x="2643120" y="0"/>
            <a:ext cx="4572000" cy="325764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lass TimerThread extends Thread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 n = 0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while(true) {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//</a:t>
            </a:r>
            <a:r>
              <a:rPr b="0" i="1" lang="ko-KR" sz="1600" spc="-1" strike="noStrike">
                <a:solidFill>
                  <a:srgbClr val="bfbfbf"/>
                </a:solidFill>
                <a:latin typeface="Tw Cen MT"/>
              </a:rPr>
              <a:t>무한루프를 실행한다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ystem.out.println(n);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w Cen MT"/>
              </a:rPr>
              <a:t>sleep(1000); 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//1</a:t>
            </a:r>
            <a:r>
              <a:rPr b="0" i="1" lang="ko-KR" sz="1600" spc="-1" strike="noStrike">
                <a:solidFill>
                  <a:srgbClr val="bfbfbf"/>
                </a:solidFill>
                <a:latin typeface="Tw Cen MT"/>
              </a:rPr>
              <a:t>초동안 잠을 잔 후 깨어난다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atch(InterruptedException e){return;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직사각형 4"/>
          <p:cNvSpPr/>
          <p:nvPr/>
        </p:nvSpPr>
        <p:spPr>
          <a:xfrm>
            <a:off x="2643120" y="3429000"/>
            <a:ext cx="4572000" cy="155412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class TestThread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static void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in(String [] args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imerThread th =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w TimerThread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순서도: 처리 8"/>
          <p:cNvSpPr/>
          <p:nvPr/>
        </p:nvSpPr>
        <p:spPr>
          <a:xfrm>
            <a:off x="549360" y="3875040"/>
            <a:ext cx="1214280" cy="407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객체 생성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순서도: 처리 9"/>
          <p:cNvSpPr/>
          <p:nvPr/>
        </p:nvSpPr>
        <p:spPr>
          <a:xfrm>
            <a:off x="549360" y="4160880"/>
            <a:ext cx="1214280" cy="407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시작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순서도: 처리 10"/>
          <p:cNvSpPr/>
          <p:nvPr/>
        </p:nvSpPr>
        <p:spPr>
          <a:xfrm>
            <a:off x="571680" y="0"/>
            <a:ext cx="1214280" cy="409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클래스 정의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순서도: 처리 11"/>
          <p:cNvSpPr/>
          <p:nvPr/>
        </p:nvSpPr>
        <p:spPr>
          <a:xfrm>
            <a:off x="571680" y="500040"/>
            <a:ext cx="1214280" cy="409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코드 작성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7500960" y="3500280"/>
            <a:ext cx="928800" cy="2357640"/>
          </a:xfrm>
          <a:prstGeom prst="rect">
            <a:avLst/>
          </a:prstGeom>
          <a:solidFill>
            <a:srgbClr val="d9d9d9"/>
          </a:solidFill>
          <a:ln w="936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7533360" y="3143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실행 결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직사각형 14"/>
          <p:cNvSpPr/>
          <p:nvPr/>
        </p:nvSpPr>
        <p:spPr>
          <a:xfrm>
            <a:off x="2857680" y="571680"/>
            <a:ext cx="4143240" cy="2425680"/>
          </a:xfrm>
          <a:prstGeom prst="rect">
            <a:avLst/>
          </a:prstGeom>
          <a:noFill/>
          <a:ln w="9360">
            <a:solidFill>
              <a:srgbClr val="558b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28" name="직선 화살표 연결선 20"/>
          <p:cNvCxnSpPr>
            <a:stCxn id="623" idx="3"/>
          </p:cNvCxnSpPr>
          <p:nvPr/>
        </p:nvCxnSpPr>
        <p:spPr>
          <a:xfrm>
            <a:off x="1785600" y="204840"/>
            <a:ext cx="85788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29" name="직선 화살표 연결선 22"/>
          <p:cNvCxnSpPr>
            <a:stCxn id="624" idx="3"/>
          </p:cNvCxnSpPr>
          <p:nvPr/>
        </p:nvCxnSpPr>
        <p:spPr>
          <a:xfrm>
            <a:off x="1785600" y="704880"/>
            <a:ext cx="107244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30" name="직선 화살표 연결선 25"/>
          <p:cNvCxnSpPr/>
          <p:nvPr/>
        </p:nvCxnSpPr>
        <p:spPr>
          <a:xfrm>
            <a:off x="1763640" y="4079880"/>
            <a:ext cx="92952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31" name="직선 화살표 연결선 27"/>
          <p:cNvCxnSpPr/>
          <p:nvPr/>
        </p:nvCxnSpPr>
        <p:spPr>
          <a:xfrm>
            <a:off x="1763640" y="4365720"/>
            <a:ext cx="92952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632" name="왼쪽 중괄호 30"/>
          <p:cNvSpPr/>
          <p:nvPr/>
        </p:nvSpPr>
        <p:spPr>
          <a:xfrm>
            <a:off x="2928960" y="907920"/>
            <a:ext cx="285840" cy="1800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60480 h 1800360"/>
              <a:gd name="textAreaBottom" fmla="*/ 17398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3"/>
                  <a:pt x="10800" y="2325"/>
                </a:cubicBezTo>
                <a:lnTo>
                  <a:pt x="10800" y="8475"/>
                </a:lnTo>
                <a:cubicBezTo>
                  <a:pt x="10800" y="9638"/>
                  <a:pt x="5400" y="10800"/>
                  <a:pt x="0" y="10800"/>
                </a:cubicBezTo>
                <a:cubicBezTo>
                  <a:pt x="5400" y="10800"/>
                  <a:pt x="10800" y="11963"/>
                  <a:pt x="10800" y="13125"/>
                </a:cubicBezTo>
                <a:lnTo>
                  <a:pt x="10800" y="19275"/>
                </a:lnTo>
                <a:cubicBezTo>
                  <a:pt x="10800" y="204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d4e2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순서도: 처리 31"/>
          <p:cNvSpPr/>
          <p:nvPr/>
        </p:nvSpPr>
        <p:spPr>
          <a:xfrm>
            <a:off x="1042920" y="1341360"/>
            <a:ext cx="1297080" cy="928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초에 한 번씩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을 증가시켜 콘솔에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출력한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34" name="직선 화살표 연결선 33"/>
          <p:cNvCxnSpPr>
            <a:stCxn id="633" idx="3"/>
            <a:endCxn id="632" idx="1"/>
          </p:cNvCxnSpPr>
          <p:nvPr/>
        </p:nvCxnSpPr>
        <p:spPr>
          <a:xfrm>
            <a:off x="2340000" y="1804680"/>
            <a:ext cx="589680" cy="39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635" name="타원 18"/>
          <p:cNvSpPr/>
          <p:nvPr/>
        </p:nvSpPr>
        <p:spPr>
          <a:xfrm>
            <a:off x="5292720" y="5373720"/>
            <a:ext cx="1366920" cy="79200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un(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타원 19"/>
          <p:cNvSpPr/>
          <p:nvPr/>
        </p:nvSpPr>
        <p:spPr>
          <a:xfrm>
            <a:off x="2987640" y="5445000"/>
            <a:ext cx="1571760" cy="57636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TextBox 21"/>
          <p:cNvSpPr/>
          <p:nvPr/>
        </p:nvSpPr>
        <p:spPr>
          <a:xfrm>
            <a:off x="3030120" y="5016600"/>
            <a:ext cx="12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in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TextBox 23"/>
          <p:cNvSpPr/>
          <p:nvPr/>
        </p:nvSpPr>
        <p:spPr>
          <a:xfrm>
            <a:off x="5068800" y="501336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imerThread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직사각형 24"/>
          <p:cNvSpPr/>
          <p:nvPr/>
        </p:nvSpPr>
        <p:spPr>
          <a:xfrm>
            <a:off x="3559320" y="5608800"/>
            <a:ext cx="428400" cy="24588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40" name="직선 화살표 연결선 26"/>
          <p:cNvCxnSpPr>
            <a:endCxn id="635" idx="2"/>
          </p:cNvCxnSpPr>
          <p:nvPr/>
        </p:nvCxnSpPr>
        <p:spPr>
          <a:xfrm>
            <a:off x="3851280" y="5732280"/>
            <a:ext cx="1442160" cy="37080"/>
          </a:xfrm>
          <a:prstGeom prst="straightConnector1">
            <a:avLst/>
          </a:prstGeom>
          <a:ln w="28440">
            <a:solidFill>
              <a:srgbClr val="a17c36"/>
            </a:solidFill>
            <a:miter/>
            <a:tailEnd len="med" type="triangle" w="med"/>
          </a:ln>
        </p:spPr>
      </p:cxnSp>
      <p:sp>
        <p:nvSpPr>
          <p:cNvPr id="641" name="직사각형 46"/>
          <p:cNvSpPr/>
          <p:nvPr/>
        </p:nvSpPr>
        <p:spPr>
          <a:xfrm>
            <a:off x="2340000" y="6165720"/>
            <a:ext cx="4753080" cy="62100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TextBox 47"/>
          <p:cNvSpPr/>
          <p:nvPr/>
        </p:nvSpPr>
        <p:spPr>
          <a:xfrm>
            <a:off x="2341440" y="63817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대각선 방향의 모서리가 둥근 사각형 48"/>
          <p:cNvSpPr/>
          <p:nvPr/>
        </p:nvSpPr>
        <p:spPr>
          <a:xfrm>
            <a:off x="5364000" y="6264360"/>
            <a:ext cx="1368720" cy="404640"/>
          </a:xfrm>
          <a:prstGeom prst="pie">
            <a:avLst/>
          </a:prstGeom>
          <a:solidFill>
            <a:srgbClr val="558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imerThread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의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직선 연결선 51"/>
          <p:cNvSpPr/>
          <p:nvPr/>
        </p:nvSpPr>
        <p:spPr>
          <a:xfrm>
            <a:off x="4500720" y="6467400"/>
            <a:ext cx="863280" cy="0"/>
          </a:xfrm>
          <a:prstGeom prst="line">
            <a:avLst/>
          </a:prstGeom>
          <a:ln w="10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대각선 방향의 모서리가 둥근 사각형 54"/>
          <p:cNvSpPr/>
          <p:nvPr/>
        </p:nvSpPr>
        <p:spPr>
          <a:xfrm>
            <a:off x="3132000" y="6264360"/>
            <a:ext cx="1368720" cy="404640"/>
          </a:xfrm>
          <a:prstGeom prst="pie">
            <a:avLst/>
          </a:pr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ain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의 스레드 정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자유형 69"/>
          <p:cNvSpPr/>
          <p:nvPr/>
        </p:nvSpPr>
        <p:spPr>
          <a:xfrm>
            <a:off x="5315040" y="5589720"/>
            <a:ext cx="264960" cy="803160"/>
          </a:xfrm>
          <a:custGeom>
            <a:avLst/>
            <a:gdLst/>
            <a:ahLst/>
            <a:rect l="l" t="t" r="r" b="b"/>
            <a:pathLst>
              <a:path w="222955" h="880533">
                <a:moveTo>
                  <a:pt x="222955" y="880533"/>
                </a:moveTo>
                <a:cubicBezTo>
                  <a:pt x="139699" y="776816"/>
                  <a:pt x="56444" y="673100"/>
                  <a:pt x="28222" y="558800"/>
                </a:cubicBezTo>
                <a:cubicBezTo>
                  <a:pt x="0" y="444500"/>
                  <a:pt x="22578" y="287866"/>
                  <a:pt x="53622" y="194733"/>
                </a:cubicBezTo>
                <a:cubicBezTo>
                  <a:pt x="84666" y="101600"/>
                  <a:pt x="149577" y="50800"/>
                  <a:pt x="214488" y="0"/>
                </a:cubicBezTo>
              </a:path>
            </a:pathLst>
          </a:custGeom>
          <a:noFill/>
          <a:ln w="2844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직사각형 29"/>
          <p:cNvSpPr/>
          <p:nvPr/>
        </p:nvSpPr>
        <p:spPr>
          <a:xfrm>
            <a:off x="7286760" y="0"/>
            <a:ext cx="1857240" cy="1465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* Thread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를 상속받아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초 단위로 초 시간을 출력하는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imerThread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 작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슬라이드 번호 개체 틀 3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1865-06BE-4CEA-B8B1-10A16324190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3-1 : Thread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를 상속받아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초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단위의 타이머 만들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50" name="직사각형 3"/>
          <p:cNvSpPr/>
          <p:nvPr/>
        </p:nvSpPr>
        <p:spPr>
          <a:xfrm>
            <a:off x="4500720" y="1071720"/>
            <a:ext cx="3929040" cy="48394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ThreadTimer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ThreadTimer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“ThreadTimerEx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setLayout(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timerLabel = new JLab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imerLabel.setFont(new Font(“Gothic“, Font.ITALIC, 8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imerThread th = new TimerThread(time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time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ThreadTimer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직사각형 4"/>
          <p:cNvSpPr/>
          <p:nvPr/>
        </p:nvSpPr>
        <p:spPr>
          <a:xfrm>
            <a:off x="357120" y="1071720"/>
            <a:ext cx="3929040" cy="465696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TimerThread extends Thread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time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TimerThread(JLabel timerLabel) {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is.timerLabel = time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n=0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while(tru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imerLabel.setText(Integer.toString(n)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++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.sleep(10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atch(InterruptedException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447640" cy="1224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" descr=""/>
          <p:cNvPicPr/>
          <p:nvPr/>
        </p:nvPicPr>
        <p:blipFill>
          <a:blip r:embed="rId2"/>
          <a:stretch/>
        </p:blipFill>
        <p:spPr>
          <a:xfrm>
            <a:off x="3484440" y="5427720"/>
            <a:ext cx="2448000" cy="1224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3"/>
          <a:stretch/>
        </p:blipFill>
        <p:spPr>
          <a:xfrm>
            <a:off x="566640" y="5445000"/>
            <a:ext cx="2449440" cy="1224000"/>
          </a:xfrm>
          <a:prstGeom prst="rect">
            <a:avLst/>
          </a:prstGeom>
          <a:ln w="0">
            <a:noFill/>
          </a:ln>
        </p:spPr>
      </p:pic>
      <p:sp>
        <p:nvSpPr>
          <p:cNvPr id="655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21B-15D7-4797-A997-C15E3274F014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주의 사항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가 종료하면 스레드는 종료한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의 종료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가 종료하거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eturn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하는 경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가 무한이 존재하게 하려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 내에 무한 루프가 실행되어야 한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한번 종료한 스레드는 다시 시작시킬 수 없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 객체를 생성하여 다시 스레드로 등록하여야 한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한 스레드에서 다른 스레드를 강제 종료할 수 있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뒤에서 다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CB48-FA45-4258-ADF8-1B0F4ADB699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Runnable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인터페이스로 스레드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13840" y="1285920"/>
            <a:ext cx="5031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클래스 작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nabl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인터페이스 구현하는 새 클래스 작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코드 작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오버라이딩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를 스레드 코드라고 부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에서 스레드 실행 시작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객체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시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(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 호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1" name="직사각형 5"/>
          <p:cNvSpPr/>
          <p:nvPr/>
        </p:nvSpPr>
        <p:spPr>
          <a:xfrm>
            <a:off x="5214960" y="1357200"/>
            <a:ext cx="3714840" cy="22842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lass TimerRunnable implements Runnable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void run() { // run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메소드 오버라이딩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직사각형 6"/>
          <p:cNvSpPr/>
          <p:nvPr/>
        </p:nvSpPr>
        <p:spPr>
          <a:xfrm>
            <a:off x="4954680" y="4071960"/>
            <a:ext cx="3697560" cy="5806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read th =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ew Thread(new TimerRunnable()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직사각형 7"/>
          <p:cNvSpPr/>
          <p:nvPr/>
        </p:nvSpPr>
        <p:spPr>
          <a:xfrm>
            <a:off x="5144400" y="5000760"/>
            <a:ext cx="1052280" cy="33732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64" name="직선 화살표 연결선 8"/>
          <p:cNvCxnSpPr/>
          <p:nvPr/>
        </p:nvCxnSpPr>
        <p:spPr>
          <a:xfrm>
            <a:off x="3499920" y="1571760"/>
            <a:ext cx="1786680" cy="2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5" name="직선 화살표 연결선 9"/>
          <p:cNvCxnSpPr/>
          <p:nvPr/>
        </p:nvCxnSpPr>
        <p:spPr>
          <a:xfrm flipV="1">
            <a:off x="3214440" y="2071080"/>
            <a:ext cx="2215080" cy="5720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6" name="직선 화살표 연결선 10"/>
          <p:cNvCxnSpPr/>
          <p:nvPr/>
        </p:nvCxnSpPr>
        <p:spPr>
          <a:xfrm flipV="1">
            <a:off x="3214800" y="4214520"/>
            <a:ext cx="2000880" cy="720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7" name="직선 화살표 연결선 11"/>
          <p:cNvCxnSpPr>
            <a:endCxn id="663" idx="1"/>
          </p:cNvCxnSpPr>
          <p:nvPr/>
        </p:nvCxnSpPr>
        <p:spPr>
          <a:xfrm>
            <a:off x="3142800" y="5116320"/>
            <a:ext cx="2072520" cy="543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8" name="슬라이드 번호 개체 틀 1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C5A-FC20-40CB-9F02-23F2765C07E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3"/>
          <p:cNvSpPr/>
          <p:nvPr/>
        </p:nvSpPr>
        <p:spPr>
          <a:xfrm>
            <a:off x="2246400" y="0"/>
            <a:ext cx="5143320" cy="325764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lass TimerRunnable implements Runnable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 n = 0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while(true) {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//</a:t>
            </a:r>
            <a:r>
              <a:rPr b="0" i="1" lang="ko-KR" sz="1600" spc="-1" strike="noStrike">
                <a:solidFill>
                  <a:srgbClr val="bfbfbf"/>
                </a:solidFill>
                <a:latin typeface="Tw Cen MT"/>
              </a:rPr>
              <a:t>무한루프를 실행한다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ystem.out.println(n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w Cen MT"/>
              </a:rPr>
              <a:t>Thread.sleep(1000);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 //1</a:t>
            </a:r>
            <a:r>
              <a:rPr b="0" i="1" lang="ko-KR" sz="1600" spc="-1" strike="noStrike">
                <a:solidFill>
                  <a:srgbClr val="bfbfbf"/>
                </a:solidFill>
                <a:latin typeface="Tw Cen MT"/>
              </a:rPr>
              <a:t>초동안 잠을 잔 후 깨어난다</a:t>
            </a:r>
            <a:r>
              <a:rPr b="0" i="1" lang="en-US" sz="1600" spc="-1" strike="noStrike">
                <a:solidFill>
                  <a:srgbClr val="bfbfbf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atch(InterruptedException e){return;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직사각형 4"/>
          <p:cNvSpPr/>
          <p:nvPr/>
        </p:nvSpPr>
        <p:spPr>
          <a:xfrm>
            <a:off x="2246400" y="3443400"/>
            <a:ext cx="5143320" cy="179748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class TestRunnable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read th =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w Thread(new TimerRunnable()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순서도: 처리 8"/>
          <p:cNvSpPr/>
          <p:nvPr/>
        </p:nvSpPr>
        <p:spPr>
          <a:xfrm>
            <a:off x="295200" y="3900600"/>
            <a:ext cx="1214640" cy="4093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객체 생성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순서도: 처리 9"/>
          <p:cNvSpPr/>
          <p:nvPr/>
        </p:nvSpPr>
        <p:spPr>
          <a:xfrm>
            <a:off x="295200" y="4186080"/>
            <a:ext cx="1214640" cy="409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시작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순서도: 처리 10"/>
          <p:cNvSpPr/>
          <p:nvPr/>
        </p:nvSpPr>
        <p:spPr>
          <a:xfrm>
            <a:off x="317520" y="0"/>
            <a:ext cx="1285920" cy="409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unnable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클래스로 구현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순서도: 처리 11"/>
          <p:cNvSpPr/>
          <p:nvPr/>
        </p:nvSpPr>
        <p:spPr>
          <a:xfrm>
            <a:off x="285840" y="549360"/>
            <a:ext cx="1285920" cy="407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코드 작성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7786800" y="3286080"/>
            <a:ext cx="857160" cy="2357640"/>
          </a:xfrm>
          <a:prstGeom prst="rect">
            <a:avLst/>
          </a:prstGeom>
          <a:solidFill>
            <a:srgbClr val="d9d9d9"/>
          </a:solidFill>
          <a:ln w="9360">
            <a:solidFill>
              <a:srgbClr val="a17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815600" y="29289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실행 결과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77" name="직선 화살표 연결선 21"/>
          <p:cNvCxnSpPr/>
          <p:nvPr/>
        </p:nvCxnSpPr>
        <p:spPr>
          <a:xfrm>
            <a:off x="1509840" y="189000"/>
            <a:ext cx="721440" cy="216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78" name="직선 화살표 연결선 22"/>
          <p:cNvCxnSpPr/>
          <p:nvPr/>
        </p:nvCxnSpPr>
        <p:spPr>
          <a:xfrm>
            <a:off x="1437840" y="691920"/>
            <a:ext cx="1072440" cy="118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79" name="직선 화살표 연결선 23"/>
          <p:cNvCxnSpPr/>
          <p:nvPr/>
        </p:nvCxnSpPr>
        <p:spPr>
          <a:xfrm>
            <a:off x="1438200" y="4098960"/>
            <a:ext cx="92952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680" name="직선 화살표 연결선 24"/>
          <p:cNvCxnSpPr/>
          <p:nvPr/>
        </p:nvCxnSpPr>
        <p:spPr>
          <a:xfrm>
            <a:off x="1438200" y="4384800"/>
            <a:ext cx="929520" cy="10080"/>
          </a:xfrm>
          <a:prstGeom prst="straightConnector1">
            <a:avLst/>
          </a:prstGeom>
          <a:ln w="1008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681" name="왼쪽 중괄호 25"/>
          <p:cNvSpPr/>
          <p:nvPr/>
        </p:nvSpPr>
        <p:spPr>
          <a:xfrm>
            <a:off x="2589120" y="83664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0840 h 1871640"/>
              <a:gd name="textAreaBottom" fmla="*/ 181080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7"/>
                  <a:pt x="10800" y="2254"/>
                </a:cubicBezTo>
                <a:lnTo>
                  <a:pt x="10800" y="8546"/>
                </a:lnTo>
                <a:cubicBezTo>
                  <a:pt x="10800" y="9673"/>
                  <a:pt x="5400" y="10800"/>
                  <a:pt x="0" y="10800"/>
                </a:cubicBezTo>
                <a:cubicBezTo>
                  <a:pt x="5400" y="10800"/>
                  <a:pt x="10800" y="11927"/>
                  <a:pt x="10800" y="13054"/>
                </a:cubicBezTo>
                <a:lnTo>
                  <a:pt x="10800" y="19346"/>
                </a:lnTo>
                <a:cubicBezTo>
                  <a:pt x="10800" y="204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d4e2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순서도: 처리 26"/>
          <p:cNvSpPr/>
          <p:nvPr/>
        </p:nvSpPr>
        <p:spPr>
          <a:xfrm>
            <a:off x="646200" y="1341360"/>
            <a:ext cx="1295280" cy="863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초에 한 번씩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을 증가시켜 콘솔에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출력한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83" name="직선 화살표 연결선 27"/>
          <p:cNvCxnSpPr>
            <a:stCxn id="682" idx="3"/>
            <a:endCxn id="681" idx="1"/>
          </p:cNvCxnSpPr>
          <p:nvPr/>
        </p:nvCxnSpPr>
        <p:spPr>
          <a:xfrm>
            <a:off x="1941120" y="1773360"/>
            <a:ext cx="648360" cy="2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684" name="직사각형 28"/>
          <p:cNvSpPr/>
          <p:nvPr/>
        </p:nvSpPr>
        <p:spPr>
          <a:xfrm>
            <a:off x="2532240" y="571680"/>
            <a:ext cx="4714560" cy="2425680"/>
          </a:xfrm>
          <a:prstGeom prst="rect">
            <a:avLst/>
          </a:prstGeom>
          <a:noFill/>
          <a:ln w="9360">
            <a:solidFill>
              <a:srgbClr val="558b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TextBox 29"/>
          <p:cNvSpPr/>
          <p:nvPr/>
        </p:nvSpPr>
        <p:spPr>
          <a:xfrm>
            <a:off x="2921400" y="5084640"/>
            <a:ext cx="12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ain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TextBox 30"/>
          <p:cNvSpPr/>
          <p:nvPr/>
        </p:nvSpPr>
        <p:spPr>
          <a:xfrm>
            <a:off x="5158080" y="508464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read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직사각형 42"/>
          <p:cNvSpPr/>
          <p:nvPr/>
        </p:nvSpPr>
        <p:spPr>
          <a:xfrm>
            <a:off x="2157480" y="6165720"/>
            <a:ext cx="4753080" cy="62100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TextBox 43"/>
          <p:cNvSpPr/>
          <p:nvPr/>
        </p:nvSpPr>
        <p:spPr>
          <a:xfrm>
            <a:off x="2158920" y="63817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대각선 방향의 모서리가 둥근 사각형 44"/>
          <p:cNvSpPr/>
          <p:nvPr/>
        </p:nvSpPr>
        <p:spPr>
          <a:xfrm>
            <a:off x="5181480" y="6264360"/>
            <a:ext cx="1368720" cy="404640"/>
          </a:xfrm>
          <a:prstGeom prst="pie">
            <a:avLst/>
          </a:prstGeom>
          <a:solidFill>
            <a:srgbClr val="558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의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직선 연결선 45"/>
          <p:cNvSpPr/>
          <p:nvPr/>
        </p:nvSpPr>
        <p:spPr>
          <a:xfrm>
            <a:off x="4317840" y="6467400"/>
            <a:ext cx="863640" cy="0"/>
          </a:xfrm>
          <a:prstGeom prst="line">
            <a:avLst/>
          </a:prstGeom>
          <a:ln w="10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1" name="대각선 방향의 모서리가 둥근 사각형 46"/>
          <p:cNvSpPr/>
          <p:nvPr/>
        </p:nvSpPr>
        <p:spPr>
          <a:xfrm>
            <a:off x="2949480" y="6264360"/>
            <a:ext cx="1368360" cy="404640"/>
          </a:xfrm>
          <a:prstGeom prst="pie">
            <a:avLst/>
          </a:pr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ain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의 스레드 정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타원 48"/>
          <p:cNvSpPr/>
          <p:nvPr/>
        </p:nvSpPr>
        <p:spPr>
          <a:xfrm>
            <a:off x="5110200" y="5373720"/>
            <a:ext cx="1368360" cy="79200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un(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.........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타원 49"/>
          <p:cNvSpPr/>
          <p:nvPr/>
        </p:nvSpPr>
        <p:spPr>
          <a:xfrm>
            <a:off x="2806560" y="5445000"/>
            <a:ext cx="1571760" cy="57636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직사각형 50"/>
          <p:cNvSpPr/>
          <p:nvPr/>
        </p:nvSpPr>
        <p:spPr>
          <a:xfrm>
            <a:off x="3378240" y="5608800"/>
            <a:ext cx="428760" cy="24588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95" name="직선 화살표 연결선 51"/>
          <p:cNvCxnSpPr>
            <a:endCxn id="692" idx="2"/>
          </p:cNvCxnSpPr>
          <p:nvPr/>
        </p:nvCxnSpPr>
        <p:spPr>
          <a:xfrm>
            <a:off x="3670200" y="5732280"/>
            <a:ext cx="1440360" cy="37080"/>
          </a:xfrm>
          <a:prstGeom prst="straightConnector1">
            <a:avLst/>
          </a:prstGeom>
          <a:ln w="28440">
            <a:solidFill>
              <a:srgbClr val="a17c36"/>
            </a:solidFill>
            <a:miter/>
            <a:tailEnd len="med" type="triangle" w="med"/>
          </a:ln>
        </p:spPr>
      </p:cxnSp>
      <p:sp>
        <p:nvSpPr>
          <p:cNvPr id="696" name="자유형 47"/>
          <p:cNvSpPr/>
          <p:nvPr/>
        </p:nvSpPr>
        <p:spPr>
          <a:xfrm>
            <a:off x="5132520" y="5589720"/>
            <a:ext cx="264960" cy="803160"/>
          </a:xfrm>
          <a:custGeom>
            <a:avLst/>
            <a:gdLst/>
            <a:ahLst/>
            <a:rect l="l" t="t" r="r" b="b"/>
            <a:pathLst>
              <a:path w="222955" h="880533">
                <a:moveTo>
                  <a:pt x="222955" y="880533"/>
                </a:moveTo>
                <a:cubicBezTo>
                  <a:pt x="139699" y="776816"/>
                  <a:pt x="56444" y="673100"/>
                  <a:pt x="28222" y="558800"/>
                </a:cubicBezTo>
                <a:cubicBezTo>
                  <a:pt x="0" y="444500"/>
                  <a:pt x="22578" y="287866"/>
                  <a:pt x="53622" y="194733"/>
                </a:cubicBezTo>
                <a:cubicBezTo>
                  <a:pt x="84666" y="101600"/>
                  <a:pt x="149577" y="50800"/>
                  <a:pt x="214488" y="0"/>
                </a:cubicBezTo>
              </a:path>
            </a:pathLst>
          </a:custGeom>
          <a:noFill/>
          <a:ln w="2844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직사각형 31"/>
          <p:cNvSpPr/>
          <p:nvPr/>
        </p:nvSpPr>
        <p:spPr>
          <a:xfrm>
            <a:off x="7429680" y="0"/>
            <a:ext cx="171432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*Runnable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인터페이스를 상속받아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초 단위로 초 시간을 출력하는 스레드 작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슬라이드 번호 개체 틀 3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010-BB7C-47DE-A696-C18AFDF8CD8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3-2 : Runnable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인터페이스를 구현하여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초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단위 타이머 만들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00" name="직사각형 3"/>
          <p:cNvSpPr/>
          <p:nvPr/>
        </p:nvSpPr>
        <p:spPr>
          <a:xfrm>
            <a:off x="4643280" y="1143000"/>
            <a:ext cx="4356360" cy="48394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RunnableTimer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RunnableTimer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“RunnableTimerEx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setLayout(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timerLabel = new JLab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imerLabel.setFont(new Font(“Gothic“, Font.ITALIC, 8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imerRunnable runnable = new TimerRunnable(time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read th = new Thread(runnable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timerLabel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.start(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RunnableTimer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직사각형 4"/>
          <p:cNvSpPr/>
          <p:nvPr/>
        </p:nvSpPr>
        <p:spPr>
          <a:xfrm>
            <a:off x="357120" y="1214280"/>
            <a:ext cx="4041720" cy="447444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TimerRunnable implements Runnabl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time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TimerRunna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timerLabel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is.timerLabel = time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nt n=0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while(true) {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imerLabel.setText(Integer.toString(n)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++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y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.sleep(1000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atch(InterruptedException e)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6300720" y="5373720"/>
            <a:ext cx="2568600" cy="1284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"/>
          <p:cNvPicPr/>
          <p:nvPr/>
        </p:nvPicPr>
        <p:blipFill>
          <a:blip r:embed="rId2"/>
          <a:stretch/>
        </p:blipFill>
        <p:spPr>
          <a:xfrm>
            <a:off x="3359160" y="5373720"/>
            <a:ext cx="2570040" cy="1284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"/>
          <p:cNvPicPr/>
          <p:nvPr/>
        </p:nvPicPr>
        <p:blipFill>
          <a:blip r:embed="rId3"/>
          <a:stretch/>
        </p:blipFill>
        <p:spPr>
          <a:xfrm>
            <a:off x="438120" y="5373720"/>
            <a:ext cx="2570040" cy="1284120"/>
          </a:xfrm>
          <a:prstGeom prst="rect">
            <a:avLst/>
          </a:prstGeom>
          <a:ln w="0">
            <a:noFill/>
          </a:ln>
        </p:spPr>
      </p:pic>
      <p:sp>
        <p:nvSpPr>
          <p:cNvPr id="705" name="슬라이드 번호 개체 틀 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F3A3-C08A-423E-93EE-2C144A3DF95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3-3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깜박이는 레이블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07" name="직사각형 4"/>
          <p:cNvSpPr/>
          <p:nvPr/>
        </p:nvSpPr>
        <p:spPr>
          <a:xfrm>
            <a:off x="214200" y="1071720"/>
            <a:ext cx="4000680" cy="57520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FlickeringLabel extends JLabel implements Runnable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FlickeringLabel(String text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(text); // JLabel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생성자 호출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Opaque(true); //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배경색 변경이 가능하도록 설정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read th = new Thread(thi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run()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n=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while(true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{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f(n == 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Background(Color.YELLOW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Background(Color.GREE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f(n == 0) n = 1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else n = 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.sleep(500); // 0.5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초 동안 잠을 잔다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atch(InterruptedException e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eturn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직사각형 5"/>
          <p:cNvSpPr/>
          <p:nvPr/>
        </p:nvSpPr>
        <p:spPr>
          <a:xfrm>
            <a:off x="4357800" y="1071720"/>
            <a:ext cx="4572000" cy="53870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FlickeringLabel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FlickeringLabel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“FlickeringLabelEx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setLayout(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깜박이는 레이블 생성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lickeringLabel fLabel = new FlickeringLabel(“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깜박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깜박이지 않는 레이블 생성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label = new JLabel(“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안깜박“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깜박이는 레이블 생성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lickeringLabel fLabel2 = new FlickeringLabel(“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여기도 깜박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f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fLabel2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FlickeringLabel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5F5E-BEAE-4A4E-94B4-51695D41629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실행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깜박이는 레이블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2857320" cy="14284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" descr=""/>
          <p:cNvPicPr/>
          <p:nvPr/>
        </p:nvPicPr>
        <p:blipFill>
          <a:blip r:embed="rId2"/>
          <a:stretch/>
        </p:blipFill>
        <p:spPr>
          <a:xfrm>
            <a:off x="4168800" y="2070000"/>
            <a:ext cx="2857320" cy="1428840"/>
          </a:xfrm>
          <a:prstGeom prst="rect">
            <a:avLst/>
          </a:prstGeom>
          <a:ln w="0">
            <a:noFill/>
          </a:ln>
        </p:spPr>
      </p:pic>
      <p:sp>
        <p:nvSpPr>
          <p:cNvPr id="713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E85-2CA7-40F6-81CB-6103D45AF19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멀티태스킹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multi-tasking)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개념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멀티태스킹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하나의 응용프로그램이 여러 개의 작업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태스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을 동시에 처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486" name="TextBox 3"/>
          <p:cNvSpPr/>
          <p:nvPr/>
        </p:nvSpPr>
        <p:spPr>
          <a:xfrm>
            <a:off x="80280" y="528624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다림질하면서 이어폰으로 전화하는 주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3078360" y="52862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전하면서 화장하는 운전자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5621760" y="528624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제품의 판독과 포장 작업의 두 기능을 갖춘 기계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500040" y="2500200"/>
            <a:ext cx="7927920" cy="2714760"/>
          </a:xfrm>
          <a:prstGeom prst="rect">
            <a:avLst/>
          </a:prstGeom>
          <a:ln w="0">
            <a:noFill/>
          </a:ln>
        </p:spPr>
      </p:pic>
      <p:sp>
        <p:nvSpPr>
          <p:cNvPr id="490" name="슬라이드 번호 개체 틀 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481A-B14A-4748-8541-84A7FD758A80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정보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714240" y="1428840"/>
          <a:ext cx="7358040" cy="3657600"/>
        </p:xfrm>
        <a:graphic>
          <a:graphicData uri="http://schemas.openxmlformats.org/drawingml/2006/table">
            <a:tbl>
              <a:tblPr/>
              <a:tblGrid>
                <a:gridCol w="2619360"/>
                <a:gridCol w="1024200"/>
                <a:gridCol w="371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Tw Cen MT"/>
                          <a:ea typeface="HY얕은샘물M"/>
                        </a:rPr>
                        <a:t>필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Tw Cen MT"/>
                          <a:ea typeface="HY얕은샘물M"/>
                        </a:rPr>
                        <a:t>타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Tw Cen MT"/>
                          <a:ea typeface="HY얕은샘물M"/>
                        </a:rPr>
                        <a:t>내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이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의 이름으로서 사용자가 지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정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고유의 식별자 번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의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PC(Program Cou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정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현재 실행 중인 스레드 코드의 주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상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정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NEW, RUNNABLE, WAITING, TIMED_WAITING, BLOCK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TERMINATED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등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개 상태 중 하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우선순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정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스케줄링 시 사용되는 우선순위 값으로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1~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사이의 값이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10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이 최상위 우선순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그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정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여러 개의 자바 스레드가 하나의 그룹을 형성할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있으며 이 경우 스레드가 속한 그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 레지스터 스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메모리 블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w Cen MT"/>
                          <a:ea typeface="HY얕은샘물M"/>
                        </a:rPr>
                        <a:t>스레드가 실행되는 동안 레지스터들의 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716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E6DC-1928-49CE-A345-EEDF9C80C060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상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스레드 상태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6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가지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NEW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가 생성되었지만 스레드가 아직 실행할 준비가 되지 않았음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RUNNABLE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JVM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에 의해 실행되고 있거나 실행 준비되어 스케쥴링을 기다리는 상태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WAITING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어떤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Object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객체에서 다른 스레드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notify(), notifyAll()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을 불러주기를 기다리고 있는 상태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 동기화를 위해 사용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TIMED_WAITING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sleep(n)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호출로 인해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n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밀리초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동안 잠을 자고 있는 상태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BLOCK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I/O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작업을 요청하면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JVM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이 자동으로 이 스레드를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BLOCK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상태로 만든다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TERMINATED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스레드가 종료한 상태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스레드 상태는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에 의해 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TCB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기록 관리됨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923-3432-496C-BF66-ED04E08FE265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타원 36"/>
          <p:cNvSpPr/>
          <p:nvPr/>
        </p:nvSpPr>
        <p:spPr>
          <a:xfrm>
            <a:off x="1785960" y="5429160"/>
            <a:ext cx="857160" cy="924120"/>
          </a:xfrm>
          <a:prstGeom prst="ellipse">
            <a:avLst/>
          </a:prstGeom>
          <a:solidFill>
            <a:srgbClr val="d5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타원 35"/>
          <p:cNvSpPr/>
          <p:nvPr/>
        </p:nvSpPr>
        <p:spPr>
          <a:xfrm>
            <a:off x="1785960" y="1285920"/>
            <a:ext cx="7072200" cy="4714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상태와 생명 주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3" name="모서리가 둥근 직사각형 3"/>
          <p:cNvSpPr/>
          <p:nvPr/>
        </p:nvSpPr>
        <p:spPr>
          <a:xfrm>
            <a:off x="4929120" y="1357200"/>
            <a:ext cx="1071720" cy="27324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탄생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모서리가 둥근 직사각형 4"/>
          <p:cNvSpPr/>
          <p:nvPr/>
        </p:nvSpPr>
        <p:spPr>
          <a:xfrm>
            <a:off x="4929120" y="2071800"/>
            <a:ext cx="1071720" cy="50004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UNNABL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준비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모서리가 둥근 직사각형 5"/>
          <p:cNvSpPr/>
          <p:nvPr/>
        </p:nvSpPr>
        <p:spPr>
          <a:xfrm>
            <a:off x="4857840" y="307188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UNNABL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running,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실행중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26" name="직선 화살표 연결선 7"/>
          <p:cNvCxnSpPr>
            <a:stCxn id="723" idx="2"/>
            <a:endCxn id="724" idx="0"/>
          </p:cNvCxnSpPr>
          <p:nvPr/>
        </p:nvCxnSpPr>
        <p:spPr>
          <a:xfrm flipH="1">
            <a:off x="5463360" y="1630440"/>
            <a:ext cx="2520" cy="442080"/>
          </a:xfrm>
          <a:prstGeom prst="straightConnector1">
            <a:avLst/>
          </a:prstGeom>
          <a:ln w="28440">
            <a:solidFill>
              <a:srgbClr val="ba8f2d"/>
            </a:solidFill>
            <a:miter/>
            <a:tailEnd len="med" type="triangle" w="med"/>
          </a:ln>
        </p:spPr>
      </p:cxnSp>
      <p:cxnSp>
        <p:nvCxnSpPr>
          <p:cNvPr id="727" name="직선 화살표 연결선 9"/>
          <p:cNvCxnSpPr/>
          <p:nvPr/>
        </p:nvCxnSpPr>
        <p:spPr>
          <a:xfrm flipH="1">
            <a:off x="5643360" y="2571480"/>
            <a:ext cx="2160" cy="572040"/>
          </a:xfrm>
          <a:prstGeom prst="straightConnector1">
            <a:avLst/>
          </a:prstGeom>
          <a:ln w="28440">
            <a:solidFill>
              <a:srgbClr val="ba8f2d"/>
            </a:solidFill>
            <a:miter/>
            <a:tailEnd len="med" type="triangle" w="med"/>
          </a:ln>
        </p:spPr>
      </p:cxnSp>
      <p:cxnSp>
        <p:nvCxnSpPr>
          <p:cNvPr id="728" name="직선 화살표 연결선 11"/>
          <p:cNvCxnSpPr>
            <a:endCxn id="723" idx="0"/>
          </p:cNvCxnSpPr>
          <p:nvPr/>
        </p:nvCxnSpPr>
        <p:spPr>
          <a:xfrm flipH="1">
            <a:off x="5465160" y="956880"/>
            <a:ext cx="1080" cy="400680"/>
          </a:xfrm>
          <a:prstGeom prst="straightConnector1">
            <a:avLst/>
          </a:prstGeom>
          <a:ln w="28440">
            <a:solidFill>
              <a:srgbClr val="ba8f2d"/>
            </a:solidFill>
            <a:miter/>
            <a:tailEnd len="med" type="triangle" w="med"/>
          </a:ln>
        </p:spPr>
      </p:cxnSp>
      <p:sp>
        <p:nvSpPr>
          <p:cNvPr id="729" name="모서리가 둥근 직사각형 15"/>
          <p:cNvSpPr/>
          <p:nvPr/>
        </p:nvSpPr>
        <p:spPr>
          <a:xfrm>
            <a:off x="3857760" y="5000760"/>
            <a:ext cx="1500120" cy="47124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IMED_WAITIN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시간 대기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자유형 19"/>
          <p:cNvSpPr/>
          <p:nvPr/>
        </p:nvSpPr>
        <p:spPr>
          <a:xfrm>
            <a:off x="4572000" y="3571920"/>
            <a:ext cx="785880" cy="1428840"/>
          </a:xfrm>
          <a:custGeom>
            <a:avLst/>
            <a:gdLst/>
            <a:ahLst/>
            <a:rect l="l" t="t" r="r" b="b"/>
            <a:pathLst>
              <a:path w="719847" h="787940">
                <a:moveTo>
                  <a:pt x="719847" y="0"/>
                </a:moveTo>
                <a:cubicBezTo>
                  <a:pt x="719036" y="38910"/>
                  <a:pt x="718225" y="77821"/>
                  <a:pt x="680936" y="136187"/>
                </a:cubicBezTo>
                <a:cubicBezTo>
                  <a:pt x="643647" y="194553"/>
                  <a:pt x="583660" y="290208"/>
                  <a:pt x="496111" y="350195"/>
                </a:cubicBezTo>
                <a:cubicBezTo>
                  <a:pt x="408562" y="410182"/>
                  <a:pt x="238328" y="423153"/>
                  <a:pt x="155643" y="496110"/>
                </a:cubicBezTo>
                <a:cubicBezTo>
                  <a:pt x="72958" y="569067"/>
                  <a:pt x="36479" y="678503"/>
                  <a:pt x="0" y="787940"/>
                </a:cubicBezTo>
              </a:path>
            </a:pathLst>
          </a:custGeom>
          <a:noFill/>
          <a:ln w="28440">
            <a:solidFill>
              <a:srgbClr val="ba8f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모서리가 둥근 직사각형 22"/>
          <p:cNvSpPr/>
          <p:nvPr/>
        </p:nvSpPr>
        <p:spPr>
          <a:xfrm>
            <a:off x="6786720" y="4386240"/>
            <a:ext cx="1071360" cy="27324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LOCK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봉쇄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자유형 23"/>
          <p:cNvSpPr/>
          <p:nvPr/>
        </p:nvSpPr>
        <p:spPr>
          <a:xfrm>
            <a:off x="5540400" y="3608280"/>
            <a:ext cx="1741320" cy="758880"/>
          </a:xfrm>
          <a:custGeom>
            <a:avLst/>
            <a:gdLst/>
            <a:ahLst/>
            <a:rect l="l" t="t" r="r" b="b"/>
            <a:pathLst>
              <a:path w="1741251" h="758758">
                <a:moveTo>
                  <a:pt x="0" y="0"/>
                </a:moveTo>
                <a:cubicBezTo>
                  <a:pt x="50259" y="53502"/>
                  <a:pt x="100519" y="107005"/>
                  <a:pt x="262647" y="155643"/>
                </a:cubicBezTo>
                <a:cubicBezTo>
                  <a:pt x="424775" y="204281"/>
                  <a:pt x="755515" y="236707"/>
                  <a:pt x="972766" y="291830"/>
                </a:cubicBezTo>
                <a:cubicBezTo>
                  <a:pt x="1190017" y="346953"/>
                  <a:pt x="1438072" y="408562"/>
                  <a:pt x="1566153" y="486383"/>
                </a:cubicBezTo>
                <a:cubicBezTo>
                  <a:pt x="1694234" y="564204"/>
                  <a:pt x="1717742" y="661481"/>
                  <a:pt x="1741251" y="758758"/>
                </a:cubicBezTo>
              </a:path>
            </a:pathLst>
          </a:custGeom>
          <a:noFill/>
          <a:ln w="28440">
            <a:solidFill>
              <a:srgbClr val="ba8f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자유형 24"/>
          <p:cNvSpPr/>
          <p:nvPr/>
        </p:nvSpPr>
        <p:spPr>
          <a:xfrm>
            <a:off x="6000840" y="2214720"/>
            <a:ext cx="2305080" cy="2347920"/>
          </a:xfrm>
          <a:custGeom>
            <a:avLst/>
            <a:gdLst/>
            <a:ahLst/>
            <a:rect l="l" t="t" r="r" b="b"/>
            <a:pathLst>
              <a:path w="2318426" h="2039566">
                <a:moveTo>
                  <a:pt x="1857983" y="2039566"/>
                </a:moveTo>
                <a:cubicBezTo>
                  <a:pt x="1950396" y="2033081"/>
                  <a:pt x="2042809" y="2026596"/>
                  <a:pt x="2110903" y="1864468"/>
                </a:cubicBezTo>
                <a:cubicBezTo>
                  <a:pt x="2178997" y="1702340"/>
                  <a:pt x="2318426" y="1348902"/>
                  <a:pt x="2266545" y="1066800"/>
                </a:cubicBezTo>
                <a:cubicBezTo>
                  <a:pt x="2214664" y="784698"/>
                  <a:pt x="2177374" y="343710"/>
                  <a:pt x="1799617" y="171855"/>
                </a:cubicBezTo>
                <a:cubicBezTo>
                  <a:pt x="1421860" y="0"/>
                  <a:pt x="710930" y="17834"/>
                  <a:pt x="0" y="35668"/>
                </a:cubicBezTo>
              </a:path>
            </a:pathLst>
          </a:custGeom>
          <a:noFill/>
          <a:ln w="28440">
            <a:solidFill>
              <a:srgbClr val="ba8f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모서리가 둥근 직사각형 25"/>
          <p:cNvSpPr/>
          <p:nvPr/>
        </p:nvSpPr>
        <p:spPr>
          <a:xfrm>
            <a:off x="3071880" y="4029120"/>
            <a:ext cx="1214280" cy="32868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AITING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대기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모서리가 둥근 직사각형 27"/>
          <p:cNvSpPr/>
          <p:nvPr/>
        </p:nvSpPr>
        <p:spPr>
          <a:xfrm>
            <a:off x="5643720" y="5000760"/>
            <a:ext cx="1143000" cy="39996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ERMINATED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종료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자유형 28"/>
          <p:cNvSpPr/>
          <p:nvPr/>
        </p:nvSpPr>
        <p:spPr>
          <a:xfrm>
            <a:off x="5410080" y="3608280"/>
            <a:ext cx="733680" cy="1392480"/>
          </a:xfrm>
          <a:custGeom>
            <a:avLst/>
            <a:gdLst/>
            <a:ahLst/>
            <a:rect l="l" t="t" r="r" b="b"/>
            <a:pathLst>
              <a:path w="684179" h="943583">
                <a:moveTo>
                  <a:pt x="32426" y="0"/>
                </a:moveTo>
                <a:cubicBezTo>
                  <a:pt x="16213" y="94845"/>
                  <a:pt x="0" y="189690"/>
                  <a:pt x="81064" y="272375"/>
                </a:cubicBezTo>
                <a:cubicBezTo>
                  <a:pt x="162128" y="355060"/>
                  <a:pt x="418289" y="384243"/>
                  <a:pt x="518808" y="496111"/>
                </a:cubicBezTo>
                <a:cubicBezTo>
                  <a:pt x="619327" y="607979"/>
                  <a:pt x="651753" y="775781"/>
                  <a:pt x="684179" y="943583"/>
                </a:cubicBezTo>
              </a:path>
            </a:pathLst>
          </a:custGeom>
          <a:noFill/>
          <a:ln w="28440">
            <a:solidFill>
              <a:srgbClr val="ba8f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TextBox 32"/>
          <p:cNvSpPr/>
          <p:nvPr/>
        </p:nvSpPr>
        <p:spPr>
          <a:xfrm>
            <a:off x="4144320" y="642960"/>
            <a:ext cx="2701440" cy="368280"/>
          </a:xfrm>
          <a:prstGeom prst="rect">
            <a:avLst/>
          </a:prstGeom>
          <a:noFill/>
          <a:ln w="93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readA = new Thread(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TextBox 33"/>
          <p:cNvSpPr/>
          <p:nvPr/>
        </p:nvSpPr>
        <p:spPr>
          <a:xfrm>
            <a:off x="1503360" y="50007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read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TextBox 44"/>
          <p:cNvSpPr/>
          <p:nvPr/>
        </p:nvSpPr>
        <p:spPr>
          <a:xfrm>
            <a:off x="2275560" y="5429160"/>
            <a:ext cx="161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bject.notify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Object.notifyAll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TextBox 45"/>
          <p:cNvSpPr/>
          <p:nvPr/>
        </p:nvSpPr>
        <p:spPr>
          <a:xfrm>
            <a:off x="4608000" y="450072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sleep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1" name="TextBox 46"/>
          <p:cNvSpPr/>
          <p:nvPr/>
        </p:nvSpPr>
        <p:spPr>
          <a:xfrm>
            <a:off x="3723840" y="350028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Object.wait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TextBox 47"/>
          <p:cNvSpPr/>
          <p:nvPr/>
        </p:nvSpPr>
        <p:spPr>
          <a:xfrm>
            <a:off x="6481800" y="3643200"/>
            <a:ext cx="96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I/O</a:t>
            </a: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작업 요청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TextBox 48"/>
          <p:cNvSpPr/>
          <p:nvPr/>
        </p:nvSpPr>
        <p:spPr>
          <a:xfrm>
            <a:off x="6560280" y="1928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I/O</a:t>
            </a: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작업  완료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TextBox 49"/>
          <p:cNvSpPr/>
          <p:nvPr/>
        </p:nvSpPr>
        <p:spPr>
          <a:xfrm>
            <a:off x="5462640" y="17146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start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TextBox 53"/>
          <p:cNvSpPr/>
          <p:nvPr/>
        </p:nvSpPr>
        <p:spPr>
          <a:xfrm>
            <a:off x="5589360" y="2714760"/>
            <a:ext cx="24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run() </a:t>
            </a: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또는 </a:t>
            </a: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JVM</a:t>
            </a: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에 의해 스케쥴링될 때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46" name="직선 화살표 연결선 55"/>
          <p:cNvCxnSpPr/>
          <p:nvPr/>
        </p:nvCxnSpPr>
        <p:spPr>
          <a:xfrm flipV="1">
            <a:off x="5213880" y="2571120"/>
            <a:ext cx="1080" cy="500760"/>
          </a:xfrm>
          <a:prstGeom prst="straightConnector1">
            <a:avLst/>
          </a:prstGeom>
          <a:ln w="28440">
            <a:solidFill>
              <a:srgbClr val="ba8f2d"/>
            </a:solidFill>
            <a:miter/>
            <a:tailEnd len="med" type="triangle" w="med"/>
          </a:ln>
        </p:spPr>
      </p:cxnSp>
      <p:sp>
        <p:nvSpPr>
          <p:cNvPr id="747" name="TextBox 56"/>
          <p:cNvSpPr/>
          <p:nvPr/>
        </p:nvSpPr>
        <p:spPr>
          <a:xfrm>
            <a:off x="4480200" y="271476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d7e"/>
                </a:solidFill>
                <a:latin typeface="Tw Cen MT"/>
              </a:rPr>
              <a:t>yield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TextBox 57"/>
          <p:cNvSpPr/>
          <p:nvPr/>
        </p:nvSpPr>
        <p:spPr>
          <a:xfrm>
            <a:off x="264960" y="1428840"/>
            <a:ext cx="183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상태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6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가지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RUNNAB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AITIN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IMED_WAITIN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ERMINAT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TextBox 37"/>
          <p:cNvSpPr/>
          <p:nvPr/>
        </p:nvSpPr>
        <p:spPr>
          <a:xfrm>
            <a:off x="3148200" y="2071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타임아웃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TextBox 39"/>
          <p:cNvSpPr/>
          <p:nvPr/>
        </p:nvSpPr>
        <p:spPr>
          <a:xfrm>
            <a:off x="5223240" y="6072120"/>
            <a:ext cx="3825360" cy="642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** wait(), notify(), notifyAll()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은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read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메소드가 아니며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bject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의 메소드임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TextBox 40"/>
          <p:cNvSpPr/>
          <p:nvPr/>
        </p:nvSpPr>
        <p:spPr>
          <a:xfrm>
            <a:off x="5875560" y="414324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55d7e"/>
                </a:solidFill>
                <a:latin typeface="Tw Cen MT"/>
              </a:rPr>
              <a:t>스레드 종료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자유형 54"/>
          <p:cNvSpPr/>
          <p:nvPr/>
        </p:nvSpPr>
        <p:spPr>
          <a:xfrm>
            <a:off x="3776760" y="3560760"/>
            <a:ext cx="1431720" cy="495360"/>
          </a:xfrm>
          <a:custGeom>
            <a:avLst/>
            <a:gdLst/>
            <a:ahLst/>
            <a:rect l="l" t="t" r="r" b="b"/>
            <a:pathLst>
              <a:path w="1432560" h="494852">
                <a:moveTo>
                  <a:pt x="1430767" y="0"/>
                </a:moveTo>
                <a:cubicBezTo>
                  <a:pt x="1431663" y="63650"/>
                  <a:pt x="1432560" y="127300"/>
                  <a:pt x="1376979" y="172123"/>
                </a:cubicBezTo>
                <a:cubicBezTo>
                  <a:pt x="1321398" y="216947"/>
                  <a:pt x="1265817" y="247426"/>
                  <a:pt x="1097280" y="268941"/>
                </a:cubicBezTo>
                <a:cubicBezTo>
                  <a:pt x="928744" y="290456"/>
                  <a:pt x="548640" y="263562"/>
                  <a:pt x="365760" y="301214"/>
                </a:cubicBezTo>
                <a:cubicBezTo>
                  <a:pt x="182880" y="338866"/>
                  <a:pt x="91440" y="416859"/>
                  <a:pt x="0" y="494852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자유형 59"/>
          <p:cNvSpPr/>
          <p:nvPr/>
        </p:nvSpPr>
        <p:spPr>
          <a:xfrm>
            <a:off x="3322800" y="2286000"/>
            <a:ext cx="1606320" cy="1758960"/>
          </a:xfrm>
          <a:custGeom>
            <a:avLst/>
            <a:gdLst/>
            <a:ahLst/>
            <a:rect l="l" t="t" r="r" b="b"/>
            <a:pathLst>
              <a:path w="1572409" h="1775011">
                <a:moveTo>
                  <a:pt x="292249" y="1775011"/>
                </a:moveTo>
                <a:cubicBezTo>
                  <a:pt x="200809" y="1675502"/>
                  <a:pt x="109369" y="1575994"/>
                  <a:pt x="66339" y="1409251"/>
                </a:cubicBezTo>
                <a:cubicBezTo>
                  <a:pt x="23309" y="1242508"/>
                  <a:pt x="0" y="959223"/>
                  <a:pt x="34066" y="774550"/>
                </a:cubicBezTo>
                <a:cubicBezTo>
                  <a:pt x="68132" y="589877"/>
                  <a:pt x="143435" y="415962"/>
                  <a:pt x="270734" y="301214"/>
                </a:cubicBezTo>
                <a:cubicBezTo>
                  <a:pt x="398033" y="186466"/>
                  <a:pt x="580913" y="136263"/>
                  <a:pt x="797859" y="86061"/>
                </a:cubicBezTo>
                <a:cubicBezTo>
                  <a:pt x="1014805" y="35859"/>
                  <a:pt x="1293607" y="17929"/>
                  <a:pt x="1572409" y="0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자유형 60"/>
          <p:cNvSpPr/>
          <p:nvPr/>
        </p:nvSpPr>
        <p:spPr>
          <a:xfrm>
            <a:off x="2495520" y="2254320"/>
            <a:ext cx="2432160" cy="2889360"/>
          </a:xfrm>
          <a:custGeom>
            <a:avLst/>
            <a:gdLst/>
            <a:ahLst/>
            <a:rect l="l" t="t" r="r" b="b"/>
            <a:pathLst>
              <a:path w="2431228" h="2705547">
                <a:moveTo>
                  <a:pt x="1215614" y="2705547"/>
                </a:moveTo>
                <a:cubicBezTo>
                  <a:pt x="1021080" y="2698375"/>
                  <a:pt x="826546" y="2691204"/>
                  <a:pt x="656217" y="2576456"/>
                </a:cubicBezTo>
                <a:cubicBezTo>
                  <a:pt x="485888" y="2461708"/>
                  <a:pt x="297629" y="2269863"/>
                  <a:pt x="193638" y="2017058"/>
                </a:cubicBezTo>
                <a:cubicBezTo>
                  <a:pt x="89647" y="1764253"/>
                  <a:pt x="0" y="1335740"/>
                  <a:pt x="32273" y="1059627"/>
                </a:cubicBezTo>
                <a:cubicBezTo>
                  <a:pt x="64546" y="783514"/>
                  <a:pt x="238461" y="518159"/>
                  <a:pt x="387275" y="360380"/>
                </a:cubicBezTo>
                <a:cubicBezTo>
                  <a:pt x="536089" y="202601"/>
                  <a:pt x="733313" y="170328"/>
                  <a:pt x="925158" y="112954"/>
                </a:cubicBezTo>
                <a:cubicBezTo>
                  <a:pt x="1117003" y="55580"/>
                  <a:pt x="1287332" y="32272"/>
                  <a:pt x="1538344" y="16136"/>
                </a:cubicBezTo>
                <a:cubicBezTo>
                  <a:pt x="1789356" y="0"/>
                  <a:pt x="2110292" y="8068"/>
                  <a:pt x="2431228" y="16136"/>
                </a:cubicBezTo>
              </a:path>
            </a:pathLst>
          </a:custGeom>
          <a:noFill/>
          <a:ln w="28440">
            <a:solidFill>
              <a:srgbClr val="ba8f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자유형 61"/>
          <p:cNvSpPr/>
          <p:nvPr/>
        </p:nvSpPr>
        <p:spPr>
          <a:xfrm>
            <a:off x="2238480" y="4367160"/>
            <a:ext cx="1236600" cy="1324080"/>
          </a:xfrm>
          <a:custGeom>
            <a:avLst/>
            <a:gdLst/>
            <a:ahLst/>
            <a:rect l="l" t="t" r="r" b="b"/>
            <a:pathLst>
              <a:path w="1237129" h="1323190">
                <a:moveTo>
                  <a:pt x="0" y="1323190"/>
                </a:moveTo>
                <a:cubicBezTo>
                  <a:pt x="121023" y="1262230"/>
                  <a:pt x="242046" y="1201270"/>
                  <a:pt x="376517" y="1118795"/>
                </a:cubicBezTo>
                <a:cubicBezTo>
                  <a:pt x="510988" y="1036320"/>
                  <a:pt x="684903" y="943087"/>
                  <a:pt x="806823" y="828339"/>
                </a:cubicBezTo>
                <a:cubicBezTo>
                  <a:pt x="928743" y="713591"/>
                  <a:pt x="1036319" y="568363"/>
                  <a:pt x="1108037" y="430306"/>
                </a:cubicBezTo>
                <a:cubicBezTo>
                  <a:pt x="1179755" y="292249"/>
                  <a:pt x="1208442" y="146124"/>
                  <a:pt x="1237129" y="0"/>
                </a:cubicBezTo>
              </a:path>
            </a:pathLst>
          </a:custGeom>
          <a:noFill/>
          <a:ln w="10080">
            <a:solidFill>
              <a:srgbClr val="00b05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슬라이드 번호 개체 틀 3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085-13EF-457E-9EAC-E55FECFDBD6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우선 순위와 스케쥴링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의 우선 순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최대값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= 10(MAX_PRIORITY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최소값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= 1(MIN_PRIORITY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보통값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= 5(NORMAL_PRIORITY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우선 순위는 응용프로그램에서 변경 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setPriority(int priority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t getPriority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main(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의 우선 순위 값은 초기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생성 시 부모 스레드와 동일한 우선순위값으로 탄생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 스케쥴링 정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철저한 우선 순위 기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가장 높은 우선 순위의 스레드가 우선적으로 스케쥴링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동일한 우선 순위의 스레드는 돌아가면서 스케쥴링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라운드 로빈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75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46F-2827-4C5F-8CFC-6D984DF4068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main()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은 자바의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main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12720" y="128592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main(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에 의해 자동으로 스레드화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자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스레드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: main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main()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함수가 스레드 코드로 사용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2" name="직사각형 3"/>
          <p:cNvSpPr/>
          <p:nvPr/>
        </p:nvSpPr>
        <p:spPr>
          <a:xfrm>
            <a:off x="500040" y="2924280"/>
            <a:ext cx="4572000" cy="37170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class ThreadMainEx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long id = Thread.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currentThread().getId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= Thread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currentThread().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getNam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riority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= Thread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currentThread().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getPriority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Thread.Stat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= Thread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currentThread().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getStat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ystem.out.println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현재 스레드 이름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+ nam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ystem.out.println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현재 스레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D = " + id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ystem.out.println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현재 스레드 우선순위 값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+ priority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ystem.out.println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현재 스레드 상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+ 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TextBox 5"/>
          <p:cNvSpPr/>
          <p:nvPr/>
        </p:nvSpPr>
        <p:spPr>
          <a:xfrm>
            <a:off x="5366880" y="30672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실행 결과 콘솔 화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직사각형 6"/>
          <p:cNvSpPr/>
          <p:nvPr/>
        </p:nvSpPr>
        <p:spPr>
          <a:xfrm>
            <a:off x="5435640" y="3421080"/>
            <a:ext cx="3078000" cy="119124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현재 스레드 이름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= ma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현재 스레드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D = 1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현재 스레드 우선순위 값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= 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현재 스레드 상태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= RUNNABL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슬라이드 번호 개체 틀 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A9F5-4CDC-4765-9239-1537B2B7CCC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종료와 타 스레드 강제 종료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612720" y="1285560"/>
            <a:ext cx="81532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스레드 스스로 종료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run()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메소드의 리턴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타 스레드 강제 종료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interrupt()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메소드 사용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8" name="직사각형 18"/>
          <p:cNvSpPr/>
          <p:nvPr/>
        </p:nvSpPr>
        <p:spPr>
          <a:xfrm>
            <a:off x="4143240" y="928800"/>
            <a:ext cx="4714920" cy="374436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lass TimerThread extends Thread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 n = 0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ystem.out.println(n); //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화면에 카운트 값 출력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n++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ry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sleep(1000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catch(InterruptedException e)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eturn; // </a:t>
            </a:r>
            <a:r>
              <a:rPr b="1" lang="ko-KR" sz="1600" spc="-1" strike="noStrike">
                <a:solidFill>
                  <a:srgbClr val="000000"/>
                </a:solidFill>
                <a:latin typeface="Tw Cen MT"/>
              </a:rPr>
              <a:t>에외를 받고 스스로 리턴하여 종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직사각형 20"/>
          <p:cNvSpPr/>
          <p:nvPr/>
        </p:nvSpPr>
        <p:spPr>
          <a:xfrm>
            <a:off x="214200" y="3143160"/>
            <a:ext cx="3500640" cy="228420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imerThread th =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new </a:t>
            </a:r>
            <a:r>
              <a:rPr b="1" lang="ko-KR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imerThread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h.interrupt(); // TimerThread </a:t>
            </a:r>
            <a:r>
              <a:rPr b="1" lang="ko-KR" sz="1600" spc="-1" strike="noStrike">
                <a:solidFill>
                  <a:srgbClr val="000000"/>
                </a:solidFill>
                <a:latin typeface="Tw Cen MT"/>
              </a:rPr>
              <a:t>강제 종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TextBox 31"/>
          <p:cNvSpPr/>
          <p:nvPr/>
        </p:nvSpPr>
        <p:spPr>
          <a:xfrm>
            <a:off x="2810880" y="616572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erruptedException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TextBox 35"/>
          <p:cNvSpPr/>
          <p:nvPr/>
        </p:nvSpPr>
        <p:spPr>
          <a:xfrm>
            <a:off x="6697800" y="3786120"/>
            <a:ext cx="21128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만일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turn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하지 않으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는 종료하지 않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타원 12"/>
          <p:cNvSpPr/>
          <p:nvPr/>
        </p:nvSpPr>
        <p:spPr>
          <a:xfrm>
            <a:off x="5143680" y="5300640"/>
            <a:ext cx="3315960" cy="127152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atch(InterruptedException e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{return;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타원 14"/>
          <p:cNvSpPr/>
          <p:nvPr/>
        </p:nvSpPr>
        <p:spPr>
          <a:xfrm>
            <a:off x="1214280" y="5429160"/>
            <a:ext cx="1714680" cy="1071720"/>
          </a:xfrm>
          <a:prstGeom prst="ellipse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.interrup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TextBox 17"/>
          <p:cNvSpPr/>
          <p:nvPr/>
        </p:nvSpPr>
        <p:spPr>
          <a:xfrm>
            <a:off x="1455840" y="507204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()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TextBox 19"/>
          <p:cNvSpPr/>
          <p:nvPr/>
        </p:nvSpPr>
        <p:spPr>
          <a:xfrm>
            <a:off x="5766840" y="494172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imerThread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76" name="직선 화살표 연결선 22"/>
          <p:cNvCxnSpPr/>
          <p:nvPr/>
        </p:nvCxnSpPr>
        <p:spPr>
          <a:xfrm flipV="1">
            <a:off x="2627280" y="5949720"/>
            <a:ext cx="3169440" cy="288000"/>
          </a:xfrm>
          <a:prstGeom prst="straightConnector1">
            <a:avLst/>
          </a:prstGeom>
          <a:ln w="19080">
            <a:solidFill>
              <a:srgbClr val="0070c0"/>
            </a:solidFill>
            <a:prstDash val="sysDash"/>
            <a:miter/>
            <a:tailEnd len="med" type="arrow" w="med"/>
          </a:ln>
        </p:spPr>
      </p:cxnSp>
      <p:sp>
        <p:nvSpPr>
          <p:cNvPr id="777" name="직사각형 13"/>
          <p:cNvSpPr/>
          <p:nvPr/>
        </p:nvSpPr>
        <p:spPr>
          <a:xfrm>
            <a:off x="2050920" y="5589720"/>
            <a:ext cx="428760" cy="24588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78" name="직선 화살표 연결선 21"/>
          <p:cNvCxnSpPr/>
          <p:nvPr/>
        </p:nvCxnSpPr>
        <p:spPr>
          <a:xfrm flipV="1">
            <a:off x="2268000" y="5660280"/>
            <a:ext cx="3096360" cy="73800"/>
          </a:xfrm>
          <a:prstGeom prst="straightConnector1">
            <a:avLst/>
          </a:prstGeom>
          <a:ln w="28440">
            <a:solidFill>
              <a:srgbClr val="a17c36"/>
            </a:solidFill>
            <a:miter/>
            <a:tailEnd len="med" type="triangle" w="med"/>
          </a:ln>
        </p:spPr>
      </p:cxnSp>
      <p:sp>
        <p:nvSpPr>
          <p:cNvPr id="779" name="자유형 15"/>
          <p:cNvSpPr/>
          <p:nvPr/>
        </p:nvSpPr>
        <p:spPr>
          <a:xfrm>
            <a:off x="5477040" y="3648240"/>
            <a:ext cx="1361880" cy="484200"/>
          </a:xfrm>
          <a:custGeom>
            <a:avLst/>
            <a:gdLst/>
            <a:ahLst/>
            <a:rect l="l" t="t" r="r" b="b"/>
            <a:pathLst>
              <a:path w="1361873" h="484762">
                <a:moveTo>
                  <a:pt x="1361873" y="457200"/>
                </a:moveTo>
                <a:cubicBezTo>
                  <a:pt x="1057073" y="470981"/>
                  <a:pt x="752273" y="484762"/>
                  <a:pt x="525294" y="408562"/>
                </a:cubicBezTo>
                <a:cubicBezTo>
                  <a:pt x="298315" y="332362"/>
                  <a:pt x="89170" y="79443"/>
                  <a:pt x="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슬라이드 번호 개체 틀 2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C5C-F1B4-4447-A37A-6F06FA6CAC7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3-4 :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타이머 스레드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 강제 종료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82" name="직사각형 3"/>
          <p:cNvSpPr/>
          <p:nvPr/>
        </p:nvSpPr>
        <p:spPr>
          <a:xfrm>
            <a:off x="4500720" y="214200"/>
            <a:ext cx="4429080" cy="68472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ThreadInterruptEx extends JFrame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 th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ThreadInterrupt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“ThreadInterruptEx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setLayout(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timerLabel = new JLab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imerLabel.setFont(new Font(“Gothic“, Font.ITALIC, 8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imerRunnable runnable = new TimerRunnable(time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 = new Thread(runnable); //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스레드 생성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time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//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을 생성하고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Action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리스너 등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Button btn =new JButton(“kill Timer“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btn.addActionListener(new ActionListener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actionPerformed(Action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.interrupt(); //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타이머 스레드 강제 종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Button btn = (JButton)e.getSourc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btn.setEnabled(false); //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버튼 비활성화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}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.add(bt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h.start(); //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스레드 동작시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ThreadInterrupt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직사각형 4"/>
          <p:cNvSpPr/>
          <p:nvPr/>
        </p:nvSpPr>
        <p:spPr>
          <a:xfrm>
            <a:off x="428760" y="1428840"/>
            <a:ext cx="3744720" cy="465696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TimerRunnable implements Runnabl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timerLabel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TimerRunnable(JLabel timerLabel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is.timerLabel = time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n=0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while(true) {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imerLabel.setText(Integer.toString(n)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++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hread.sleep(1000); // 1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초 동안 잠을 잔다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atch(InterruptedException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return; //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예외가 발생하면 스레드 종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857-81DB-4D3A-9BC1-06CD0F2F84B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실행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: 1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초씩 작동하는 타이머 스레드 강제 종료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86" name="TextBox 12"/>
          <p:cNvSpPr/>
          <p:nvPr/>
        </p:nvSpPr>
        <p:spPr>
          <a:xfrm>
            <a:off x="4797000" y="2954160"/>
            <a:ext cx="28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ill Timer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버튼을 클릭하면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타이머가 멈춘다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버튼은 비활성화된다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4788000" y="1400040"/>
            <a:ext cx="2857320" cy="14288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" descr=""/>
          <p:cNvPicPr/>
          <p:nvPr/>
        </p:nvPicPr>
        <p:blipFill>
          <a:blip r:embed="rId2"/>
          <a:stretch/>
        </p:blipFill>
        <p:spPr>
          <a:xfrm>
            <a:off x="1258920" y="1428840"/>
            <a:ext cx="2857320" cy="1428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9"/>
          <p:cNvSpPr/>
          <p:nvPr/>
        </p:nvSpPr>
        <p:spPr>
          <a:xfrm>
            <a:off x="1794960" y="286236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타이머는 정상 작동한다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927-CBBF-48F9-AA7B-77FFB3D4F48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동기화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Thread Synchronization)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멀티스레드 프로그램의 주의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다수의 스레드가 공유 데이타에 동시에 접근하는 경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공유데이타의 값에 예상치 못한 결과 발생 가능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동기화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멀티스레드의 공유 데이타의 동시 접근 문제 해결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공유데이타를 접근하고하 하는 모든 스레드의 한 줄 세우기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한 스레드가 공유 데이타에 대한 작업을 끝낼 때까지 다른 스레드가 공유 데이타에 접근하지 못하도록 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3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1E0B-812F-40F4-B46B-04B4336C049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두 스레드가 프린터에 동시 쓰기를 수행하는 경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pic>
        <p:nvPicPr>
          <p:cNvPr id="795" name="Picture 3" descr="C:\Users\황수희\AppData\Local\Microsoft\Windows\Temporary Internet Files\Content.IE5\X0GF8T68\MCj03456730000[1].wmf"/>
          <p:cNvPicPr/>
          <p:nvPr/>
        </p:nvPicPr>
        <p:blipFill>
          <a:blip r:embed="rId1"/>
          <a:stretch/>
        </p:blipFill>
        <p:spPr>
          <a:xfrm>
            <a:off x="1500120" y="3571920"/>
            <a:ext cx="1068480" cy="701640"/>
          </a:xfrm>
          <a:prstGeom prst="rect">
            <a:avLst/>
          </a:prstGeom>
          <a:ln w="0">
            <a:noFill/>
          </a:ln>
        </p:spPr>
      </p:pic>
      <p:sp>
        <p:nvSpPr>
          <p:cNvPr id="796" name="직사각형 5"/>
          <p:cNvSpPr/>
          <p:nvPr/>
        </p:nvSpPr>
        <p:spPr>
          <a:xfrm>
            <a:off x="1071720" y="1928880"/>
            <a:ext cx="928440" cy="500040"/>
          </a:xfrm>
          <a:prstGeom prst="rect">
            <a:avLst/>
          </a:prstGeom>
          <a:solidFill>
            <a:srgbClr val="f1cc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직사각형 6"/>
          <p:cNvSpPr/>
          <p:nvPr/>
        </p:nvSpPr>
        <p:spPr>
          <a:xfrm>
            <a:off x="2357280" y="1928880"/>
            <a:ext cx="928800" cy="500040"/>
          </a:xfrm>
          <a:prstGeom prst="rect">
            <a:avLst/>
          </a:prstGeom>
          <a:solidFill>
            <a:srgbClr val="f1cc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8" name="직선 화살표 연결선 8"/>
          <p:cNvCxnSpPr>
            <a:stCxn id="796" idx="2"/>
          </p:cNvCxnSpPr>
          <p:nvPr/>
        </p:nvCxnSpPr>
        <p:spPr>
          <a:xfrm>
            <a:off x="1535040" y="2428560"/>
            <a:ext cx="394560" cy="11437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799" name="직선 화살표 연결선 10"/>
          <p:cNvCxnSpPr>
            <a:stCxn id="797" idx="2"/>
          </p:cNvCxnSpPr>
          <p:nvPr/>
        </p:nvCxnSpPr>
        <p:spPr>
          <a:xfrm flipH="1">
            <a:off x="2214360" y="2428560"/>
            <a:ext cx="606960" cy="11437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800" name="순서도: 문서 11"/>
          <p:cNvSpPr/>
          <p:nvPr/>
        </p:nvSpPr>
        <p:spPr>
          <a:xfrm>
            <a:off x="1500120" y="4572000"/>
            <a:ext cx="1143000" cy="1285920"/>
          </a:xfrm>
          <a:prstGeom prst="flowChartDocumen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I love </a:t>
            </a: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자바는 좋은 것이야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배워서 많이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forever. </a:t>
            </a: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알고 취직도 잘 되고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TextBox 12"/>
          <p:cNvSpPr/>
          <p:nvPr/>
        </p:nvSpPr>
        <p:spPr>
          <a:xfrm>
            <a:off x="1016280" y="264312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I love you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forever.”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2655360" y="2571840"/>
            <a:ext cx="132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“</a:t>
            </a: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자바는 좋은 것이야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배워서 많이 알고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취직도 잘 되고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3" name="직선 화살표 연결선 15"/>
          <p:cNvCxnSpPr>
            <a:endCxn id="800" idx="0"/>
          </p:cNvCxnSpPr>
          <p:nvPr/>
        </p:nvCxnSpPr>
        <p:spPr>
          <a:xfrm>
            <a:off x="2035080" y="4273200"/>
            <a:ext cx="37440" cy="299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pic>
        <p:nvPicPr>
          <p:cNvPr id="804" name="Picture 3" descr="C:\Users\황수희\AppData\Local\Microsoft\Windows\Temporary Internet Files\Content.IE5\X0GF8T68\MCj03456730000[1].wmf"/>
          <p:cNvPicPr/>
          <p:nvPr/>
        </p:nvPicPr>
        <p:blipFill>
          <a:blip r:embed="rId2"/>
          <a:stretch/>
        </p:blipFill>
        <p:spPr>
          <a:xfrm>
            <a:off x="5786280" y="3429000"/>
            <a:ext cx="1068480" cy="701640"/>
          </a:xfrm>
          <a:prstGeom prst="rect">
            <a:avLst/>
          </a:prstGeom>
          <a:ln w="0">
            <a:noFill/>
          </a:ln>
        </p:spPr>
      </p:pic>
      <p:sp>
        <p:nvSpPr>
          <p:cNvPr id="805" name="직사각형 56"/>
          <p:cNvSpPr/>
          <p:nvPr/>
        </p:nvSpPr>
        <p:spPr>
          <a:xfrm>
            <a:off x="5857920" y="2500200"/>
            <a:ext cx="928800" cy="500040"/>
          </a:xfrm>
          <a:prstGeom prst="rect">
            <a:avLst/>
          </a:prstGeom>
          <a:solidFill>
            <a:srgbClr val="f1cc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직사각형 57"/>
          <p:cNvSpPr/>
          <p:nvPr/>
        </p:nvSpPr>
        <p:spPr>
          <a:xfrm>
            <a:off x="5857920" y="785880"/>
            <a:ext cx="928800" cy="500040"/>
          </a:xfrm>
          <a:prstGeom prst="rect">
            <a:avLst/>
          </a:prstGeom>
          <a:solidFill>
            <a:srgbClr val="f1cc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7" name="직선 화살표 연결선 58"/>
          <p:cNvCxnSpPr>
            <a:stCxn id="805" idx="2"/>
          </p:cNvCxnSpPr>
          <p:nvPr/>
        </p:nvCxnSpPr>
        <p:spPr>
          <a:xfrm flipH="1">
            <a:off x="6321240" y="2999880"/>
            <a:ext cx="2160" cy="4294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808" name="직선 화살표 연결선 59"/>
          <p:cNvCxnSpPr>
            <a:stCxn id="806" idx="2"/>
          </p:cNvCxnSpPr>
          <p:nvPr/>
        </p:nvCxnSpPr>
        <p:spPr>
          <a:xfrm flipH="1">
            <a:off x="6285960" y="1285560"/>
            <a:ext cx="37080" cy="786600"/>
          </a:xfrm>
          <a:prstGeom prst="straightConnector1">
            <a:avLst/>
          </a:prstGeom>
          <a:ln w="10080">
            <a:solidFill>
              <a:srgbClr val="94b6d2"/>
            </a:solidFill>
            <a:prstDash val="dash"/>
            <a:miter/>
            <a:tailEnd len="med" type="arrow" w="med"/>
          </a:ln>
        </p:spPr>
      </p:cxnSp>
      <p:sp>
        <p:nvSpPr>
          <p:cNvPr id="809" name="순서도: 문서 60"/>
          <p:cNvSpPr/>
          <p:nvPr/>
        </p:nvSpPr>
        <p:spPr>
          <a:xfrm>
            <a:off x="5715000" y="4500720"/>
            <a:ext cx="1143000" cy="1285560"/>
          </a:xfrm>
          <a:prstGeom prst="flowChartDocumen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I lov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you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forever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TextBox 61"/>
          <p:cNvSpPr/>
          <p:nvPr/>
        </p:nvSpPr>
        <p:spPr>
          <a:xfrm>
            <a:off x="5445360" y="300024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I love you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w Cen MT"/>
              </a:rPr>
              <a:t>forever.”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TextBox 62"/>
          <p:cNvSpPr/>
          <p:nvPr/>
        </p:nvSpPr>
        <p:spPr>
          <a:xfrm>
            <a:off x="6370200" y="1357200"/>
            <a:ext cx="132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“</a:t>
            </a: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자바는 좋은 것이야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배워서 많이 알고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70c0"/>
                </a:solidFill>
                <a:latin typeface="Tw Cen MT"/>
              </a:rPr>
              <a:t>취직도 잘 되고</a:t>
            </a:r>
            <a:r>
              <a:rPr b="0" lang="en-US" sz="1400" spc="-1" strike="noStrike">
                <a:solidFill>
                  <a:srgbClr val="0070c0"/>
                </a:solidFill>
                <a:latin typeface="Tw Cen MT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2" name="직선 화살표 연결선 63"/>
          <p:cNvCxnSpPr>
            <a:endCxn id="809" idx="0"/>
          </p:cNvCxnSpPr>
          <p:nvPr/>
        </p:nvCxnSpPr>
        <p:spPr>
          <a:xfrm flipH="1">
            <a:off x="6285960" y="4130640"/>
            <a:ext cx="35640" cy="37080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813" name="직사각형 73"/>
          <p:cNvSpPr/>
          <p:nvPr/>
        </p:nvSpPr>
        <p:spPr>
          <a:xfrm>
            <a:off x="5143680" y="2357280"/>
            <a:ext cx="2428560" cy="357192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TextBox 77"/>
          <p:cNvSpPr/>
          <p:nvPr/>
        </p:nvSpPr>
        <p:spPr>
          <a:xfrm>
            <a:off x="5031000" y="2071800"/>
            <a:ext cx="27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가 프린터 사용을 끝낼때까지 기다린다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곱셈 기호 81"/>
          <p:cNvSpPr/>
          <p:nvPr/>
        </p:nvSpPr>
        <p:spPr>
          <a:xfrm>
            <a:off x="0" y="1500120"/>
            <a:ext cx="3929040" cy="4786560"/>
          </a:xfrm>
          <a:custGeom>
            <a:avLst/>
            <a:gdLst>
              <a:gd name="textAreaLeft" fmla="*/ 788760 w 3929040"/>
              <a:gd name="textAreaRight" fmla="*/ 3140280 w 3929040"/>
              <a:gd name="textAreaTop" fmla="*/ 1022400 h 4786560"/>
              <a:gd name="textAreaBottom" fmla="*/ 3764160 h 4786560"/>
            </a:gdLst>
            <a:ahLst/>
            <a:rect l="textAreaLeft" t="textAreaTop" r="textAreaRight" b="textAreaBottom"/>
            <a:pathLst>
              <a:path w="3929090" h="4786346">
                <a:moveTo>
                  <a:pt x="788893" y="1276615"/>
                </a:moveTo>
                <a:lnTo>
                  <a:pt x="1098445" y="1022506"/>
                </a:lnTo>
                <a:lnTo>
                  <a:pt x="1964545" y="2077573"/>
                </a:lnTo>
                <a:lnTo>
                  <a:pt x="2830645" y="1022506"/>
                </a:lnTo>
                <a:lnTo>
                  <a:pt x="3140197" y="1276615"/>
                </a:lnTo>
                <a:lnTo>
                  <a:pt x="2223620" y="2393173"/>
                </a:lnTo>
                <a:lnTo>
                  <a:pt x="3140197" y="3509731"/>
                </a:lnTo>
                <a:lnTo>
                  <a:pt x="2830645" y="3763840"/>
                </a:lnTo>
                <a:lnTo>
                  <a:pt x="1964545" y="2708773"/>
                </a:lnTo>
                <a:lnTo>
                  <a:pt x="1098445" y="3763840"/>
                </a:lnTo>
                <a:lnTo>
                  <a:pt x="788893" y="3509731"/>
                </a:lnTo>
                <a:lnTo>
                  <a:pt x="1705470" y="2393173"/>
                </a:lnTo>
                <a:close/>
              </a:path>
            </a:pathLst>
          </a:custGeom>
          <a:solidFill>
            <a:srgbClr val="92d05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TextBox 23"/>
          <p:cNvSpPr/>
          <p:nvPr/>
        </p:nvSpPr>
        <p:spPr>
          <a:xfrm>
            <a:off x="710640" y="607212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두 개의 스레드가 동시에 프린터에 쓰는 경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문제 발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TextBox 25"/>
          <p:cNvSpPr/>
          <p:nvPr/>
        </p:nvSpPr>
        <p:spPr>
          <a:xfrm>
            <a:off x="4822920" y="621504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두 개의 스레드가 순서를 지켜 프린터에 쓰는 경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정상 출력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슬라이드 번호 개체 틀 2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983D-CDB4-4F6D-9B31-7B51E09D8D8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5743440" cy="40719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thread)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개념과 실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thread)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2274480" y="5479920"/>
            <a:ext cx="124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w Cen MT"/>
              </a:rPr>
              <a:t>스레드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A </a:t>
            </a:r>
            <a:r>
              <a:rPr b="0" lang="ko-KR" sz="1800" spc="-1" strike="noStrike">
                <a:solidFill>
                  <a:srgbClr val="ff0000"/>
                </a:solidFill>
                <a:latin typeface="Tw Cen MT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TextBox 17"/>
          <p:cNvSpPr/>
          <p:nvPr/>
        </p:nvSpPr>
        <p:spPr>
          <a:xfrm>
            <a:off x="4536360" y="5470560"/>
            <a:ext cx="124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f0"/>
                </a:solidFill>
                <a:latin typeface="Tw Cen MT"/>
              </a:rPr>
              <a:t>스레드 </a:t>
            </a:r>
            <a:r>
              <a:rPr b="0" lang="en-US" sz="1800" spc="-1" strike="noStrike">
                <a:solidFill>
                  <a:srgbClr val="00b0f0"/>
                </a:solidFill>
                <a:latin typeface="Tw Cen MT"/>
              </a:rPr>
              <a:t>B </a:t>
            </a:r>
            <a:r>
              <a:rPr b="0" lang="ko-KR" sz="1800" spc="-1" strike="noStrike">
                <a:solidFill>
                  <a:srgbClr val="00b0f0"/>
                </a:solidFill>
                <a:latin typeface="Tw Cen MT"/>
              </a:rPr>
              <a:t>생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6357960" y="421488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마치 바늘이 하나의 실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thread)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을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가지고 바느질하는 것과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자바의 스레드는 일맥 상통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9E7D-335D-4B6D-9955-BEC0EA18579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공유 집계판을 동시 접근하는 경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8391240" cy="2238120"/>
          </a:xfrm>
          <a:prstGeom prst="rect">
            <a:avLst/>
          </a:prstGeom>
          <a:ln w="0">
            <a:noFill/>
          </a:ln>
        </p:spPr>
      </p:pic>
      <p:sp>
        <p:nvSpPr>
          <p:cNvPr id="821" name="곱셈 기호 4"/>
          <p:cNvSpPr/>
          <p:nvPr/>
        </p:nvSpPr>
        <p:spPr>
          <a:xfrm>
            <a:off x="-857160" y="857160"/>
            <a:ext cx="4643280" cy="4786560"/>
          </a:xfrm>
          <a:custGeom>
            <a:avLst/>
            <a:gdLst>
              <a:gd name="textAreaLeft" fmla="*/ 945360 w 4643280"/>
              <a:gd name="textAreaRight" fmla="*/ 3697920 w 4643280"/>
              <a:gd name="textAreaTop" fmla="*/ 984600 h 4786560"/>
              <a:gd name="textAreaBottom" fmla="*/ 3801960 h 4786560"/>
            </a:gdLst>
            <a:ahLst/>
            <a:rect l="textAreaLeft" t="textAreaTop" r="textAreaRight" b="textAreaBottom"/>
            <a:pathLst>
              <a:path w="4643470" h="4786346">
                <a:moveTo>
                  <a:pt x="945389" y="1314346"/>
                </a:moveTo>
                <a:lnTo>
                  <a:pt x="1285101" y="984775"/>
                </a:lnTo>
                <a:lnTo>
                  <a:pt x="2321735" y="2053305"/>
                </a:lnTo>
                <a:lnTo>
                  <a:pt x="3358369" y="984775"/>
                </a:lnTo>
                <a:lnTo>
                  <a:pt x="3698081" y="1314346"/>
                </a:lnTo>
                <a:lnTo>
                  <a:pt x="2651458" y="2393173"/>
                </a:lnTo>
                <a:lnTo>
                  <a:pt x="3698081" y="3472000"/>
                </a:lnTo>
                <a:lnTo>
                  <a:pt x="3358369" y="3801571"/>
                </a:lnTo>
                <a:lnTo>
                  <a:pt x="2321735" y="2733041"/>
                </a:lnTo>
                <a:lnTo>
                  <a:pt x="1285101" y="3801571"/>
                </a:lnTo>
                <a:lnTo>
                  <a:pt x="945389" y="3472000"/>
                </a:lnTo>
                <a:lnTo>
                  <a:pt x="1992012" y="2393173"/>
                </a:lnTo>
                <a:close/>
              </a:path>
            </a:pathLst>
          </a:custGeom>
          <a:solidFill>
            <a:srgbClr val="92d05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타원형 설명선 5"/>
          <p:cNvSpPr/>
          <p:nvPr/>
        </p:nvSpPr>
        <p:spPr>
          <a:xfrm>
            <a:off x="2428920" y="1857240"/>
            <a:ext cx="1071360" cy="571680"/>
          </a:xfrm>
          <a:prstGeom prst="wedgeEllipseCallout">
            <a:avLst>
              <a:gd name="adj1" fmla="val -75666"/>
              <a:gd name="adj2" fmla="val 91425"/>
            </a:avLst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w Cen MT"/>
              </a:rPr>
              <a:t>50+10=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타원형 설명선 6"/>
          <p:cNvSpPr/>
          <p:nvPr/>
        </p:nvSpPr>
        <p:spPr>
          <a:xfrm>
            <a:off x="214200" y="2000160"/>
            <a:ext cx="1071720" cy="571680"/>
          </a:xfrm>
          <a:prstGeom prst="wedgeEllipseCallout">
            <a:avLst>
              <a:gd name="adj1" fmla="val 34763"/>
              <a:gd name="adj2" fmla="val 75888"/>
            </a:avLst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w Cen MT"/>
              </a:rPr>
              <a:t>50+10=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TextBox 8"/>
          <p:cNvSpPr/>
          <p:nvPr/>
        </p:nvSpPr>
        <p:spPr>
          <a:xfrm>
            <a:off x="709560" y="42861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학생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9"/>
          <p:cNvSpPr/>
          <p:nvPr/>
        </p:nvSpPr>
        <p:spPr>
          <a:xfrm>
            <a:off x="1770120" y="428616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학생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10"/>
          <p:cNvSpPr/>
          <p:nvPr/>
        </p:nvSpPr>
        <p:spPr>
          <a:xfrm>
            <a:off x="5110920" y="1571760"/>
            <a:ext cx="164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학생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는 학생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가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계수를 끝낸 후 계수를 시작함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TextBox 11"/>
          <p:cNvSpPr/>
          <p:nvPr/>
        </p:nvSpPr>
        <p:spPr>
          <a:xfrm>
            <a:off x="5627880" y="41432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학생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TextBox 12"/>
          <p:cNvSpPr/>
          <p:nvPr/>
        </p:nvSpPr>
        <p:spPr>
          <a:xfrm>
            <a:off x="4425120" y="3929040"/>
            <a:ext cx="6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학생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8067600" y="350028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학생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TextBox 14"/>
          <p:cNvSpPr/>
          <p:nvPr/>
        </p:nvSpPr>
        <p:spPr>
          <a:xfrm>
            <a:off x="7643880" y="164304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학생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는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60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을 기록하고 나감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89720" y="5357880"/>
            <a:ext cx="37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두 학생이 동시에 방에 들어와서 집계판을 수정하는 경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집계판의 결과가 잘못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4790160" y="5429160"/>
            <a:ext cx="37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방에 먼저 들어간 학생이 집계를 끝내기를 기다리는 경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정상 처리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슬라이드 번호 개체 틀 1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458-98C8-4B20-B60D-E003026324C6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synchronized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키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12720" y="1285560"/>
            <a:ext cx="81532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synchronized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키워드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한 스레드만이 독점적으로 실행되어야 하는 부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동기화 코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표시하는 키워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임계 영역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ciritical sectio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표기하는 키워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synchronized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키워드 사용 가능한 부분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메소드 전체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코드 블럭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synchronized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부분의 실행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모니터를 소유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모니터란 해당 객체를 독점적으로 사용할 수 있는 권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모니터를 먼저 소유한 스레드가 모니터를 내놓을 때까지 다른 스레드는 기다려야 한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836" name="그룹 7"/>
          <p:cNvGrpSpPr/>
          <p:nvPr/>
        </p:nvGrpSpPr>
        <p:grpSpPr>
          <a:xfrm>
            <a:off x="1854000" y="3857760"/>
            <a:ext cx="4691160" cy="2736000"/>
            <a:chOff x="1854000" y="3857760"/>
            <a:chExt cx="4691160" cy="2736000"/>
          </a:xfrm>
        </p:grpSpPr>
        <p:sp>
          <p:nvSpPr>
            <p:cNvPr id="837" name="TextBox 3"/>
            <p:cNvSpPr/>
            <p:nvPr/>
          </p:nvSpPr>
          <p:spPr>
            <a:xfrm>
              <a:off x="1854000" y="5143680"/>
              <a:ext cx="2373120" cy="1159560"/>
            </a:xfrm>
            <a:prstGeom prst="rect">
              <a:avLst/>
            </a:prstGeom>
            <a:solidFill>
              <a:srgbClr val="d4e2ed"/>
            </a:solidFill>
            <a:ln w="9360">
              <a:solidFill>
                <a:srgbClr val="558b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w Cen MT"/>
                </a:rPr>
                <a:t>synchronized 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void add() {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int n = getCurrentSum()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n+=10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setCurrentSum(n)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8" name="TextBox 4"/>
            <p:cNvSpPr/>
            <p:nvPr/>
          </p:nvSpPr>
          <p:spPr>
            <a:xfrm>
              <a:off x="3992400" y="3857760"/>
              <a:ext cx="2552760" cy="2438280"/>
            </a:xfrm>
            <a:prstGeom prst="rect">
              <a:avLst/>
            </a:prstGeom>
            <a:solidFill>
              <a:srgbClr val="d4e2ed"/>
            </a:solidFill>
            <a:ln w="9360">
              <a:solidFill>
                <a:srgbClr val="558b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void execute() {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다른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코드들 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// 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w Cen MT"/>
                </a:rPr>
                <a:t>	</a:t>
              </a:r>
              <a:r>
                <a:rPr b="1" lang="en-US" sz="1400" spc="-1" strike="noStrike">
                  <a:solidFill>
                    <a:srgbClr val="ff0000"/>
                  </a:solidFill>
                  <a:latin typeface="Tw Cen MT"/>
                </a:rPr>
                <a:t>synchronized(this) </a:t>
              </a:r>
              <a:r>
                <a:rPr b="0" lang="en-US" sz="1400" spc="-1" strike="noStrike">
                  <a:solidFill>
                    <a:srgbClr val="ff0000"/>
                  </a:solidFill>
                  <a:latin typeface="Tw Cen MT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int n = getCurrentSum()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n+=10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setCurrentSum(n);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Tw Cen MT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// 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// </a:t>
              </a: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다른 코드들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9" name="TextBox 5"/>
            <p:cNvSpPr/>
            <p:nvPr/>
          </p:nvSpPr>
          <p:spPr>
            <a:xfrm>
              <a:off x="2208960" y="6286680"/>
              <a:ext cx="185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synchoronized </a:t>
              </a: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메소드 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0" name="TextBox 6"/>
            <p:cNvSpPr/>
            <p:nvPr/>
          </p:nvSpPr>
          <p:spPr>
            <a:xfrm>
              <a:off x="4187160" y="628668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synchoronized </a:t>
              </a: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코드블럭 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841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58D1-DC84-48A6-BE25-F06017A92AA3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synchronized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사용 예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집계판 사례를 코딩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43" name="직사각형 3"/>
          <p:cNvSpPr/>
          <p:nvPr/>
        </p:nvSpPr>
        <p:spPr>
          <a:xfrm>
            <a:off x="214200" y="857160"/>
            <a:ext cx="4286520" cy="59529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public class SynchronizedEx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yncObject obj =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SyncObject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hread th1 =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WorkerThread("kitae", obj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hread th2 =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WorkerThread("hyosoo", obj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th1.start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th2.start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class SyncObject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int sum = 0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Tw Cen MT"/>
              </a:rPr>
              <a:t>synchronized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void add(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int n = sum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hread.</a:t>
            </a: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currentThread().yield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n += 10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um = n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100" spc="-1" strike="noStrike">
                <a:solidFill>
                  <a:srgbClr val="000000"/>
                </a:solidFill>
                <a:latin typeface="Tw Cen MT"/>
              </a:rPr>
              <a:t>out.println(Thread.currntThread().getName() + " : " + sum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int getSum() {return sum;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class WorkerThread extends Thread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SyncObject sObj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WorkerThread(String name, SyncObject sObj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super(name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this.sObj = sObj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int i=0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while(i&lt;10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sObj.add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i++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TextBox 5"/>
          <p:cNvSpPr/>
          <p:nvPr/>
        </p:nvSpPr>
        <p:spPr>
          <a:xfrm>
            <a:off x="4449600" y="5943600"/>
            <a:ext cx="42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kitae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yosoo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가 각각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번씩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dd()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를 호출하였으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동기화가 잘 이루어져서 최종 누적 점수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m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이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200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이 됨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직사각형 6"/>
          <p:cNvSpPr/>
          <p:nvPr/>
        </p:nvSpPr>
        <p:spPr>
          <a:xfrm>
            <a:off x="4714920" y="2143080"/>
            <a:ext cx="2736720" cy="374436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2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3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4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5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7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9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0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1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2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3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4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5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7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9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20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4549320" y="1214280"/>
            <a:ext cx="32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집계판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: class SyncObjec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각 학생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: class WorkerThre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C38-AC4F-4465-A325-4786670C9208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SyncObject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객체에 대한 스레드의 동시 접근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49" name="모서리가 둥근 직사각형 3"/>
          <p:cNvSpPr/>
          <p:nvPr/>
        </p:nvSpPr>
        <p:spPr>
          <a:xfrm>
            <a:off x="2468520" y="1268280"/>
            <a:ext cx="3714840" cy="2017800"/>
          </a:xfrm>
          <a:prstGeom prst="roundRect">
            <a:avLst>
              <a:gd name="adj" fmla="val 16667"/>
            </a:avLst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ynchronized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void add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t n = sum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.currentThread().yield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 += 10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m = n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out.println(Thread.currntThread()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w Cen MT"/>
              </a:rPr>
              <a:t>getName() + " : " + sum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직사각형 4"/>
          <p:cNvSpPr/>
          <p:nvPr/>
        </p:nvSpPr>
        <p:spPr>
          <a:xfrm>
            <a:off x="539640" y="3786120"/>
            <a:ext cx="3357720" cy="257184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yncObject sObj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un()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 i=0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hile(i&lt;10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Obj.add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직사각형 5"/>
          <p:cNvSpPr/>
          <p:nvPr/>
        </p:nvSpPr>
        <p:spPr>
          <a:xfrm>
            <a:off x="4784760" y="3786120"/>
            <a:ext cx="3357360" cy="257184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yncObject sObj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run()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nt i=0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hile(i&lt;10) {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Obj.add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TextBox 6"/>
          <p:cNvSpPr/>
          <p:nvPr/>
        </p:nvSpPr>
        <p:spPr>
          <a:xfrm>
            <a:off x="3132720" y="907920"/>
            <a:ext cx="25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Obj = new SyncObject(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직사각형 10"/>
          <p:cNvSpPr/>
          <p:nvPr/>
        </p:nvSpPr>
        <p:spPr>
          <a:xfrm>
            <a:off x="1597680" y="63579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1 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직사각형 11"/>
          <p:cNvSpPr/>
          <p:nvPr/>
        </p:nvSpPr>
        <p:spPr>
          <a:xfrm>
            <a:off x="5769360" y="6357960"/>
            <a:ext cx="10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2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자유형 25"/>
          <p:cNvSpPr/>
          <p:nvPr/>
        </p:nvSpPr>
        <p:spPr>
          <a:xfrm>
            <a:off x="1979640" y="1557360"/>
            <a:ext cx="690480" cy="3600360"/>
          </a:xfrm>
          <a:custGeom>
            <a:avLst/>
            <a:gdLst/>
            <a:ahLst/>
            <a:rect l="l" t="t" r="r" b="b"/>
            <a:pathLst>
              <a:path w="1095154" h="3115339">
                <a:moveTo>
                  <a:pt x="0" y="3115339"/>
                </a:moveTo>
                <a:cubicBezTo>
                  <a:pt x="107211" y="3048885"/>
                  <a:pt x="214423" y="2982432"/>
                  <a:pt x="265814" y="2849525"/>
                </a:cubicBezTo>
                <a:cubicBezTo>
                  <a:pt x="317205" y="2716618"/>
                  <a:pt x="299484" y="2663455"/>
                  <a:pt x="308344" y="2317897"/>
                </a:cubicBezTo>
                <a:cubicBezTo>
                  <a:pt x="317204" y="1972339"/>
                  <a:pt x="287079" y="1137684"/>
                  <a:pt x="318977" y="776177"/>
                </a:cubicBezTo>
                <a:cubicBezTo>
                  <a:pt x="350875" y="414670"/>
                  <a:pt x="370367" y="278219"/>
                  <a:pt x="499730" y="148856"/>
                </a:cubicBezTo>
                <a:cubicBezTo>
                  <a:pt x="629093" y="19493"/>
                  <a:pt x="862123" y="9746"/>
                  <a:pt x="1095154" y="0"/>
                </a:cubicBezTo>
              </a:path>
            </a:pathLst>
          </a:custGeom>
          <a:noFill/>
          <a:ln w="28440">
            <a:solidFill>
              <a:srgbClr val="ba8f2d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직사각형 27"/>
          <p:cNvSpPr/>
          <p:nvPr/>
        </p:nvSpPr>
        <p:spPr>
          <a:xfrm>
            <a:off x="366840" y="35002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kerThre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직사각형 28"/>
          <p:cNvSpPr/>
          <p:nvPr/>
        </p:nvSpPr>
        <p:spPr>
          <a:xfrm>
            <a:off x="6540480" y="350028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kerThre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TextBox 30"/>
          <p:cNvSpPr/>
          <p:nvPr/>
        </p:nvSpPr>
        <p:spPr>
          <a:xfrm>
            <a:off x="6551280" y="2637000"/>
            <a:ext cx="10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dd()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실행 중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TextBox 31"/>
          <p:cNvSpPr/>
          <p:nvPr/>
        </p:nvSpPr>
        <p:spPr>
          <a:xfrm>
            <a:off x="1118160" y="2421000"/>
            <a:ext cx="10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dd()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대기 중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0" name="자유형 21"/>
          <p:cNvSpPr/>
          <p:nvPr/>
        </p:nvSpPr>
        <p:spPr>
          <a:xfrm>
            <a:off x="5418000" y="2344680"/>
            <a:ext cx="1241640" cy="2895480"/>
          </a:xfrm>
          <a:custGeom>
            <a:avLst/>
            <a:gdLst/>
            <a:ahLst/>
            <a:rect l="l" t="t" r="r" b="b"/>
            <a:pathLst>
              <a:path w="1327855" h="2895600">
                <a:moveTo>
                  <a:pt x="821266" y="2895600"/>
                </a:moveTo>
                <a:cubicBezTo>
                  <a:pt x="999771" y="2743905"/>
                  <a:pt x="1178277" y="2592210"/>
                  <a:pt x="1253066" y="2218266"/>
                </a:cubicBezTo>
                <a:cubicBezTo>
                  <a:pt x="1327855" y="1844322"/>
                  <a:pt x="1323622" y="993422"/>
                  <a:pt x="1270000" y="651933"/>
                </a:cubicBezTo>
                <a:cubicBezTo>
                  <a:pt x="1216378" y="310444"/>
                  <a:pt x="1143000" y="277988"/>
                  <a:pt x="931333" y="169333"/>
                </a:cubicBezTo>
                <a:cubicBezTo>
                  <a:pt x="719666" y="60678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슬라이드 번호 개체 틀 1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B88E-EA77-4F64-8FD3-AF0868933340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집계판 예에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synchronized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사용하지 않을 경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63" name="TextBox 5"/>
          <p:cNvSpPr/>
          <p:nvPr/>
        </p:nvSpPr>
        <p:spPr>
          <a:xfrm>
            <a:off x="4495680" y="5715000"/>
            <a:ext cx="446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kitae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hyosoo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가 각각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번씩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dd()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를 호출하였지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동기화가 이루어지지 않아 공유 변수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m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에 대한 접근에 충돌이 있었고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수를 많이 잃어버리게 되어 누적 점수가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50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밖에 되지 못함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직사각형 6"/>
          <p:cNvSpPr/>
          <p:nvPr/>
        </p:nvSpPr>
        <p:spPr>
          <a:xfrm>
            <a:off x="4672080" y="1287360"/>
            <a:ext cx="2736720" cy="3744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2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3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3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4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5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5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7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7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9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0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0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1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2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kitae : 13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4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osoo : 15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타원형 설명선 7"/>
          <p:cNvSpPr/>
          <p:nvPr/>
        </p:nvSpPr>
        <p:spPr>
          <a:xfrm>
            <a:off x="5724360" y="2303640"/>
            <a:ext cx="1224000" cy="287280"/>
          </a:xfrm>
          <a:prstGeom prst="wedgeEllipseCallout">
            <a:avLst>
              <a:gd name="adj1" fmla="val -62990"/>
              <a:gd name="adj2" fmla="val 388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w Cen MT"/>
              </a:rPr>
              <a:t>add() </a:t>
            </a:r>
            <a:r>
              <a:rPr b="0" lang="ko-KR" sz="1000" spc="-1" strike="noStrike">
                <a:solidFill>
                  <a:srgbClr val="ff0000"/>
                </a:solidFill>
                <a:latin typeface="Tw Cen MT"/>
              </a:rPr>
              <a:t>충돌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6" name="오른쪽 중괄호 2"/>
          <p:cNvSpPr/>
          <p:nvPr/>
        </p:nvSpPr>
        <p:spPr>
          <a:xfrm>
            <a:off x="5508720" y="2349360"/>
            <a:ext cx="81000" cy="216000"/>
          </a:xfrm>
          <a:custGeom>
            <a:avLst/>
            <a:gdLst>
              <a:gd name="textAreaLeft" fmla="*/ 0 w 81000"/>
              <a:gd name="textAreaRight" fmla="*/ 29160 w 8100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16200" y="10800"/>
                  <a:pt x="21600" y="10800"/>
                </a:cubicBezTo>
                <a:cubicBezTo>
                  <a:pt x="162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타원형 설명선 8"/>
          <p:cNvSpPr/>
          <p:nvPr/>
        </p:nvSpPr>
        <p:spPr>
          <a:xfrm>
            <a:off x="5751360" y="2610000"/>
            <a:ext cx="1224000" cy="287280"/>
          </a:xfrm>
          <a:prstGeom prst="wedgeEllipseCallout">
            <a:avLst>
              <a:gd name="adj1" fmla="val -62990"/>
              <a:gd name="adj2" fmla="val 388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w Cen MT"/>
              </a:rPr>
              <a:t>add() </a:t>
            </a:r>
            <a:r>
              <a:rPr b="0" lang="ko-KR" sz="1200" spc="-1" strike="noStrike">
                <a:solidFill>
                  <a:srgbClr val="ff0000"/>
                </a:solidFill>
                <a:latin typeface="Tw Cen MT"/>
              </a:rPr>
              <a:t>충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오른쪽 중괄호 9"/>
          <p:cNvSpPr/>
          <p:nvPr/>
        </p:nvSpPr>
        <p:spPr>
          <a:xfrm>
            <a:off x="5535720" y="2655720"/>
            <a:ext cx="82440" cy="216000"/>
          </a:xfrm>
          <a:custGeom>
            <a:avLst/>
            <a:gdLst>
              <a:gd name="textAreaLeft" fmla="*/ 0 w 82440"/>
              <a:gd name="textAreaRight" fmla="*/ 29880 w 8244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16200" y="10800"/>
                  <a:pt x="21600" y="10800"/>
                </a:cubicBezTo>
                <a:cubicBezTo>
                  <a:pt x="162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타원형 설명선 10"/>
          <p:cNvSpPr/>
          <p:nvPr/>
        </p:nvSpPr>
        <p:spPr>
          <a:xfrm>
            <a:off x="5738760" y="2981160"/>
            <a:ext cx="1224000" cy="289080"/>
          </a:xfrm>
          <a:prstGeom prst="wedgeEllipseCallout">
            <a:avLst>
              <a:gd name="adj1" fmla="val -62990"/>
              <a:gd name="adj2" fmla="val 388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w Cen MT"/>
              </a:rPr>
              <a:t>add() </a:t>
            </a:r>
            <a:r>
              <a:rPr b="0" lang="ko-KR" sz="1200" spc="-1" strike="noStrike">
                <a:solidFill>
                  <a:srgbClr val="ff0000"/>
                </a:solidFill>
                <a:latin typeface="Tw Cen MT"/>
              </a:rPr>
              <a:t>충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오른쪽 중괄호 11"/>
          <p:cNvSpPr/>
          <p:nvPr/>
        </p:nvSpPr>
        <p:spPr>
          <a:xfrm>
            <a:off x="5522760" y="3027240"/>
            <a:ext cx="81000" cy="216000"/>
          </a:xfrm>
          <a:custGeom>
            <a:avLst/>
            <a:gdLst>
              <a:gd name="textAreaLeft" fmla="*/ 0 w 81000"/>
              <a:gd name="textAreaRight" fmla="*/ 29160 w 81000"/>
              <a:gd name="textAreaTop" fmla="*/ 1800 h 216000"/>
              <a:gd name="textAreaBottom" fmla="*/ 214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16200" y="10800"/>
                  <a:pt x="21600" y="10800"/>
                </a:cubicBezTo>
                <a:cubicBezTo>
                  <a:pt x="162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타원형 설명선 12"/>
          <p:cNvSpPr/>
          <p:nvPr/>
        </p:nvSpPr>
        <p:spPr>
          <a:xfrm>
            <a:off x="5778360" y="3679920"/>
            <a:ext cx="1224000" cy="287280"/>
          </a:xfrm>
          <a:prstGeom prst="wedgeEllipseCallout">
            <a:avLst>
              <a:gd name="adj1" fmla="val -62990"/>
              <a:gd name="adj2" fmla="val 388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w Cen MT"/>
              </a:rPr>
              <a:t>add() </a:t>
            </a:r>
            <a:r>
              <a:rPr b="0" lang="ko-KR" sz="1200" spc="-1" strike="noStrike">
                <a:solidFill>
                  <a:srgbClr val="ff0000"/>
                </a:solidFill>
                <a:latin typeface="Tw Cen MT"/>
              </a:rPr>
              <a:t>충돌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오른쪽 중괄호 13"/>
          <p:cNvSpPr/>
          <p:nvPr/>
        </p:nvSpPr>
        <p:spPr>
          <a:xfrm>
            <a:off x="5562720" y="3726000"/>
            <a:ext cx="81000" cy="215640"/>
          </a:xfrm>
          <a:custGeom>
            <a:avLst/>
            <a:gdLst>
              <a:gd name="textAreaLeft" fmla="*/ 0 w 81000"/>
              <a:gd name="textAreaRight" fmla="*/ 29160 w 81000"/>
              <a:gd name="textAreaTop" fmla="*/ 1800 h 215640"/>
              <a:gd name="textAreaBottom" fmla="*/ 213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16200" y="10800"/>
                  <a:pt x="21600" y="10800"/>
                </a:cubicBezTo>
                <a:cubicBezTo>
                  <a:pt x="162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타원형 설명선 14"/>
          <p:cNvSpPr/>
          <p:nvPr/>
        </p:nvSpPr>
        <p:spPr>
          <a:xfrm>
            <a:off x="5724360" y="1700280"/>
            <a:ext cx="1224000" cy="288720"/>
          </a:xfrm>
          <a:prstGeom prst="wedgeEllipseCallout">
            <a:avLst>
              <a:gd name="adj1" fmla="val -62990"/>
              <a:gd name="adj2" fmla="val 388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w Cen MT"/>
              </a:rPr>
              <a:t>add() </a:t>
            </a:r>
            <a:r>
              <a:rPr b="0" lang="ko-KR" sz="1000" spc="-1" strike="noStrike">
                <a:solidFill>
                  <a:srgbClr val="ff0000"/>
                </a:solidFill>
                <a:latin typeface="Tw Cen MT"/>
              </a:rPr>
              <a:t>충돌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오른쪽 중괄호 15"/>
          <p:cNvSpPr/>
          <p:nvPr/>
        </p:nvSpPr>
        <p:spPr>
          <a:xfrm>
            <a:off x="5508720" y="1746360"/>
            <a:ext cx="81000" cy="217440"/>
          </a:xfrm>
          <a:custGeom>
            <a:avLst/>
            <a:gdLst>
              <a:gd name="textAreaLeft" fmla="*/ 0 w 81000"/>
              <a:gd name="textAreaRight" fmla="*/ 29160 w 81000"/>
              <a:gd name="textAreaTop" fmla="*/ 1800 h 217440"/>
              <a:gd name="textAreaBottom" fmla="*/ 21564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1"/>
                  <a:pt x="10800" y="682"/>
                </a:cubicBezTo>
                <a:lnTo>
                  <a:pt x="10800" y="10118"/>
                </a:lnTo>
                <a:cubicBezTo>
                  <a:pt x="10800" y="10459"/>
                  <a:pt x="16200" y="10800"/>
                  <a:pt x="21600" y="10800"/>
                </a:cubicBezTo>
                <a:cubicBezTo>
                  <a:pt x="16200" y="10800"/>
                  <a:pt x="10800" y="11141"/>
                  <a:pt x="10800" y="11482"/>
                </a:cubicBezTo>
                <a:lnTo>
                  <a:pt x="10800" y="20918"/>
                </a:lnTo>
                <a:cubicBezTo>
                  <a:pt x="10800" y="21259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75" name="직사각형 16" descr=""/>
          <p:cNvPicPr/>
          <p:nvPr/>
        </p:nvPicPr>
        <p:blipFill>
          <a:blip r:embed="rId1"/>
          <a:stretch/>
        </p:blipFill>
        <p:spPr>
          <a:xfrm>
            <a:off x="201600" y="847800"/>
            <a:ext cx="4309920" cy="5870520"/>
          </a:xfrm>
          <a:prstGeom prst="rect">
            <a:avLst/>
          </a:prstGeom>
          <a:ln w="0">
            <a:noFill/>
          </a:ln>
        </p:spPr>
      </p:pic>
      <p:sp>
        <p:nvSpPr>
          <p:cNvPr id="876" name="슬라이드 번호 개체 틀 1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8861-DFE4-4F93-AC6C-C4038BEE37D0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wait(), notify(), notifyAll()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12720" y="1285560"/>
            <a:ext cx="8153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기화 객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두 개 이상의 스레드 사이에 동기화 작업에 사용되는 객체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기화 메소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synchonized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블럭 내에서만 사용되어야 함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wait(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다른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스레드가 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notify()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를 불러줄 때까지 기다린다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notify(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wait()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를 호출로 인해 대기중인 스레드를 깨우고 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RUNNABLE 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상태로 한다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2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개 이상의 스레드가 대기중이라도 오직 한 개의 스레드만 깨워 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RUNNABLE 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상태로 한다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notifyAll(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wait()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를 호출로 인해 대기중인 모든 스레드를 깨우고 이들을 모두 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RUNNABLE </a:t>
            </a: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상태로 다</a:t>
            </a:r>
            <a:r>
              <a:rPr b="0" lang="en-US" sz="15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동기화 메소드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bjec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메소드이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모든 객체가 동기화 객체가 될 수 있다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Thread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객체도 동기화 객체로 사용될 수 있다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650-E186-40BB-88BD-6C2D8CDB52A6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직사각형 3"/>
          <p:cNvSpPr/>
          <p:nvPr/>
        </p:nvSpPr>
        <p:spPr>
          <a:xfrm>
            <a:off x="2500200" y="3214800"/>
            <a:ext cx="1571760" cy="121428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ait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w Cen MT"/>
              </a:rPr>
              <a:t>notify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otifyAll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TextBox 4"/>
          <p:cNvSpPr/>
          <p:nvPr/>
        </p:nvSpPr>
        <p:spPr>
          <a:xfrm>
            <a:off x="2832480" y="2857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직사각형 5"/>
          <p:cNvSpPr/>
          <p:nvPr/>
        </p:nvSpPr>
        <p:spPr>
          <a:xfrm>
            <a:off x="2643120" y="4000680"/>
            <a:ext cx="1357560" cy="285480"/>
          </a:xfrm>
          <a:prstGeom prst="rect">
            <a:avLst/>
          </a:prstGeom>
          <a:solidFill>
            <a:srgbClr val="43d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타원 6"/>
          <p:cNvSpPr/>
          <p:nvPr/>
        </p:nvSpPr>
        <p:spPr>
          <a:xfrm>
            <a:off x="1000080" y="299232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84" name="직선 화살표 연결선 7"/>
          <p:cNvCxnSpPr>
            <a:stCxn id="883" idx="6"/>
          </p:cNvCxnSpPr>
          <p:nvPr/>
        </p:nvCxnSpPr>
        <p:spPr>
          <a:xfrm>
            <a:off x="2142720" y="3359160"/>
            <a:ext cx="786600" cy="427680"/>
          </a:xfrm>
          <a:prstGeom prst="straightConnector1">
            <a:avLst/>
          </a:prstGeom>
          <a:ln w="10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885" name="타원 8"/>
          <p:cNvSpPr/>
          <p:nvPr/>
        </p:nvSpPr>
        <p:spPr>
          <a:xfrm>
            <a:off x="4429080" y="227808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B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86" name="직선 화살표 연결선 9"/>
          <p:cNvCxnSpPr>
            <a:stCxn id="885" idx="2"/>
          </p:cNvCxnSpPr>
          <p:nvPr/>
        </p:nvCxnSpPr>
        <p:spPr>
          <a:xfrm flipH="1">
            <a:off x="3499920" y="2644920"/>
            <a:ext cx="929520" cy="784800"/>
          </a:xfrm>
          <a:prstGeom prst="straightConnector1">
            <a:avLst/>
          </a:prstGeom>
          <a:ln w="10080">
            <a:solidFill>
              <a:srgbClr val="43d94a"/>
            </a:solidFill>
            <a:prstDash val="dash"/>
            <a:miter/>
            <a:tailEnd len="med" type="arrow" w="med"/>
          </a:ln>
        </p:spPr>
      </p:cxnSp>
      <p:sp>
        <p:nvSpPr>
          <p:cNvPr id="887" name="타원 10"/>
          <p:cNvSpPr/>
          <p:nvPr/>
        </p:nvSpPr>
        <p:spPr>
          <a:xfrm>
            <a:off x="4429080" y="277812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C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타원 11"/>
          <p:cNvSpPr/>
          <p:nvPr/>
        </p:nvSpPr>
        <p:spPr>
          <a:xfrm>
            <a:off x="4429080" y="327816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D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타원 12"/>
          <p:cNvSpPr/>
          <p:nvPr/>
        </p:nvSpPr>
        <p:spPr>
          <a:xfrm>
            <a:off x="4429080" y="377820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90" name="직선 화살표 연결선 13"/>
          <p:cNvCxnSpPr>
            <a:stCxn id="887" idx="2"/>
          </p:cNvCxnSpPr>
          <p:nvPr/>
        </p:nvCxnSpPr>
        <p:spPr>
          <a:xfrm flipH="1">
            <a:off x="3571200" y="3143880"/>
            <a:ext cx="857880" cy="284400"/>
          </a:xfrm>
          <a:prstGeom prst="straightConnector1">
            <a:avLst/>
          </a:prstGeom>
          <a:ln w="10080">
            <a:solidFill>
              <a:srgbClr val="43d94a"/>
            </a:solidFill>
            <a:prstDash val="dash"/>
            <a:miter/>
            <a:tailEnd len="med" type="arrow" w="med"/>
          </a:ln>
        </p:spPr>
      </p:cxnSp>
      <p:cxnSp>
        <p:nvCxnSpPr>
          <p:cNvPr id="891" name="직선 화살표 연결선 14"/>
          <p:cNvCxnSpPr>
            <a:stCxn id="888" idx="2"/>
          </p:cNvCxnSpPr>
          <p:nvPr/>
        </p:nvCxnSpPr>
        <p:spPr>
          <a:xfrm flipH="1" flipV="1">
            <a:off x="3571200" y="3428640"/>
            <a:ext cx="857880" cy="216720"/>
          </a:xfrm>
          <a:prstGeom prst="straightConnector1">
            <a:avLst/>
          </a:prstGeom>
          <a:ln w="10080">
            <a:solidFill>
              <a:srgbClr val="92d050"/>
            </a:solidFill>
            <a:prstDash val="dash"/>
            <a:miter/>
            <a:tailEnd len="med" type="arrow" w="med"/>
          </a:ln>
        </p:spPr>
      </p:cxnSp>
      <p:cxnSp>
        <p:nvCxnSpPr>
          <p:cNvPr id="892" name="직선 화살표 연결선 15"/>
          <p:cNvCxnSpPr>
            <a:stCxn id="889" idx="2"/>
          </p:cNvCxnSpPr>
          <p:nvPr/>
        </p:nvCxnSpPr>
        <p:spPr>
          <a:xfrm flipH="1" flipV="1">
            <a:off x="3571200" y="3428280"/>
            <a:ext cx="857880" cy="716760"/>
          </a:xfrm>
          <a:prstGeom prst="straightConnector1">
            <a:avLst/>
          </a:prstGeom>
          <a:ln w="10080">
            <a:solidFill>
              <a:srgbClr val="92d050"/>
            </a:solidFill>
            <a:prstDash val="dash"/>
            <a:miter/>
            <a:tailEnd len="med" type="arrow" w="med"/>
          </a:ln>
        </p:spPr>
      </p:cxnSp>
      <p:sp>
        <p:nvSpPr>
          <p:cNvPr id="893" name="TextBox 16"/>
          <p:cNvSpPr/>
          <p:nvPr/>
        </p:nvSpPr>
        <p:spPr>
          <a:xfrm>
            <a:off x="5803920" y="30718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잠자는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4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개의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를 모드 깨운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직사각형 17"/>
          <p:cNvSpPr/>
          <p:nvPr/>
        </p:nvSpPr>
        <p:spPr>
          <a:xfrm>
            <a:off x="2500200" y="5500800"/>
            <a:ext cx="1571760" cy="121428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ait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otify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w Cen MT"/>
              </a:rPr>
              <a:t>notifyAll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TextBox 18"/>
          <p:cNvSpPr/>
          <p:nvPr/>
        </p:nvSpPr>
        <p:spPr>
          <a:xfrm>
            <a:off x="2832480" y="5143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직사각형 19"/>
          <p:cNvSpPr/>
          <p:nvPr/>
        </p:nvSpPr>
        <p:spPr>
          <a:xfrm>
            <a:off x="2643120" y="6286680"/>
            <a:ext cx="1357560" cy="285480"/>
          </a:xfrm>
          <a:prstGeom prst="rect">
            <a:avLst/>
          </a:prstGeom>
          <a:solidFill>
            <a:srgbClr val="43d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타원 20"/>
          <p:cNvSpPr/>
          <p:nvPr/>
        </p:nvSpPr>
        <p:spPr>
          <a:xfrm>
            <a:off x="1000080" y="527832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98" name="직선 화살표 연결선 21"/>
          <p:cNvCxnSpPr>
            <a:stCxn id="897" idx="6"/>
          </p:cNvCxnSpPr>
          <p:nvPr/>
        </p:nvCxnSpPr>
        <p:spPr>
          <a:xfrm>
            <a:off x="2142720" y="5644800"/>
            <a:ext cx="857880" cy="284400"/>
          </a:xfrm>
          <a:prstGeom prst="straightConnector1">
            <a:avLst/>
          </a:prstGeom>
          <a:ln w="10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899" name="타원 22"/>
          <p:cNvSpPr/>
          <p:nvPr/>
        </p:nvSpPr>
        <p:spPr>
          <a:xfrm>
            <a:off x="4429080" y="456408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B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00" name="직선 화살표 연결선 23"/>
          <p:cNvCxnSpPr>
            <a:stCxn id="899" idx="2"/>
          </p:cNvCxnSpPr>
          <p:nvPr/>
        </p:nvCxnSpPr>
        <p:spPr>
          <a:xfrm flipH="1">
            <a:off x="3499920" y="4930920"/>
            <a:ext cx="929520" cy="784800"/>
          </a:xfrm>
          <a:prstGeom prst="straightConnector1">
            <a:avLst/>
          </a:prstGeom>
          <a:ln w="10080">
            <a:solidFill>
              <a:srgbClr val="43d94a"/>
            </a:solidFill>
            <a:prstDash val="dash"/>
            <a:miter/>
            <a:tailEnd len="med" type="arrow" w="med"/>
          </a:ln>
        </p:spPr>
      </p:cxnSp>
      <p:sp>
        <p:nvSpPr>
          <p:cNvPr id="901" name="타원 24"/>
          <p:cNvSpPr/>
          <p:nvPr/>
        </p:nvSpPr>
        <p:spPr>
          <a:xfrm>
            <a:off x="4429080" y="506412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C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타원 25"/>
          <p:cNvSpPr/>
          <p:nvPr/>
        </p:nvSpPr>
        <p:spPr>
          <a:xfrm>
            <a:off x="4429080" y="556416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D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타원 26"/>
          <p:cNvSpPr/>
          <p:nvPr/>
        </p:nvSpPr>
        <p:spPr>
          <a:xfrm>
            <a:off x="4429080" y="606420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04" name="직선 화살표 연결선 27"/>
          <p:cNvCxnSpPr>
            <a:stCxn id="901" idx="2"/>
          </p:cNvCxnSpPr>
          <p:nvPr/>
        </p:nvCxnSpPr>
        <p:spPr>
          <a:xfrm flipH="1">
            <a:off x="3571200" y="5429880"/>
            <a:ext cx="857880" cy="284400"/>
          </a:xfrm>
          <a:prstGeom prst="straightConnector1">
            <a:avLst/>
          </a:prstGeom>
          <a:ln w="10080">
            <a:solidFill>
              <a:srgbClr val="43d94a"/>
            </a:solidFill>
            <a:prstDash val="dash"/>
            <a:miter/>
            <a:tailEnd len="med" type="arrow" w="med"/>
          </a:ln>
        </p:spPr>
      </p:cxnSp>
      <p:cxnSp>
        <p:nvCxnSpPr>
          <p:cNvPr id="905" name="직선 화살표 연결선 28"/>
          <p:cNvCxnSpPr>
            <a:stCxn id="902" idx="2"/>
          </p:cNvCxnSpPr>
          <p:nvPr/>
        </p:nvCxnSpPr>
        <p:spPr>
          <a:xfrm flipH="1" flipV="1">
            <a:off x="3571200" y="5714640"/>
            <a:ext cx="857880" cy="216720"/>
          </a:xfrm>
          <a:prstGeom prst="straightConnector1">
            <a:avLst/>
          </a:prstGeom>
          <a:ln w="10080">
            <a:solidFill>
              <a:srgbClr val="92d050"/>
            </a:solidFill>
            <a:prstDash val="dash"/>
            <a:miter/>
            <a:tailEnd len="med" type="arrow" w="med"/>
          </a:ln>
        </p:spPr>
      </p:cxnSp>
      <p:cxnSp>
        <p:nvCxnSpPr>
          <p:cNvPr id="906" name="직선 화살표 연결선 29"/>
          <p:cNvCxnSpPr>
            <a:stCxn id="903" idx="2"/>
          </p:cNvCxnSpPr>
          <p:nvPr/>
        </p:nvCxnSpPr>
        <p:spPr>
          <a:xfrm flipH="1" flipV="1">
            <a:off x="3571200" y="5714280"/>
            <a:ext cx="857880" cy="716760"/>
          </a:xfrm>
          <a:prstGeom prst="straightConnector1">
            <a:avLst/>
          </a:prstGeom>
          <a:ln w="10080">
            <a:solidFill>
              <a:srgbClr val="92d050"/>
            </a:solidFill>
            <a:prstDash val="dash"/>
            <a:miter/>
            <a:tailEnd len="med" type="arrow" w="med"/>
          </a:ln>
        </p:spPr>
      </p:cxnSp>
      <p:sp>
        <p:nvSpPr>
          <p:cNvPr id="907" name="TextBox 30"/>
          <p:cNvSpPr/>
          <p:nvPr/>
        </p:nvSpPr>
        <p:spPr>
          <a:xfrm>
            <a:off x="5767560" y="5500800"/>
            <a:ext cx="306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잠자는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개의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레드 중 하나만 깨운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선택받지 못한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3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개의 스레드는 계속 잠을 잔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직사각형 32"/>
          <p:cNvSpPr/>
          <p:nvPr/>
        </p:nvSpPr>
        <p:spPr>
          <a:xfrm>
            <a:off x="0" y="23572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4 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개의 스레드가 모두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ObjectS.wait()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를 호출하여 잠을 자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ThreadA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는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ObjectS.notifyAll()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를 호출하는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9" name="직사각형 33"/>
          <p:cNvSpPr/>
          <p:nvPr/>
        </p:nvSpPr>
        <p:spPr>
          <a:xfrm>
            <a:off x="0" y="4572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4 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개의 스레드가 모두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ObjectS.wait()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를 호출하여 잠을 자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ThreadA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는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ObjectS.notify()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를 호출하는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직사각형 34"/>
          <p:cNvSpPr/>
          <p:nvPr/>
        </p:nvSpPr>
        <p:spPr>
          <a:xfrm>
            <a:off x="2500200" y="928800"/>
            <a:ext cx="1571760" cy="121428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ait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otify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w Cen MT"/>
              </a:rPr>
              <a:t>notifyAll(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타원 35"/>
          <p:cNvSpPr/>
          <p:nvPr/>
        </p:nvSpPr>
        <p:spPr>
          <a:xfrm>
            <a:off x="1000080" y="70632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2" name="타원 36"/>
          <p:cNvSpPr/>
          <p:nvPr/>
        </p:nvSpPr>
        <p:spPr>
          <a:xfrm>
            <a:off x="4429080" y="635040"/>
            <a:ext cx="1143000" cy="7354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hreadB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13" name="직선 화살표 연결선 37"/>
          <p:cNvCxnSpPr>
            <a:stCxn id="911" idx="6"/>
          </p:cNvCxnSpPr>
          <p:nvPr/>
        </p:nvCxnSpPr>
        <p:spPr>
          <a:xfrm>
            <a:off x="2142720" y="1072800"/>
            <a:ext cx="857880" cy="284400"/>
          </a:xfrm>
          <a:prstGeom prst="straightConnector1">
            <a:avLst/>
          </a:prstGeom>
          <a:ln w="10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914" name="TextBox 38"/>
          <p:cNvSpPr/>
          <p:nvPr/>
        </p:nvSpPr>
        <p:spPr>
          <a:xfrm>
            <a:off x="2822400" y="571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915" name="직선 화살표 연결선 39"/>
          <p:cNvCxnSpPr>
            <a:stCxn id="912" idx="2"/>
          </p:cNvCxnSpPr>
          <p:nvPr/>
        </p:nvCxnSpPr>
        <p:spPr>
          <a:xfrm flipH="1">
            <a:off x="3499920" y="1001880"/>
            <a:ext cx="929520" cy="141840"/>
          </a:xfrm>
          <a:prstGeom prst="straightConnector1">
            <a:avLst/>
          </a:prstGeom>
          <a:ln w="10080">
            <a:solidFill>
              <a:srgbClr val="43d94a"/>
            </a:solidFill>
            <a:prstDash val="dash"/>
            <a:miter/>
            <a:tailEnd len="med" type="arrow" w="med"/>
          </a:ln>
        </p:spPr>
      </p:cxnSp>
      <p:sp>
        <p:nvSpPr>
          <p:cNvPr id="916" name="직사각형 40"/>
          <p:cNvSpPr/>
          <p:nvPr/>
        </p:nvSpPr>
        <p:spPr>
          <a:xfrm>
            <a:off x="2643120" y="1714680"/>
            <a:ext cx="1357560" cy="285480"/>
          </a:xfrm>
          <a:prstGeom prst="rect">
            <a:avLst/>
          </a:prstGeom>
          <a:solidFill>
            <a:srgbClr val="43d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TextBox 41"/>
          <p:cNvSpPr/>
          <p:nvPr/>
        </p:nvSpPr>
        <p:spPr>
          <a:xfrm>
            <a:off x="5596200" y="1285920"/>
            <a:ext cx="342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readA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는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bjectS.notify()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를 호출하여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잠자는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hreadB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를 깨운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8" name="직사각형 42"/>
          <p:cNvSpPr/>
          <p:nvPr/>
        </p:nvSpPr>
        <p:spPr>
          <a:xfrm>
            <a:off x="-120960" y="142920"/>
            <a:ext cx="45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하나의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Thread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가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Tw Cen MT"/>
              </a:rPr>
              <a:t>ObjectS.wait()</a:t>
            </a:r>
            <a:r>
              <a:rPr b="0" lang="ko-KR" sz="1600" spc="-1" strike="noStrike">
                <a:solidFill>
                  <a:srgbClr val="0070c0"/>
                </a:solidFill>
                <a:latin typeface="Tw Cen MT"/>
              </a:rPr>
              <a:t>를 호출하여 잠을 자는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TextBox 43"/>
          <p:cNvSpPr/>
          <p:nvPr/>
        </p:nvSpPr>
        <p:spPr>
          <a:xfrm>
            <a:off x="4074840" y="714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직사각형 44"/>
          <p:cNvSpPr/>
          <p:nvPr/>
        </p:nvSpPr>
        <p:spPr>
          <a:xfrm>
            <a:off x="2288880" y="114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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TextBox 45"/>
          <p:cNvSpPr/>
          <p:nvPr/>
        </p:nvSpPr>
        <p:spPr>
          <a:xfrm>
            <a:off x="3860280" y="2643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TextBox 46"/>
          <p:cNvSpPr/>
          <p:nvPr/>
        </p:nvSpPr>
        <p:spPr>
          <a:xfrm>
            <a:off x="4003200" y="29289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TextBox 47"/>
          <p:cNvSpPr/>
          <p:nvPr/>
        </p:nvSpPr>
        <p:spPr>
          <a:xfrm>
            <a:off x="4003200" y="3286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4" name="TextBox 48"/>
          <p:cNvSpPr/>
          <p:nvPr/>
        </p:nvSpPr>
        <p:spPr>
          <a:xfrm>
            <a:off x="4074840" y="3714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직사각형 49"/>
          <p:cNvSpPr/>
          <p:nvPr/>
        </p:nvSpPr>
        <p:spPr>
          <a:xfrm>
            <a:off x="2288880" y="3500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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6" name="TextBox 50"/>
          <p:cNvSpPr/>
          <p:nvPr/>
        </p:nvSpPr>
        <p:spPr>
          <a:xfrm>
            <a:off x="3860280" y="4929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TextBox 51"/>
          <p:cNvSpPr/>
          <p:nvPr/>
        </p:nvSpPr>
        <p:spPr>
          <a:xfrm>
            <a:off x="4003200" y="52149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TextBox 52"/>
          <p:cNvSpPr/>
          <p:nvPr/>
        </p:nvSpPr>
        <p:spPr>
          <a:xfrm>
            <a:off x="4003200" y="5572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9" name="TextBox 53"/>
          <p:cNvSpPr/>
          <p:nvPr/>
        </p:nvSpPr>
        <p:spPr>
          <a:xfrm>
            <a:off x="4074840" y="6000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직사각형 54"/>
          <p:cNvSpPr/>
          <p:nvPr/>
        </p:nvSpPr>
        <p:spPr>
          <a:xfrm>
            <a:off x="2288880" y="5715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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슬라이드 번호 개체 틀 55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D159-55BB-4405-A6F7-EF097B7BC606}" type="slidenum">
              <a:rPr b="1" lang="ko-KR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바닥글 개체 틀 56"/>
          <p:cNvSpPr/>
          <p:nvPr/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명품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3-5 : wait(), notify()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를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이용한 타원 그리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34" name="직사각형 3"/>
          <p:cNvSpPr/>
          <p:nvPr/>
        </p:nvSpPr>
        <p:spPr>
          <a:xfrm>
            <a:off x="6429240" y="285840"/>
            <a:ext cx="2714760" cy="67942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run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nchronized(obj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.wai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atch(InterruptedException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return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while(tru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p.isValid()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!running) {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nchronized(obj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.wai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atch(InterruptedException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return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nt x = r.nextInt(p.getWidth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nt y = r.nextInt(p.getHeight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nt w = r.nextInt(1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nt h = r.nextInt(1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.setObj(x,y,w,h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.repain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read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sleep(3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atch(InterruptedException e){return;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static void main(String[] args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ThreadWaitNotifyEx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직사각형 4"/>
          <p:cNvSpPr/>
          <p:nvPr/>
        </p:nvSpPr>
        <p:spPr>
          <a:xfrm>
            <a:off x="0" y="1071720"/>
            <a:ext cx="3143160" cy="63374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util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class ThreadWaitNotifyEx extends JFrame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ThreadWaitNotifyEx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is.setContentPane(new DrawingPanel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is.setDefaultCloseOperation(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Frame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is.setSize(300,3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is.setVisibl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lass DrawingPanel extends JPanel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ect obj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Objec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DrawingThread th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DrawingThread(this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ectangle r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Rectangle(0,0,0,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DrawingPanel 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his.addMouseListener(new MouseHandl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.star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setObj(int x, int y, int w, int h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.x = x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.y = y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.width = w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.height = h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f(r.width == 0 || r.height == 0) return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g.drawOval(r.x, r.y, r.width, r.height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직사각형 5"/>
          <p:cNvSpPr/>
          <p:nvPr/>
        </p:nvSpPr>
        <p:spPr>
          <a:xfrm>
            <a:off x="3214800" y="1500120"/>
            <a:ext cx="3143160" cy="54237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lass MouseHandler extends MouseAdapter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mouseEntered(MouseEvent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Title("Make Drawing to Start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.wakeup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mouseExited(MouseEvent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Title("Make Drawing to Pause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th.pause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lass DrawingThread extends Thread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oolean running = true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ect obj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DrawingPanel  p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andom r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Random(new Date().getTime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DrawingThread(DrawingPanel p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his.p = p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his.obj = new Object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wakeup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unning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rue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nchronized(obj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.notify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pause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unning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false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D98E-EDDD-4604-8AF1-8F21D440009F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실행 결과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" descr=""/>
          <p:cNvPicPr/>
          <p:nvPr/>
        </p:nvPicPr>
        <p:blipFill>
          <a:blip r:embed="rId2"/>
          <a:stretch/>
        </p:blipFill>
        <p:spPr>
          <a:xfrm>
            <a:off x="2544840" y="1700280"/>
            <a:ext cx="1942920" cy="1944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942" name="TextBox 4"/>
          <p:cNvSpPr/>
          <p:nvPr/>
        </p:nvSpPr>
        <p:spPr>
          <a:xfrm>
            <a:off x="473400" y="3789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마우스가 올라가 있는 동안에는 랜덤한 타원이 계속 그려진다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타이틀에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가 표시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TextBox 8"/>
          <p:cNvSpPr/>
          <p:nvPr/>
        </p:nvSpPr>
        <p:spPr>
          <a:xfrm>
            <a:off x="5152320" y="37656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마우스가 내려가면 타원 생성이 멈추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타이틀에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use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가 표시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슬라이드 번호 개체 틀 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3BA-07E0-4973-AAAB-EDCA7E5DBB8C}" type="slidenum">
              <a:rPr b="1" lang="ko-K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와 멀티스레딩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프로그램 코드를 이동하면서 실행하는 하나의 제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바의 멀티태스킹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멀티스레딩만 가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프로세스 개념은 자바에 존재하지 않고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스레드의 개념만 존재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는 실행 단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는 스케쥴링 단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하나의 응용프로그램을 여러 개의 스레드로 구성 가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스레드 사이의 통신에 따른 오버헤드가 크지 않음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49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D3A1-5A3B-4DBB-862E-0C0B13BC29AA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6286680" y="1571760"/>
            <a:ext cx="2006280" cy="4572000"/>
          </a:xfrm>
          <a:prstGeom prst="rect">
            <a:avLst/>
          </a:prstGeom>
          <a:ln w="0">
            <a:noFill/>
          </a:ln>
        </p:spPr>
      </p:pic>
      <p:sp>
        <p:nvSpPr>
          <p:cNvPr id="501" name="모서리가 둥근 직사각형 82"/>
          <p:cNvSpPr/>
          <p:nvPr/>
        </p:nvSpPr>
        <p:spPr>
          <a:xfrm>
            <a:off x="826920" y="1628640"/>
            <a:ext cx="3816360" cy="43214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321440"/>
              <a:gd name="textAreaBottom" fmla="*/ 4135320 h 4321440"/>
            </a:gdLst>
            <a:ahLst/>
            <a:rect l="textAreaLeft" t="textAreaTop" r="textAreaRight" b="textAreaBottom"/>
            <a:pathLst>
              <a:path w="21600" h="24458">
                <a:moveTo>
                  <a:pt x="3600" y="0"/>
                </a:moveTo>
                <a:arcTo wR="3600" hR="3600" stAng="16200000" swAng="-5400000"/>
                <a:lnTo>
                  <a:pt x="0" y="20858"/>
                </a:lnTo>
                <a:arcTo wR="3600" hR="3600" stAng="10800000" swAng="-5400000"/>
                <a:lnTo>
                  <a:pt x="18000" y="244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웹 서버의 멀티스레딩 사례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03" name="타원 3"/>
          <p:cNvSpPr/>
          <p:nvPr/>
        </p:nvSpPr>
        <p:spPr>
          <a:xfrm>
            <a:off x="3348000" y="1989000"/>
            <a:ext cx="1079640" cy="681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웹 서비스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04" name="직선 화살표 연결선 32"/>
          <p:cNvCxnSpPr/>
          <p:nvPr/>
        </p:nvCxnSpPr>
        <p:spPr>
          <a:xfrm flipV="1">
            <a:off x="4427280" y="2071080"/>
            <a:ext cx="2073960" cy="20556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headEnd len="med" type="arrow" w="med"/>
          </a:ln>
        </p:spPr>
      </p:cxnSp>
      <p:cxnSp>
        <p:nvCxnSpPr>
          <p:cNvPr id="505" name="직선 화살표 연결선 34"/>
          <p:cNvCxnSpPr/>
          <p:nvPr/>
        </p:nvCxnSpPr>
        <p:spPr>
          <a:xfrm flipV="1">
            <a:off x="4427640" y="3068280"/>
            <a:ext cx="2232720" cy="5328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headEnd len="med" type="arrow" w="med"/>
          </a:ln>
        </p:spPr>
      </p:cxnSp>
      <p:cxnSp>
        <p:nvCxnSpPr>
          <p:cNvPr id="506" name="직선 화살표 연결선 37"/>
          <p:cNvCxnSpPr/>
          <p:nvPr/>
        </p:nvCxnSpPr>
        <p:spPr>
          <a:xfrm>
            <a:off x="4427640" y="4076280"/>
            <a:ext cx="2232720" cy="1980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headEnd len="med" type="arrow" w="med"/>
          </a:ln>
        </p:spPr>
      </p:cxnSp>
      <p:cxnSp>
        <p:nvCxnSpPr>
          <p:cNvPr id="507" name="직선 화살표 연결선 40"/>
          <p:cNvCxnSpPr/>
          <p:nvPr/>
        </p:nvCxnSpPr>
        <p:spPr>
          <a:xfrm>
            <a:off x="4427280" y="5157720"/>
            <a:ext cx="2161080" cy="21672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headEnd len="med" type="arrow" w="med"/>
          </a:ln>
        </p:spPr>
      </p:cxnSp>
      <p:sp>
        <p:nvSpPr>
          <p:cNvPr id="508" name="TextBox 57"/>
          <p:cNvSpPr/>
          <p:nvPr/>
        </p:nvSpPr>
        <p:spPr>
          <a:xfrm>
            <a:off x="5198040" y="177336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요청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4550400" y="234936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전송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TextBox 62"/>
          <p:cNvSpPr/>
          <p:nvPr/>
        </p:nvSpPr>
        <p:spPr>
          <a:xfrm>
            <a:off x="4621680" y="32130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전송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TextBox 64"/>
          <p:cNvSpPr/>
          <p:nvPr/>
        </p:nvSpPr>
        <p:spPr>
          <a:xfrm>
            <a:off x="4550400" y="42210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전송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TextBox 67"/>
          <p:cNvSpPr/>
          <p:nvPr/>
        </p:nvSpPr>
        <p:spPr>
          <a:xfrm>
            <a:off x="4550400" y="53006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전송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타원 68"/>
          <p:cNvSpPr/>
          <p:nvPr/>
        </p:nvSpPr>
        <p:spPr>
          <a:xfrm>
            <a:off x="1258920" y="3357720"/>
            <a:ext cx="1152360" cy="82368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w Cen MT"/>
              </a:rPr>
              <a:t>웹 서버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타원 75"/>
          <p:cNvSpPr/>
          <p:nvPr/>
        </p:nvSpPr>
        <p:spPr>
          <a:xfrm>
            <a:off x="3348000" y="2852640"/>
            <a:ext cx="1079640" cy="681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웹 서비스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타원 76"/>
          <p:cNvSpPr/>
          <p:nvPr/>
        </p:nvSpPr>
        <p:spPr>
          <a:xfrm>
            <a:off x="3348000" y="3789360"/>
            <a:ext cx="1079640" cy="681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웹 서비스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타원 77"/>
          <p:cNvSpPr/>
          <p:nvPr/>
        </p:nvSpPr>
        <p:spPr>
          <a:xfrm>
            <a:off x="3348000" y="4869000"/>
            <a:ext cx="1079640" cy="680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웹 서비스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7" name="직선 화살표 연결선 87"/>
          <p:cNvCxnSpPr>
            <a:stCxn id="513" idx="7"/>
            <a:endCxn id="503" idx="3"/>
          </p:cNvCxnSpPr>
          <p:nvPr/>
        </p:nvCxnSpPr>
        <p:spPr>
          <a:xfrm flipV="1">
            <a:off x="2243160" y="2569320"/>
            <a:ext cx="1264320" cy="90900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8" name="직선 화살표 연결선 89"/>
          <p:cNvCxnSpPr/>
          <p:nvPr/>
        </p:nvCxnSpPr>
        <p:spPr>
          <a:xfrm flipV="1">
            <a:off x="2410920" y="3357360"/>
            <a:ext cx="1008720" cy="28800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9" name="직선 화살표 연결선 92"/>
          <p:cNvCxnSpPr/>
          <p:nvPr/>
        </p:nvCxnSpPr>
        <p:spPr>
          <a:xfrm>
            <a:off x="2410920" y="3860640"/>
            <a:ext cx="1008720" cy="14544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20" name="직선 화살표 연결선 97"/>
          <p:cNvCxnSpPr>
            <a:stCxn id="513" idx="5"/>
          </p:cNvCxnSpPr>
          <p:nvPr/>
        </p:nvCxnSpPr>
        <p:spPr>
          <a:xfrm>
            <a:off x="2242080" y="4060800"/>
            <a:ext cx="1033920" cy="10245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21" name="TextBox 100"/>
          <p:cNvSpPr/>
          <p:nvPr/>
        </p:nvSpPr>
        <p:spPr>
          <a:xfrm>
            <a:off x="1960560" y="2565360"/>
            <a:ext cx="143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w Cen MT"/>
              </a:rPr>
              <a:t>각 클라이언트 당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w Cen MT"/>
              </a:rPr>
              <a:t>웹</a:t>
            </a: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Tw Cen MT"/>
              </a:rPr>
              <a:t>서비스 스레드 생성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TextBox 106"/>
          <p:cNvSpPr/>
          <p:nvPr/>
        </p:nvSpPr>
        <p:spPr>
          <a:xfrm>
            <a:off x="7560360" y="19288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 클라이언트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TextBox 107"/>
          <p:cNvSpPr/>
          <p:nvPr/>
        </p:nvSpPr>
        <p:spPr>
          <a:xfrm>
            <a:off x="7654320" y="31399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 클라이언트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TextBox 108"/>
          <p:cNvSpPr/>
          <p:nvPr/>
        </p:nvSpPr>
        <p:spPr>
          <a:xfrm>
            <a:off x="7725600" y="42210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 클라이언트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TextBox 109"/>
          <p:cNvSpPr/>
          <p:nvPr/>
        </p:nvSpPr>
        <p:spPr>
          <a:xfrm>
            <a:off x="7654320" y="53722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 클라이언트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TextBox 110"/>
          <p:cNvSpPr/>
          <p:nvPr/>
        </p:nvSpPr>
        <p:spPr>
          <a:xfrm>
            <a:off x="5774040" y="278136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요청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TextBox 111"/>
          <p:cNvSpPr/>
          <p:nvPr/>
        </p:nvSpPr>
        <p:spPr>
          <a:xfrm>
            <a:off x="5774040" y="378936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요청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TextBox 112"/>
          <p:cNvSpPr/>
          <p:nvPr/>
        </p:nvSpPr>
        <p:spPr>
          <a:xfrm>
            <a:off x="5702760" y="501336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웹문서 요청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29" name="직선 화살표 연결선 113"/>
          <p:cNvCxnSpPr/>
          <p:nvPr/>
        </p:nvCxnSpPr>
        <p:spPr>
          <a:xfrm flipV="1">
            <a:off x="4427280" y="2214000"/>
            <a:ext cx="2073960" cy="20700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tailEnd len="med" type="arrow" w="med"/>
          </a:ln>
        </p:spPr>
      </p:cxnSp>
      <p:cxnSp>
        <p:nvCxnSpPr>
          <p:cNvPr id="530" name="직선 화살표 연결선 115"/>
          <p:cNvCxnSpPr/>
          <p:nvPr/>
        </p:nvCxnSpPr>
        <p:spPr>
          <a:xfrm flipV="1">
            <a:off x="4427640" y="3212640"/>
            <a:ext cx="2232720" cy="5328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tailEnd len="med" type="arrow" w="med"/>
          </a:ln>
        </p:spPr>
      </p:cxnSp>
      <p:cxnSp>
        <p:nvCxnSpPr>
          <p:cNvPr id="531" name="직선 화살표 연결선 116"/>
          <p:cNvCxnSpPr/>
          <p:nvPr/>
        </p:nvCxnSpPr>
        <p:spPr>
          <a:xfrm>
            <a:off x="4427640" y="4220640"/>
            <a:ext cx="2232720" cy="1980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tailEnd len="med" type="arrow" w="med"/>
          </a:ln>
        </p:spPr>
      </p:cxnSp>
      <p:cxnSp>
        <p:nvCxnSpPr>
          <p:cNvPr id="532" name="직선 화살표 연결선 117"/>
          <p:cNvCxnSpPr/>
          <p:nvPr/>
        </p:nvCxnSpPr>
        <p:spPr>
          <a:xfrm>
            <a:off x="4427280" y="5300640"/>
            <a:ext cx="2161080" cy="218160"/>
          </a:xfrm>
          <a:prstGeom prst="straightConnector1">
            <a:avLst/>
          </a:prstGeom>
          <a:ln w="19080">
            <a:solidFill>
              <a:srgbClr val="b95b22"/>
            </a:solidFill>
            <a:prstDash val="sysDash"/>
            <a:miter/>
            <a:tailEnd len="med" type="arrow" w="med"/>
          </a:ln>
        </p:spPr>
      </p:cxnSp>
      <p:sp>
        <p:nvSpPr>
          <p:cNvPr id="533" name="TextBox 118"/>
          <p:cNvSpPr/>
          <p:nvPr/>
        </p:nvSpPr>
        <p:spPr>
          <a:xfrm>
            <a:off x="1984680" y="593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w Cen MT"/>
              </a:rPr>
              <a:t>웹 서버 시스템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슬라이드 번호 개체 틀 3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0B0-4A61-4D18-B86A-BC8DA152426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자바 스레드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Thread)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란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?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바 스레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바 가상 기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JVM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에 의해 스케쥴되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행 단위의 코드 블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에 의해 관리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VM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은 스레드 단위로 스케쥴링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은 하나의 자바 응용프로그램만을 실행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바 응용프로그램이 시작될 때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 함께 실행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자바 응용프로그램이 종료하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 함께 종료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하나의 응용프로그램은 하나 이상의 스레드로 구성 가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674-238C-4D5E-990C-CA98281FEB1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VM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과 자바 응용프로그램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의 관계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1063800" y="2857680"/>
            <a:ext cx="136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하드웨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063800" y="2489040"/>
            <a:ext cx="136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영체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1063800" y="2131920"/>
            <a:ext cx="136656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2" name="타원 6" descr=""/>
          <p:cNvPicPr/>
          <p:nvPr/>
        </p:nvPicPr>
        <p:blipFill>
          <a:blip r:embed="rId1"/>
          <a:stretch/>
        </p:blipFill>
        <p:spPr>
          <a:xfrm>
            <a:off x="1152360" y="1401840"/>
            <a:ext cx="1182960" cy="8175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7"/>
          <p:cNvSpPr/>
          <p:nvPr/>
        </p:nvSpPr>
        <p:spPr>
          <a:xfrm>
            <a:off x="3151080" y="28576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하드웨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151080" y="24890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영체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TextBox 9"/>
          <p:cNvSpPr/>
          <p:nvPr/>
        </p:nvSpPr>
        <p:spPr>
          <a:xfrm>
            <a:off x="3151080" y="2131920"/>
            <a:ext cx="18716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6" name="타원 10" descr=""/>
          <p:cNvPicPr/>
          <p:nvPr/>
        </p:nvPicPr>
        <p:blipFill>
          <a:blip r:embed="rId2"/>
          <a:stretch/>
        </p:blipFill>
        <p:spPr>
          <a:xfrm>
            <a:off x="2951280" y="1378080"/>
            <a:ext cx="822240" cy="841320"/>
          </a:xfrm>
          <a:prstGeom prst="rect">
            <a:avLst/>
          </a:prstGeom>
          <a:ln w="0">
            <a:noFill/>
          </a:ln>
        </p:spPr>
      </p:pic>
      <p:pic>
        <p:nvPicPr>
          <p:cNvPr id="547" name="타원 11" descr=""/>
          <p:cNvPicPr/>
          <p:nvPr/>
        </p:nvPicPr>
        <p:blipFill>
          <a:blip r:embed="rId3"/>
          <a:stretch/>
        </p:blipFill>
        <p:spPr>
          <a:xfrm>
            <a:off x="4389480" y="1378080"/>
            <a:ext cx="828720" cy="841320"/>
          </a:xfrm>
          <a:prstGeom prst="rect">
            <a:avLst/>
          </a:prstGeom>
          <a:ln w="0">
            <a:noFill/>
          </a:ln>
        </p:spPr>
      </p:pic>
      <p:pic>
        <p:nvPicPr>
          <p:cNvPr id="548" name="타원 12" descr=""/>
          <p:cNvPicPr/>
          <p:nvPr/>
        </p:nvPicPr>
        <p:blipFill>
          <a:blip r:embed="rId4"/>
          <a:stretch/>
        </p:blipFill>
        <p:spPr>
          <a:xfrm>
            <a:off x="3670200" y="1378080"/>
            <a:ext cx="822600" cy="841320"/>
          </a:xfrm>
          <a:prstGeom prst="rect">
            <a:avLst/>
          </a:prstGeom>
          <a:ln w="0">
            <a:noFill/>
          </a:ln>
        </p:spPr>
      </p:pic>
      <p:sp>
        <p:nvSpPr>
          <p:cNvPr id="549" name="곱셈 기호 13"/>
          <p:cNvSpPr/>
          <p:nvPr/>
        </p:nvSpPr>
        <p:spPr>
          <a:xfrm>
            <a:off x="2502000" y="1574640"/>
            <a:ext cx="3168720" cy="408240"/>
          </a:xfrm>
          <a:custGeom>
            <a:avLst/>
            <a:gdLst>
              <a:gd name="textAreaLeft" fmla="*/ 758880 w 3168720"/>
              <a:gd name="textAreaRight" fmla="*/ 2409840 w 3168720"/>
              <a:gd name="textAreaTop" fmla="*/ 82080 h 408240"/>
              <a:gd name="textAreaBottom" fmla="*/ 326160 h 408240"/>
            </a:gdLst>
            <a:ahLst/>
            <a:rect l="textAreaLeft" t="textAreaTop" r="textAreaRight" b="textAreaBottom"/>
            <a:pathLst>
              <a:path w="3168352" h="408146">
                <a:moveTo>
                  <a:pt x="758914" y="113901"/>
                </a:moveTo>
                <a:lnTo>
                  <a:pt x="763004" y="82152"/>
                </a:lnTo>
                <a:lnTo>
                  <a:pt x="1584176" y="187935"/>
                </a:lnTo>
                <a:lnTo>
                  <a:pt x="2405348" y="82152"/>
                </a:lnTo>
                <a:lnTo>
                  <a:pt x="2409438" y="113901"/>
                </a:lnTo>
                <a:lnTo>
                  <a:pt x="1709450" y="204073"/>
                </a:lnTo>
                <a:lnTo>
                  <a:pt x="2409438" y="294245"/>
                </a:lnTo>
                <a:lnTo>
                  <a:pt x="2405348" y="325994"/>
                </a:lnTo>
                <a:lnTo>
                  <a:pt x="1584176" y="220211"/>
                </a:lnTo>
                <a:lnTo>
                  <a:pt x="763004" y="325994"/>
                </a:lnTo>
                <a:lnTo>
                  <a:pt x="758914" y="294245"/>
                </a:lnTo>
                <a:lnTo>
                  <a:pt x="1458902" y="204073"/>
                </a:lnTo>
                <a:close/>
              </a:path>
            </a:pathLst>
          </a:custGeom>
          <a:solidFill>
            <a:srgbClr val="7b3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5743440" y="2871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하드웨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743440" y="2502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영체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5743440" y="2144880"/>
            <a:ext cx="18716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3" name="타원 17" descr=""/>
          <p:cNvPicPr/>
          <p:nvPr/>
        </p:nvPicPr>
        <p:blipFill>
          <a:blip r:embed="rId5"/>
          <a:stretch/>
        </p:blipFill>
        <p:spPr>
          <a:xfrm>
            <a:off x="5541840" y="1414440"/>
            <a:ext cx="2194200" cy="816120"/>
          </a:xfrm>
          <a:prstGeom prst="rect">
            <a:avLst/>
          </a:prstGeom>
          <a:ln w="0">
            <a:noFill/>
          </a:ln>
        </p:spPr>
      </p:pic>
      <p:sp>
        <p:nvSpPr>
          <p:cNvPr id="554" name="직사각형 20"/>
          <p:cNvSpPr/>
          <p:nvPr/>
        </p:nvSpPr>
        <p:spPr>
          <a:xfrm>
            <a:off x="5959440" y="1143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자바 응용 프로그램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타원 21"/>
          <p:cNvSpPr/>
          <p:nvPr/>
        </p:nvSpPr>
        <p:spPr>
          <a:xfrm>
            <a:off x="5815080" y="1574640"/>
            <a:ext cx="503280" cy="46836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자바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타원 22"/>
          <p:cNvSpPr/>
          <p:nvPr/>
        </p:nvSpPr>
        <p:spPr>
          <a:xfrm>
            <a:off x="6391440" y="1574640"/>
            <a:ext cx="502920" cy="46836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자바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타원 23"/>
          <p:cNvSpPr/>
          <p:nvPr/>
        </p:nvSpPr>
        <p:spPr>
          <a:xfrm>
            <a:off x="6967440" y="1574640"/>
            <a:ext cx="503280" cy="468360"/>
          </a:xfrm>
          <a:prstGeom prst="ellipse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자바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TextBox 24"/>
          <p:cNvSpPr/>
          <p:nvPr/>
        </p:nvSpPr>
        <p:spPr>
          <a:xfrm>
            <a:off x="2430360" y="5526000"/>
            <a:ext cx="352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하드웨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TextBox 25"/>
          <p:cNvSpPr/>
          <p:nvPr/>
        </p:nvSpPr>
        <p:spPr>
          <a:xfrm>
            <a:off x="2430360" y="5143680"/>
            <a:ext cx="352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영체제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0" name="타원 27" descr=""/>
          <p:cNvPicPr/>
          <p:nvPr/>
        </p:nvPicPr>
        <p:blipFill>
          <a:blip r:embed="rId6"/>
          <a:stretch/>
        </p:blipFill>
        <p:spPr>
          <a:xfrm>
            <a:off x="2517840" y="4029120"/>
            <a:ext cx="1189080" cy="841320"/>
          </a:xfrm>
          <a:prstGeom prst="rect">
            <a:avLst/>
          </a:prstGeom>
          <a:ln w="0">
            <a:noFill/>
          </a:ln>
        </p:spPr>
      </p:pic>
      <p:pic>
        <p:nvPicPr>
          <p:cNvPr id="561" name="타원 31" descr=""/>
          <p:cNvPicPr/>
          <p:nvPr/>
        </p:nvPicPr>
        <p:blipFill>
          <a:blip r:embed="rId7"/>
          <a:stretch/>
        </p:blipFill>
        <p:spPr>
          <a:xfrm>
            <a:off x="4608360" y="4017960"/>
            <a:ext cx="1182960" cy="839880"/>
          </a:xfrm>
          <a:prstGeom prst="rect">
            <a:avLst/>
          </a:prstGeom>
          <a:ln w="0">
            <a:noFill/>
          </a:ln>
        </p:spPr>
      </p:pic>
      <p:sp>
        <p:nvSpPr>
          <p:cNvPr id="562" name="자유형 45"/>
          <p:cNvSpPr/>
          <p:nvPr/>
        </p:nvSpPr>
        <p:spPr>
          <a:xfrm>
            <a:off x="3583080" y="4302000"/>
            <a:ext cx="1079280" cy="216000"/>
          </a:xfrm>
          <a:custGeom>
            <a:avLst/>
            <a:gdLst/>
            <a:ahLst/>
            <a:rect l="l" t="t" r="r" b="b"/>
            <a:pathLst>
              <a:path w="1017411" h="472722">
                <a:moveTo>
                  <a:pt x="0" y="215900"/>
                </a:moveTo>
                <a:cubicBezTo>
                  <a:pt x="102305" y="107950"/>
                  <a:pt x="204611" y="0"/>
                  <a:pt x="321733" y="38100"/>
                </a:cubicBezTo>
                <a:cubicBezTo>
                  <a:pt x="438855" y="76200"/>
                  <a:pt x="587022" y="416278"/>
                  <a:pt x="702733" y="444500"/>
                </a:cubicBezTo>
                <a:cubicBezTo>
                  <a:pt x="818444" y="472722"/>
                  <a:pt x="1017411" y="388055"/>
                  <a:pt x="1016000" y="207433"/>
                </a:cubicBezTo>
              </a:path>
            </a:pathLst>
          </a:custGeom>
          <a:noFill/>
          <a:ln w="10080">
            <a:solidFill>
              <a:srgbClr val="b95b2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직사각형 46"/>
          <p:cNvSpPr/>
          <p:nvPr/>
        </p:nvSpPr>
        <p:spPr>
          <a:xfrm>
            <a:off x="3870360" y="4086360"/>
            <a:ext cx="6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통신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TextBox 30"/>
          <p:cNvSpPr/>
          <p:nvPr/>
        </p:nvSpPr>
        <p:spPr>
          <a:xfrm>
            <a:off x="4446720" y="4807080"/>
            <a:ext cx="15127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TextBox 47"/>
          <p:cNvSpPr/>
          <p:nvPr/>
        </p:nvSpPr>
        <p:spPr>
          <a:xfrm>
            <a:off x="2430360" y="4807080"/>
            <a:ext cx="13669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815040" y="32860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은 오직 하나의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바 응용프로그램만 실행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TextBox 33"/>
          <p:cNvSpPr/>
          <p:nvPr/>
        </p:nvSpPr>
        <p:spPr>
          <a:xfrm>
            <a:off x="5691240" y="32860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하나의 응용프로그램은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여러 개의 스레드 가질 수 있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TextBox 34"/>
          <p:cNvSpPr/>
          <p:nvPr/>
        </p:nvSpPr>
        <p:spPr>
          <a:xfrm>
            <a:off x="1770480" y="5959440"/>
            <a:ext cx="49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두 개의 자바 응용프로그램이 동시에 실행시키고자 하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두 개의 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을 이용하고 응용프로그램은 서로 소켓 등을 이용하여 통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TextBox 32"/>
          <p:cNvSpPr/>
          <p:nvPr/>
        </p:nvSpPr>
        <p:spPr>
          <a:xfrm>
            <a:off x="3082320" y="32860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은 여러 개의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바 응용프로그램 실행 불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슬라이드 번호 개체 틀 3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8EF1-124F-4736-9A56-0161F76B9DE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자바 스레드와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VM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72" name="직사각형 3"/>
          <p:cNvSpPr/>
          <p:nvPr/>
        </p:nvSpPr>
        <p:spPr>
          <a:xfrm>
            <a:off x="1542960" y="3567240"/>
            <a:ext cx="4646880" cy="100800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1543680" y="41432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V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직사각형 5"/>
          <p:cNvSpPr/>
          <p:nvPr/>
        </p:nvSpPr>
        <p:spPr>
          <a:xfrm>
            <a:off x="1542960" y="4648320"/>
            <a:ext cx="4646880" cy="36828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운영체제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Windows or Linux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직사각형 6"/>
          <p:cNvSpPr/>
          <p:nvPr/>
        </p:nvSpPr>
        <p:spPr>
          <a:xfrm>
            <a:off x="1542960" y="5105520"/>
            <a:ext cx="4646880" cy="369720"/>
          </a:xfrm>
          <a:prstGeom prst="rect">
            <a:avLst/>
          </a:prstGeom>
          <a:solidFill>
            <a:srgbClr val="7b3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Tw Cen MT"/>
              </a:rPr>
              <a:t>하드웨어</a:t>
            </a:r>
            <a:r>
              <a:rPr b="0" lang="en-US" sz="1800" spc="-1" strike="noStrike">
                <a:solidFill>
                  <a:srgbClr val="ffff00"/>
                </a:solidFill>
                <a:latin typeface="Tw Cen MT"/>
              </a:rPr>
              <a:t>(PC or Embedded Board, </a:t>
            </a:r>
            <a:r>
              <a:rPr b="0" lang="ko-KR" sz="1800" spc="-1" strike="noStrike">
                <a:solidFill>
                  <a:srgbClr val="ffff00"/>
                </a:solidFill>
                <a:latin typeface="Tw Cen MT"/>
              </a:rPr>
              <a:t>워크스테이션 등</a:t>
            </a:r>
            <a:r>
              <a:rPr b="0" lang="en-US" sz="1800" spc="-1" strike="noStrike">
                <a:solidFill>
                  <a:srgbClr val="ffff00"/>
                </a:solidFill>
                <a:latin typeface="Tw Cen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모서리가 둥근 직사각형 7"/>
          <p:cNvSpPr/>
          <p:nvPr/>
        </p:nvSpPr>
        <p:spPr>
          <a:xfrm>
            <a:off x="1830240" y="1911240"/>
            <a:ext cx="4176720" cy="1570320"/>
          </a:xfrm>
          <a:prstGeom prst="roundRect">
            <a:avLst>
              <a:gd name="adj" fmla="val 16667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3270960" y="155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자바응용프로그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타원 18"/>
          <p:cNvSpPr/>
          <p:nvPr/>
        </p:nvSpPr>
        <p:spPr>
          <a:xfrm>
            <a:off x="2506680" y="2624040"/>
            <a:ext cx="571320" cy="571680"/>
          </a:xfrm>
          <a:prstGeom prst="ellipse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코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타원 19"/>
          <p:cNvSpPr/>
          <p:nvPr/>
        </p:nvSpPr>
        <p:spPr>
          <a:xfrm>
            <a:off x="3363840" y="2624040"/>
            <a:ext cx="571680" cy="571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코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타원 20"/>
          <p:cNvSpPr/>
          <p:nvPr/>
        </p:nvSpPr>
        <p:spPr>
          <a:xfrm>
            <a:off x="4292640" y="2624040"/>
            <a:ext cx="571320" cy="571680"/>
          </a:xfrm>
          <a:prstGeom prst="ellipse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코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타원 21"/>
          <p:cNvSpPr/>
          <p:nvPr/>
        </p:nvSpPr>
        <p:spPr>
          <a:xfrm>
            <a:off x="5149800" y="2624040"/>
            <a:ext cx="571680" cy="571680"/>
          </a:xfrm>
          <a:prstGeom prst="ellipse">
            <a:avLst/>
          </a:prstGeom>
          <a:solidFill>
            <a:srgbClr val="b95b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스레드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코드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대각선 방향의 모서리가 둥근 사각형 27"/>
          <p:cNvSpPr/>
          <p:nvPr/>
        </p:nvSpPr>
        <p:spPr>
          <a:xfrm>
            <a:off x="3270240" y="3711600"/>
            <a:ext cx="655560" cy="649440"/>
          </a:xfrm>
          <a:prstGeom prst="pie">
            <a:avLst/>
          </a:prstGeom>
          <a:solidFill>
            <a:srgbClr val="558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대각선 방향의 모서리가 둥근 사각형 28"/>
          <p:cNvSpPr/>
          <p:nvPr/>
        </p:nvSpPr>
        <p:spPr>
          <a:xfrm>
            <a:off x="4206960" y="3711600"/>
            <a:ext cx="664920" cy="649440"/>
          </a:xfrm>
          <a:prstGeom prst="pie">
            <a:avLst/>
          </a:pr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대각선 방향의 모서리가 둥근 사각형 29"/>
          <p:cNvSpPr/>
          <p:nvPr/>
        </p:nvSpPr>
        <p:spPr>
          <a:xfrm>
            <a:off x="5143680" y="3711600"/>
            <a:ext cx="672840" cy="649440"/>
          </a:xfrm>
          <a:prstGeom prst="pie">
            <a:avLst/>
          </a:pr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직선 연결선 33"/>
          <p:cNvSpPr/>
          <p:nvPr/>
        </p:nvSpPr>
        <p:spPr>
          <a:xfrm>
            <a:off x="2978280" y="4037040"/>
            <a:ext cx="291960" cy="0"/>
          </a:xfrm>
          <a:prstGeom prst="line">
            <a:avLst/>
          </a:prstGeom>
          <a:ln w="10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직선 연결선 34"/>
          <p:cNvSpPr/>
          <p:nvPr/>
        </p:nvSpPr>
        <p:spPr>
          <a:xfrm>
            <a:off x="3925800" y="4037040"/>
            <a:ext cx="281160" cy="0"/>
          </a:xfrm>
          <a:prstGeom prst="line">
            <a:avLst/>
          </a:prstGeom>
          <a:ln w="10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직선 연결선 39"/>
          <p:cNvSpPr/>
          <p:nvPr/>
        </p:nvSpPr>
        <p:spPr>
          <a:xfrm>
            <a:off x="4871880" y="4037040"/>
            <a:ext cx="271800" cy="0"/>
          </a:xfrm>
          <a:prstGeom prst="line">
            <a:avLst/>
          </a:prstGeom>
          <a:ln w="100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자유형 57"/>
          <p:cNvSpPr/>
          <p:nvPr/>
        </p:nvSpPr>
        <p:spPr>
          <a:xfrm>
            <a:off x="3486240" y="2990880"/>
            <a:ext cx="204840" cy="811080"/>
          </a:xfrm>
          <a:custGeom>
            <a:avLst/>
            <a:gdLst/>
            <a:ahLst/>
            <a:rect l="l" t="t" r="r" b="b"/>
            <a:pathLst>
              <a:path w="364788" h="846306">
                <a:moveTo>
                  <a:pt x="361545" y="846306"/>
                </a:moveTo>
                <a:cubicBezTo>
                  <a:pt x="363166" y="816312"/>
                  <a:pt x="364788" y="786319"/>
                  <a:pt x="312907" y="710119"/>
                </a:cubicBezTo>
                <a:cubicBezTo>
                  <a:pt x="261026" y="633919"/>
                  <a:pt x="100520" y="507459"/>
                  <a:pt x="50260" y="389106"/>
                </a:cubicBezTo>
                <a:cubicBezTo>
                  <a:pt x="0" y="270753"/>
                  <a:pt x="5674" y="135376"/>
                  <a:pt x="11349" y="0"/>
                </a:cubicBezTo>
              </a:path>
            </a:pathLst>
          </a:custGeom>
          <a:noFill/>
          <a:ln w="1008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자유형 58"/>
          <p:cNvSpPr/>
          <p:nvPr/>
        </p:nvSpPr>
        <p:spPr>
          <a:xfrm flipH="1">
            <a:off x="4494240" y="3063960"/>
            <a:ext cx="46080" cy="718920"/>
          </a:xfrm>
          <a:custGeom>
            <a:avLst/>
            <a:gdLst/>
            <a:ahLst/>
            <a:rect l="l" t="t" r="r" b="b"/>
            <a:pathLst>
              <a:path w="377757" h="846306">
                <a:moveTo>
                  <a:pt x="359923" y="846306"/>
                </a:moveTo>
                <a:cubicBezTo>
                  <a:pt x="368840" y="776591"/>
                  <a:pt x="377757" y="706877"/>
                  <a:pt x="359923" y="603115"/>
                </a:cubicBezTo>
                <a:cubicBezTo>
                  <a:pt x="342089" y="499353"/>
                  <a:pt x="312906" y="324255"/>
                  <a:pt x="252919" y="223736"/>
                </a:cubicBezTo>
                <a:cubicBezTo>
                  <a:pt x="192932" y="123217"/>
                  <a:pt x="96466" y="61608"/>
                  <a:pt x="0" y="0"/>
                </a:cubicBezTo>
              </a:path>
            </a:pathLst>
          </a:custGeom>
          <a:noFill/>
          <a:ln w="1008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자유형 61"/>
          <p:cNvSpPr/>
          <p:nvPr/>
        </p:nvSpPr>
        <p:spPr>
          <a:xfrm>
            <a:off x="5214960" y="2990880"/>
            <a:ext cx="287280" cy="792000"/>
          </a:xfrm>
          <a:custGeom>
            <a:avLst/>
            <a:gdLst/>
            <a:ahLst/>
            <a:rect l="l" t="t" r="r" b="b"/>
            <a:pathLst>
              <a:path w="833336" h="846306">
                <a:moveTo>
                  <a:pt x="768485" y="846306"/>
                </a:moveTo>
                <a:cubicBezTo>
                  <a:pt x="800910" y="768485"/>
                  <a:pt x="833336" y="690664"/>
                  <a:pt x="807396" y="632298"/>
                </a:cubicBezTo>
                <a:cubicBezTo>
                  <a:pt x="781456" y="573932"/>
                  <a:pt x="714983" y="535021"/>
                  <a:pt x="612843" y="496110"/>
                </a:cubicBezTo>
                <a:cubicBezTo>
                  <a:pt x="510703" y="457199"/>
                  <a:pt x="296695" y="481519"/>
                  <a:pt x="194554" y="398834"/>
                </a:cubicBezTo>
                <a:cubicBezTo>
                  <a:pt x="92413" y="316149"/>
                  <a:pt x="46206" y="158074"/>
                  <a:pt x="0" y="0"/>
                </a:cubicBezTo>
              </a:path>
            </a:pathLst>
          </a:custGeom>
          <a:noFill/>
          <a:ln w="1008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직사각형 63"/>
          <p:cNvSpPr/>
          <p:nvPr/>
        </p:nvSpPr>
        <p:spPr>
          <a:xfrm>
            <a:off x="2255760" y="2129760"/>
            <a:ext cx="517680" cy="285480"/>
          </a:xfrm>
          <a:prstGeom prst="rect">
            <a:avLst/>
          </a:prstGeom>
          <a:solidFill>
            <a:srgbClr val="d0af7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객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직사각형 64"/>
          <p:cNvSpPr/>
          <p:nvPr/>
        </p:nvSpPr>
        <p:spPr>
          <a:xfrm>
            <a:off x="3119400" y="2273400"/>
            <a:ext cx="519120" cy="285480"/>
          </a:xfrm>
          <a:prstGeom prst="rect">
            <a:avLst/>
          </a:prstGeom>
          <a:solidFill>
            <a:srgbClr val="d0af7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객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직사각형 65"/>
          <p:cNvSpPr/>
          <p:nvPr/>
        </p:nvSpPr>
        <p:spPr>
          <a:xfrm>
            <a:off x="4062240" y="2129040"/>
            <a:ext cx="519120" cy="285480"/>
          </a:xfrm>
          <a:prstGeom prst="rect">
            <a:avLst/>
          </a:prstGeom>
          <a:solidFill>
            <a:srgbClr val="d0af7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객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직사각형 66"/>
          <p:cNvSpPr/>
          <p:nvPr/>
        </p:nvSpPr>
        <p:spPr>
          <a:xfrm>
            <a:off x="4991040" y="2057400"/>
            <a:ext cx="519120" cy="285480"/>
          </a:xfrm>
          <a:prstGeom prst="rect">
            <a:avLst/>
          </a:prstGeom>
          <a:solidFill>
            <a:srgbClr val="d0af72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객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대각선 방향의 모서리가 둥근 사각형 78"/>
          <p:cNvSpPr/>
          <p:nvPr/>
        </p:nvSpPr>
        <p:spPr>
          <a:xfrm>
            <a:off x="2335320" y="3711600"/>
            <a:ext cx="655560" cy="649440"/>
          </a:xfrm>
          <a:prstGeom prst="pie">
            <a:avLst/>
          </a:prstGeom>
          <a:solidFill>
            <a:srgbClr val="8187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레드 정보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자유형 56"/>
          <p:cNvSpPr/>
          <p:nvPr/>
        </p:nvSpPr>
        <p:spPr>
          <a:xfrm flipH="1">
            <a:off x="2693160" y="2990880"/>
            <a:ext cx="289080" cy="792000"/>
          </a:xfrm>
          <a:custGeom>
            <a:avLst/>
            <a:gdLst/>
            <a:ahLst/>
            <a:rect l="l" t="t" r="r" b="b"/>
            <a:pathLst>
              <a:path w="19455" h="856034">
                <a:moveTo>
                  <a:pt x="19455" y="856034"/>
                </a:moveTo>
                <a:cubicBezTo>
                  <a:pt x="16212" y="815502"/>
                  <a:pt x="12969" y="774970"/>
                  <a:pt x="9727" y="632298"/>
                </a:cubicBezTo>
                <a:cubicBezTo>
                  <a:pt x="6485" y="489626"/>
                  <a:pt x="3242" y="244813"/>
                  <a:pt x="0" y="0"/>
                </a:cubicBezTo>
              </a:path>
            </a:pathLst>
          </a:custGeom>
          <a:noFill/>
          <a:ln w="10080">
            <a:solidFill>
              <a:srgbClr val="7030a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TextBox 2"/>
          <p:cNvSpPr/>
          <p:nvPr/>
        </p:nvSpPr>
        <p:spPr>
          <a:xfrm>
            <a:off x="6183000" y="3887640"/>
            <a:ext cx="249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이 스레드를 관리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스레드가 몇 개인지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스레드 코드의 위치가 어디인지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스레드의 우선순의는 얼마인지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등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6237000" y="244008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각 스레드의 스레드 코드는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응용프로그램 내에 존재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TextBox 31"/>
          <p:cNvSpPr/>
          <p:nvPr/>
        </p:nvSpPr>
        <p:spPr>
          <a:xfrm>
            <a:off x="1684080" y="5872320"/>
            <a:ext cx="42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현재 하나의 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에 의해 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4 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개의 스레드가 실행 중이며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그 중 스레드 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2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가 </a:t>
            </a:r>
            <a:r>
              <a:rPr b="0" lang="en-US" sz="1800" spc="-1" strike="noStrike">
                <a:solidFill>
                  <a:srgbClr val="0070c0"/>
                </a:solidFill>
                <a:latin typeface="Tw Cen MT"/>
              </a:rPr>
              <a:t>JVM</a:t>
            </a: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에 의해 스케쥴링되어 실행되고 있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슬라이드 번호 개체 틀 3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AD0-CC4B-49A4-A886-AEF08854ACD5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레드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스레드 실행을 위해 개발자에 의해 이루어지는 작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레드 코드 작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VM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에게 스레드를 생성하고 스레드 코드를 실행하도록 요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자바에서 스레드 만드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가지 방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ava.lang.Thread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래스를 이용하는 경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ava.lang.Runnabl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인터페이스를 이용하는 경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3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4312-FC1F-4CE1-ACC2-64AA57EE235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24:33Z</dcterms:created>
  <dc:creator>황기태</dc:creator>
  <dc:description/>
  <dc:language>en-US</dc:language>
  <cp:lastModifiedBy>COMGAL</cp:lastModifiedBy>
  <dcterms:modified xsi:type="dcterms:W3CDTF">2011-08-27T01:07:59Z</dcterms:modified>
  <cp:revision>493</cp:revision>
  <dc:subject/>
  <dc:title>슬라이드 1</dc:title>
</cp:coreProperties>
</file>