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663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632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888480" y="4689000"/>
            <a:ext cx="48848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937872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774960" y="937872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AF4F-F8AB-46F6-BDDF-3350E42E8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774960" y="937908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630A-B6CE-4EE2-A2A2-3653E8E30CF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636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88480" y="4689000"/>
            <a:ext cx="4884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9F20-3459-45FC-804B-95B16FA1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8AA1-6A0E-4260-AD7D-29636312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46240" y="40647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0AE1-2B47-4655-A29B-E2CF2A9E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64920" y="40647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44760" y="40647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8DD5-A51E-4BE9-A58C-E33D7FEF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EF9C-AD5D-4171-B322-533DDB7C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91A-BEA2-4D07-BFD1-DB9D87E0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3FF4-3DED-4F06-8F15-F4ED2C3D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0926-243E-4E1C-98D6-457F749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BBFD-E0C4-4199-84BA-CED6B966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69480" y="456840"/>
            <a:ext cx="67057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71E-A368-42E1-987B-40628867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7CED-0529-4003-AA64-2A733915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C194-1EE0-48C7-A86E-A99E9FEE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46240" y="40647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CBD6-C128-4706-BB5C-96886D96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00BB-A08D-4D82-9774-C7DAE596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4E38-D581-4F8F-9E5B-D28E104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46240" y="40647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143B-DA6E-48A8-8ED9-9151E3C9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64920" y="16765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4760" y="16765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64920" y="40647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4760" y="40647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DD41-4700-4097-ACA2-5B0EBCE9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C51C-C84C-4A3E-8B6B-36573E87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33131-3BFD-4DDC-B0CE-F41B8C59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968B-ABE5-4407-B02D-E69DD989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69480" y="456840"/>
            <a:ext cx="67057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51BD-CCB3-4EAB-A6D6-E2DB350F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B726-E957-4AC5-8F8F-3FAB809D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6240" y="40647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35D1-C397-40EA-B080-2F873FF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9480" y="36252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6240" y="16765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0CE3-1AC2-4EC8-92C8-9467264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157320"/>
            <a:ext cx="9144000" cy="6858000"/>
            <a:chOff x="-228600" y="15732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-228600" y="157320"/>
              <a:ext cx="9144000" cy="6858000"/>
              <a:chOff x="-228600" y="15732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28600" y="462240"/>
                <a:ext cx="9144000" cy="6400800"/>
                <a:chOff x="-228600" y="46224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-228600" y="462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-228600" y="766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-228600" y="1071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-228600" y="1376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-228600" y="1681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-228600" y="1986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-228600" y="2291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-228600" y="2595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-228600" y="2900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-228600" y="3205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-228600" y="3510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-228600" y="381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-228600" y="411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-228600" y="442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-228600" y="472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-228600" y="503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-228600" y="533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-228600" y="564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-228600" y="594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-228600" y="625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-228600" y="655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-228600" y="686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76320" y="157320"/>
                <a:ext cx="8534160" cy="6858000"/>
                <a:chOff x="76320" y="15732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763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3808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6858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9907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2952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6002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19051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2096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5146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28195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1240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4290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7339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0384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3434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6483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49528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2578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5627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58672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1722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4771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67816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0866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3915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6960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00100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30592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610480" y="15732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124080" y="15732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610480" y="15732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185760" y="1573200"/>
              <a:ext cx="1784160" cy="2324160"/>
              <a:chOff x="185760" y="157320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185760" y="16707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379800" y="157644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283320" y="157320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68576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JAVA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822924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8B49-3872-4E33-AA1C-95266B9C9E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69"/>
          <p:cNvSpPr/>
          <p:nvPr/>
        </p:nvSpPr>
        <p:spPr>
          <a:xfrm rot="18792600">
            <a:off x="529200" y="541800"/>
            <a:ext cx="444600" cy="436320"/>
          </a:xfrm>
          <a:prstGeom prst="bevel">
            <a:avLst>
              <a:gd name="adj" fmla="val 12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6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9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3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4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7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0F86-7B64-45AF-8E7E-01EE6EF6589F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슬라이드 번호 개체 틀 2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2362-D4DC-4CB8-97A7-59C463C22027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81000" y="1981080"/>
          <a:ext cx="7772400" cy="45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981080"/>
                    <a:ext cx="77724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WordArt 11" descr=""/>
          <p:cNvPicPr/>
          <p:nvPr/>
        </p:nvPicPr>
        <p:blipFill>
          <a:blip r:embed="rId3"/>
          <a:stretch/>
        </p:blipFill>
        <p:spPr>
          <a:xfrm>
            <a:off x="2889360" y="768240"/>
            <a:ext cx="4292640" cy="1036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3"/>
          <p:cNvSpPr/>
          <p:nvPr/>
        </p:nvSpPr>
        <p:spPr>
          <a:xfrm>
            <a:off x="5941440" y="1981080"/>
            <a:ext cx="1985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Tahoma"/>
              </a:rPr>
              <a:t>기본 입출력과 자료형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99F4-D220-4757-AC03-96069DF3FFC9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변수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변수는 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x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라는 이름을 가지며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정수형 값을 저장하는 장소이고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, 500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이라는 값을 저장하고 있다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x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는 정수값 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500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을 갖는 수치형 정수 변수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1612440" y="3720960"/>
            <a:ext cx="5958000" cy="2507400"/>
            <a:chOff x="1612440" y="3720960"/>
            <a:chExt cx="5958000" cy="2507400"/>
          </a:xfrm>
        </p:grpSpPr>
        <p:sp>
          <p:nvSpPr>
            <p:cNvPr id="310" name="Rectangle 5"/>
            <p:cNvSpPr/>
            <p:nvPr/>
          </p:nvSpPr>
          <p:spPr>
            <a:xfrm>
              <a:off x="1612440" y="4471560"/>
              <a:ext cx="2994840" cy="47664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t    x    =    500 ;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Line 6"/>
            <p:cNvSpPr/>
            <p:nvPr/>
          </p:nvSpPr>
          <p:spPr>
            <a:xfrm flipV="1">
              <a:off x="2149560" y="4872960"/>
              <a:ext cx="0" cy="502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Text Box 7"/>
            <p:cNvSpPr/>
            <p:nvPr/>
          </p:nvSpPr>
          <p:spPr>
            <a:xfrm>
              <a:off x="1625760" y="5357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자료형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Line 8"/>
            <p:cNvSpPr/>
            <p:nvPr/>
          </p:nvSpPr>
          <p:spPr>
            <a:xfrm flipV="1">
              <a:off x="2718360" y="4873320"/>
              <a:ext cx="0" cy="9547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314" name="Picture 9" descr="MCj03797530000[1]"/>
            <p:cNvPicPr/>
            <p:nvPr/>
          </p:nvPicPr>
          <p:blipFill>
            <a:blip r:embed="rId2"/>
            <a:stretch/>
          </p:blipFill>
          <p:spPr>
            <a:xfrm>
              <a:off x="5558400" y="4624920"/>
              <a:ext cx="20120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10"/>
            <p:cNvSpPr/>
            <p:nvPr/>
          </p:nvSpPr>
          <p:spPr>
            <a:xfrm>
              <a:off x="5709240" y="509544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6" name="Text Box 11"/>
            <p:cNvSpPr/>
            <p:nvPr/>
          </p:nvSpPr>
          <p:spPr>
            <a:xfrm>
              <a:off x="2252160" y="5829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변수이름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 flipV="1">
              <a:off x="3909960" y="4872960"/>
              <a:ext cx="0" cy="502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3741480" y="5375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값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9" name="Oval 14"/>
            <p:cNvSpPr/>
            <p:nvPr/>
          </p:nvSpPr>
          <p:spPr>
            <a:xfrm>
              <a:off x="6058080" y="3720960"/>
              <a:ext cx="772920" cy="476640"/>
            </a:xfrm>
            <a:prstGeom prst="ellipse">
              <a:avLst/>
            </a:prstGeom>
            <a:solidFill>
              <a:srgbClr val="ecd882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cxnSp>
          <p:nvCxnSpPr>
            <p:cNvPr id="320" name="AutoShape 15"/>
            <p:cNvCxnSpPr>
              <a:stCxn id="319" idx="4"/>
            </p:cNvCxnSpPr>
            <p:nvPr/>
          </p:nvCxnSpPr>
          <p:spPr>
            <a:xfrm rot="5400000">
              <a:off x="5916240" y="4611960"/>
              <a:ext cx="934560" cy="120600"/>
            </a:xfrm>
            <a:prstGeom prst="curvedConnector5">
              <a:avLst>
                <a:gd name="adj1" fmla="val 49479"/>
                <a:gd name="adj2" fmla="val 50000"/>
                <a:gd name="adj3" fmla="val 49479"/>
              </a:avLst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</p:cxnSp>
        <p:sp>
          <p:nvSpPr>
            <p:cNvPr id="321" name="AutoShape 16"/>
            <p:cNvSpPr/>
            <p:nvPr/>
          </p:nvSpPr>
          <p:spPr>
            <a:xfrm>
              <a:off x="4812840" y="4930200"/>
              <a:ext cx="492120" cy="427680"/>
            </a:xfrm>
            <a:custGeom>
              <a:avLst/>
              <a:gdLst>
                <a:gd name="textAreaLeft" fmla="*/ 76680 w 492120"/>
                <a:gd name="textAreaRight" fmla="*/ 429840 w 492120"/>
                <a:gd name="textAreaTop" fmla="*/ 107280 h 427680"/>
                <a:gd name="textAreaBottom" fmla="*/ 32040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1EA-8661-4E0E-89BF-02F68CD5A66E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변수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변수 선언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969840" y="2409840"/>
            <a:ext cx="7516800" cy="57132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06600" y="2486160"/>
            <a:ext cx="44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일반 형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자료형 변수이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Text Box 22"/>
          <p:cNvSpPr/>
          <p:nvPr/>
        </p:nvSpPr>
        <p:spPr>
          <a:xfrm>
            <a:off x="631800" y="3573360"/>
            <a:ext cx="7978680" cy="17398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int a;                       // int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변수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a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선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int a, b, c;               // 3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int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변수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a, b, c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선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int t=3, e,f=7;          // int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변수로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t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와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f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를 초기화 선언하면서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, e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를 선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byte x=34;              // byte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형 변수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x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를 선언하고 초기값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34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할당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double pi = 3.14;     // double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형 변수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pi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를 선언하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3.14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할당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char name='k';        // char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변수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name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에 문자 자료 ‘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k'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대입 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EF14-4277-4A26-9A6C-CBB2B9C5DE7E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변수 선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31800" y="1662120"/>
            <a:ext cx="7978680" cy="47574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VariableDec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s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g = 10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  //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지역변수 선언 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(int i=100; i&lt;300; i++)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j = i * 5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//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지역변수 선언 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hile(j&lt;600)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k = 30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//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지역변수 선언 ③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g + "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"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외부블록 변수 ④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j + "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"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외부블록 변수 ⑤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k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//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내부블록 변수 ⑥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 = j + 10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g + "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"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 ⑦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j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// ⑧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g);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// ⑨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  }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1" name="Picture 8" descr="2-2"/>
          <p:cNvPicPr/>
          <p:nvPr/>
        </p:nvPicPr>
        <p:blipFill>
          <a:blip r:embed="rId1"/>
          <a:stretch/>
        </p:blipFill>
        <p:spPr>
          <a:xfrm>
            <a:off x="6122880" y="4433760"/>
            <a:ext cx="2206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5C9A-C63A-4134-A5F7-1989C0F4C87F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변수 이름 작성 규칙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758880" y="1673280"/>
            <a:ext cx="7553160" cy="1663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첫 글자는 문자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영문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한글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, _(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언더스코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, $(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달러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로 시작한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첫글자 이외에는 문자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숫자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 _(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언더스코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, $(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달러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가 사용가능하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예약어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reserved word,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키워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는 변수이름으로 사용할 수 없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알파벳의 대문자와 소문자를 구별한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631800" y="3573360"/>
            <a:ext cx="7978680" cy="20142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옳은 변수이름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      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average,   ave$,    grand_total_1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      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TOTAL,   Total_mid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잘못된 변수이름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      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default             // 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예약어 사용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      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mid+               // + 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사용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          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*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total              // *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로 시작    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08A9-893C-4739-9422-88F60C355844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예약어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758880" y="1673280"/>
            <a:ext cx="7480080" cy="36576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ct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boolea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break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byt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cas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tch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char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class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continu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defaul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              doibl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els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extends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fals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nal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finally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float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for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if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mplements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mport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stanceof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ot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interfac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ong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nativ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neweof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t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packag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vat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protected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ublic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null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shor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tic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super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switch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retur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thi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row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throws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ransient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synchroniz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r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oid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volatil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whil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tru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A167-D122-4D6B-A7D7-F3FA947662AD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상수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상수는 이름 없이 자료 값만을 가진 자료 형태이다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int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형 변수인 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a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에</a:t>
            </a:r>
            <a:r>
              <a:rPr b="0" lang="ko-KR" sz="2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a=10;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은 변수 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a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에 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10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진수인 상수 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10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을 저장하라는 것이다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종류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논리형 상수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정수형 상수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실수형 상수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문자형 상수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문자열 상수 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8D86-D329-4FF9-92BD-8BD6DA22236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상수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제어문자와 유니코드 문자 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69840" y="2286000"/>
          <a:ext cx="7359840" cy="4022640"/>
        </p:xfrm>
        <a:graphic>
          <a:graphicData uri="http://schemas.openxmlformats.org/drawingml/2006/table">
            <a:tbl>
              <a:tblPr/>
              <a:tblGrid>
                <a:gridCol w="1579680"/>
                <a:gridCol w="1579680"/>
                <a:gridCol w="4200480"/>
              </a:tblGrid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제어문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유니코드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000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새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new line)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시작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t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000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tab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000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백스페이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Backspace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000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새 줄의 처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Carriage Return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000c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페이지의 처음 위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Form feed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\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005c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역슬래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Backslash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'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002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단일 인용부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Single Quote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002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이중 인용부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Double Quote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8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진수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x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1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진수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\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유니코드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A50-CBCC-4FF8-BD6B-7AB58DF5D1BD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상수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31800" y="1687680"/>
            <a:ext cx="7978680" cy="256284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public class ControlWord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public static void main(String[] args)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System.out.println("Hello World \nJava Powerful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System.out.println("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탭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\t 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탭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System.out.println("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단일 인용부호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\' \t\'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System.out.println("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이중 인용부호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\" \t\"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System.out.println("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유니코드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\u0030 \t \u0045 \t \u000B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 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}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9" name="Picture 6" descr="ControlWord"/>
          <p:cNvPicPr/>
          <p:nvPr/>
        </p:nvPicPr>
        <p:blipFill>
          <a:blip r:embed="rId1"/>
          <a:stretch/>
        </p:blipFill>
        <p:spPr>
          <a:xfrm>
            <a:off x="1212840" y="4467240"/>
            <a:ext cx="5514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슬라이드 번호 개체 틀 2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EE8-67D0-4E49-9A6F-B94EB3F4EE07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51" name="Object 3"/>
          <p:cNvGraphicFramePr/>
          <p:nvPr/>
        </p:nvGraphicFramePr>
        <p:xfrm>
          <a:off x="81000" y="1981080"/>
          <a:ext cx="7772400" cy="45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981080"/>
                    <a:ext cx="77724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3" name="WordArt 11" descr=""/>
          <p:cNvPicPr/>
          <p:nvPr/>
        </p:nvPicPr>
        <p:blipFill>
          <a:blip r:embed="rId3"/>
          <a:stretch/>
        </p:blipFill>
        <p:spPr>
          <a:xfrm>
            <a:off x="2889360" y="768240"/>
            <a:ext cx="4292640" cy="10368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3"/>
          <p:cNvSpPr/>
          <p:nvPr/>
        </p:nvSpPr>
        <p:spPr>
          <a:xfrm>
            <a:off x="6316560" y="1981080"/>
            <a:ext cx="1540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Tahoma"/>
              </a:rPr>
              <a:t>연산자와 제어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슬라이드 번호 개체 틀 2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D6A3-4572-43A5-82A9-FA8F2E501BB4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969840" y="457200"/>
            <a:ext cx="6705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연산자</a:t>
            </a: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(Operator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685800" y="1676520"/>
            <a:ext cx="7924680" cy="386064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0000ff"/>
                </a:solidFill>
                <a:latin typeface="굴림"/>
              </a:rPr>
              <a:t>산술 연산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0000ff"/>
                </a:solidFill>
                <a:latin typeface="굴림"/>
              </a:rPr>
              <a:t>관계 연산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0000ff"/>
                </a:solidFill>
                <a:latin typeface="굴림"/>
              </a:rPr>
              <a:t>비트 연산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0000ff"/>
                </a:solidFill>
                <a:latin typeface="굴림"/>
              </a:rPr>
              <a:t>논리 연산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00ff"/>
                </a:solidFill>
                <a:latin typeface="굴림"/>
              </a:rPr>
              <a:t>대입 연산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0000ff"/>
                </a:solidFill>
                <a:latin typeface="굴림"/>
              </a:rPr>
              <a:t>증가</a:t>
            </a:r>
            <a:r>
              <a:rPr b="0" lang="en-US" sz="2800" spc="-1" strike="noStrike">
                <a:solidFill>
                  <a:srgbClr val="0000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ff"/>
                </a:solidFill>
                <a:latin typeface="굴림"/>
              </a:rPr>
              <a:t>감소 연산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0000ff"/>
                </a:solidFill>
                <a:latin typeface="굴림"/>
              </a:rPr>
              <a:t>조건 연산자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50B1-21E3-41C6-B049-7C8A9192C634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실행문과 설명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실행문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grpSp>
        <p:nvGrpSpPr>
          <p:cNvPr id="224" name="Group 9"/>
          <p:cNvGrpSpPr/>
          <p:nvPr/>
        </p:nvGrpSpPr>
        <p:grpSpPr>
          <a:xfrm>
            <a:off x="723960" y="2333520"/>
            <a:ext cx="7886160" cy="2867040"/>
            <a:chOff x="723960" y="2333520"/>
            <a:chExt cx="7886160" cy="2867040"/>
          </a:xfrm>
        </p:grpSpPr>
        <p:sp>
          <p:nvSpPr>
            <p:cNvPr id="225" name="Rectangle 10"/>
            <p:cNvSpPr/>
            <p:nvPr/>
          </p:nvSpPr>
          <p:spPr>
            <a:xfrm>
              <a:off x="723960" y="2777760"/>
              <a:ext cx="1747440" cy="2422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실행문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실행문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실행문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실행문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1022400" y="2333520"/>
              <a:ext cx="12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[</a:t>
              </a: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프로그램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]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Text Box 12"/>
            <p:cNvSpPr/>
            <p:nvPr/>
          </p:nvSpPr>
          <p:spPr>
            <a:xfrm>
              <a:off x="3436200" y="2333520"/>
              <a:ext cx="107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[</a:t>
              </a: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실행문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]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Text Box 13"/>
            <p:cNvSpPr/>
            <p:nvPr/>
          </p:nvSpPr>
          <p:spPr>
            <a:xfrm>
              <a:off x="6373800" y="2333520"/>
              <a:ext cx="7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[</a:t>
              </a: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]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Rectangle 14"/>
            <p:cNvSpPr/>
            <p:nvPr/>
          </p:nvSpPr>
          <p:spPr>
            <a:xfrm>
              <a:off x="3136680" y="3670200"/>
              <a:ext cx="1584000" cy="322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식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Rectangle 15"/>
            <p:cNvSpPr/>
            <p:nvPr/>
          </p:nvSpPr>
          <p:spPr>
            <a:xfrm>
              <a:off x="5503680" y="3689280"/>
              <a:ext cx="504360" cy="3585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6149880" y="3689280"/>
              <a:ext cx="433080" cy="3585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Rectangle 17"/>
            <p:cNvSpPr/>
            <p:nvPr/>
          </p:nvSpPr>
          <p:spPr>
            <a:xfrm>
              <a:off x="6838560" y="3689280"/>
              <a:ext cx="504720" cy="3585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7519680" y="3689280"/>
              <a:ext cx="433080" cy="3585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Rectangle 19"/>
            <p:cNvSpPr/>
            <p:nvPr/>
          </p:nvSpPr>
          <p:spPr>
            <a:xfrm>
              <a:off x="8105400" y="3689280"/>
              <a:ext cx="504720" cy="3585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6470280" y="291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피연산자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Text Box 21"/>
            <p:cNvSpPr/>
            <p:nvPr/>
          </p:nvSpPr>
          <p:spPr>
            <a:xfrm>
              <a:off x="6771240" y="4605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연산자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Line 22"/>
            <p:cNvSpPr/>
            <p:nvPr/>
          </p:nvSpPr>
          <p:spPr>
            <a:xfrm flipH="1" flipV="1">
              <a:off x="6454440" y="4047840"/>
              <a:ext cx="383760" cy="5572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Line 23"/>
            <p:cNvSpPr/>
            <p:nvPr/>
          </p:nvSpPr>
          <p:spPr>
            <a:xfrm flipV="1">
              <a:off x="7343640" y="4098240"/>
              <a:ext cx="434520" cy="5065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 flipH="1">
              <a:off x="5793840" y="3311280"/>
              <a:ext cx="788760" cy="3780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6848280" y="3292200"/>
              <a:ext cx="242640" cy="3780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Line 26"/>
            <p:cNvSpPr/>
            <p:nvPr/>
          </p:nvSpPr>
          <p:spPr>
            <a:xfrm>
              <a:off x="7156080" y="3292200"/>
              <a:ext cx="1172880" cy="3780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2" name="AutoShape 27"/>
            <p:cNvSpPr/>
            <p:nvPr/>
          </p:nvSpPr>
          <p:spPr>
            <a:xfrm>
              <a:off x="2300040" y="3689280"/>
              <a:ext cx="674280" cy="250560"/>
            </a:xfrm>
            <a:prstGeom prst="rightArrow">
              <a:avLst>
                <a:gd name="adj1" fmla="val 50000"/>
                <a:gd name="adj2" fmla="val 67277"/>
              </a:avLst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3" name="Rectangle 28"/>
            <p:cNvSpPr/>
            <p:nvPr/>
          </p:nvSpPr>
          <p:spPr>
            <a:xfrm>
              <a:off x="833040" y="3670200"/>
              <a:ext cx="1466640" cy="34128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4" name="AutoShape 29"/>
            <p:cNvSpPr/>
            <p:nvPr/>
          </p:nvSpPr>
          <p:spPr>
            <a:xfrm>
              <a:off x="4892400" y="3742920"/>
              <a:ext cx="610920" cy="196920"/>
            </a:xfrm>
            <a:prstGeom prst="rightArrow">
              <a:avLst>
                <a:gd name="adj1" fmla="val 50000"/>
                <a:gd name="adj2" fmla="val 77559"/>
              </a:avLst>
            </a:prstGeom>
            <a:solidFill>
              <a:srgbClr val="6600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CA9A-5D5B-4CA9-B3DB-65C07FA28243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grpSp>
        <p:nvGrpSpPr>
          <p:cNvPr id="360" name="Group 24"/>
          <p:cNvGrpSpPr/>
          <p:nvPr/>
        </p:nvGrpSpPr>
        <p:grpSpPr>
          <a:xfrm>
            <a:off x="1473480" y="2033640"/>
            <a:ext cx="4851000" cy="2485080"/>
            <a:chOff x="1473480" y="2033640"/>
            <a:chExt cx="4851000" cy="2485080"/>
          </a:xfrm>
        </p:grpSpPr>
        <p:sp>
          <p:nvSpPr>
            <p:cNvPr id="361" name="Text Box 25"/>
            <p:cNvSpPr/>
            <p:nvPr/>
          </p:nvSpPr>
          <p:spPr>
            <a:xfrm>
              <a:off x="1473480" y="2900520"/>
              <a:ext cx="7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[</a:t>
              </a: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]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2411280" y="2998800"/>
              <a:ext cx="782640" cy="3589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3" name="Oval 27"/>
            <p:cNvSpPr/>
            <p:nvPr/>
          </p:nvSpPr>
          <p:spPr>
            <a:xfrm>
              <a:off x="3335400" y="2998800"/>
              <a:ext cx="433440" cy="3589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4" name="Rectangle 28"/>
            <p:cNvSpPr/>
            <p:nvPr/>
          </p:nvSpPr>
          <p:spPr>
            <a:xfrm>
              <a:off x="4024440" y="2998800"/>
              <a:ext cx="504720" cy="3589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5" name="Oval 29"/>
            <p:cNvSpPr/>
            <p:nvPr/>
          </p:nvSpPr>
          <p:spPr>
            <a:xfrm>
              <a:off x="4705200" y="2998800"/>
              <a:ext cx="433440" cy="3589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Rectangle 30"/>
            <p:cNvSpPr/>
            <p:nvPr/>
          </p:nvSpPr>
          <p:spPr>
            <a:xfrm>
              <a:off x="5291280" y="2998800"/>
              <a:ext cx="676080" cy="3589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Jav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7" name="Text Box 31"/>
            <p:cNvSpPr/>
            <p:nvPr/>
          </p:nvSpPr>
          <p:spPr>
            <a:xfrm>
              <a:off x="3834360" y="3814920"/>
              <a:ext cx="84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피연산자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변수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3915720" y="2033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연산자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 flipH="1">
              <a:off x="3639960" y="2430360"/>
              <a:ext cx="384480" cy="5857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>
              <a:off x="4487760" y="2430360"/>
              <a:ext cx="435240" cy="5400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1" name="Line 35"/>
            <p:cNvSpPr/>
            <p:nvPr/>
          </p:nvSpPr>
          <p:spPr>
            <a:xfrm flipH="1" flipV="1">
              <a:off x="3114720" y="3382920"/>
              <a:ext cx="782640" cy="4320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2" name="Line 36"/>
            <p:cNvSpPr/>
            <p:nvPr/>
          </p:nvSpPr>
          <p:spPr>
            <a:xfrm flipV="1">
              <a:off x="4257720" y="3357720"/>
              <a:ext cx="0" cy="4572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3" name="Line 37"/>
            <p:cNvSpPr/>
            <p:nvPr/>
          </p:nvSpPr>
          <p:spPr>
            <a:xfrm flipV="1">
              <a:off x="4608360" y="3382920"/>
              <a:ext cx="819360" cy="4320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4" name="Text Box 38"/>
            <p:cNvSpPr/>
            <p:nvPr/>
          </p:nvSpPr>
          <p:spPr>
            <a:xfrm>
              <a:off x="6061320" y="290052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FC3D-BFCB-40E2-B185-A9B5DCEB0396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69840" y="1884240"/>
          <a:ext cx="7209000" cy="3571920"/>
        </p:xfrm>
        <a:graphic>
          <a:graphicData uri="http://schemas.openxmlformats.org/drawingml/2006/table">
            <a:tbl>
              <a:tblPr/>
              <a:tblGrid>
                <a:gridCol w="1886040"/>
                <a:gridCol w="2801880"/>
                <a:gridCol w="2521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연산자 이름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처리 기능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술 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+, -, *, /, %, + -(sign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산술 계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관계 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lt;, &lt;=. &gt;, &gt;=, ==, !=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instanceo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크기 비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논리 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||, &amp;&amp;, 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논리 계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 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amp;, |, ^, ~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단위 처리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입 연산자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=, +=, -=, *=, /=, %=, &amp;=, |=, ^=, &lt;&lt;=, &gt;&gt;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연산결과 대입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증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감소 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++, --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씩 증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감소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건 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? :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건 연산의 간결한 표현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Rectangle 183"/>
          <p:cNvSpPr/>
          <p:nvPr/>
        </p:nvSpPr>
        <p:spPr>
          <a:xfrm>
            <a:off x="0" y="474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63D-C50D-4587-B9F7-35B25B5A7FC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산술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/(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나눗셈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연산자는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개의 피연산자 모두가 정수형일 경우에는 정수 나누기를 하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, 2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개의 피연산자 중 하나라도 실수형일 경우에는 실수 나누기를 한다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%(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나머지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연산자는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%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로 나누는 피연산자 모두는 정수형 데이터이어야 하며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정수형 인수를 나누고 남은 값을 돌려준다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     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0" y="236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222200" y="3768840"/>
          <a:ext cx="6894720" cy="2577960"/>
        </p:xfrm>
        <a:graphic>
          <a:graphicData uri="http://schemas.openxmlformats.org/drawingml/2006/table">
            <a:tbl>
              <a:tblPr/>
              <a:tblGrid>
                <a:gridCol w="765360"/>
                <a:gridCol w="1025640"/>
                <a:gridCol w="2260440"/>
                <a:gridCol w="2843280"/>
              </a:tblGrid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종 류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사용 예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항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음의 부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a, -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이항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+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피연산자의 덧셈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+ 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-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피연산자의 뺄셈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x -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*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피연산자의 덧셈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* 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피연산자의 나눗셈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/ b      a * b / c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연산 결과의 나머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% 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Rectangle 187"/>
          <p:cNvSpPr/>
          <p:nvPr/>
        </p:nvSpPr>
        <p:spPr>
          <a:xfrm>
            <a:off x="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BF8E-12C2-4931-8325-CAB1B6B5EB52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산술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598320" y="1657440"/>
            <a:ext cx="7979040" cy="393444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Arth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throws Exception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a, b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uble f, g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= 2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 = 15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 = 18.4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 = 4.5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+ b : " + (a+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- b : " + (a-b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* b : " + (a*b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/ b : " + (a/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/ g : " + (a/g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% b : " + (a%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③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863F-E933-41E4-BC80-571BDBF4FBF6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관계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관계 연산자는 피연산자인 두개의 값을 비교하여 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true(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참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와 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alse(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거짓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의 결과를 돌려주는 연산자이다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주로 조건식에 사용되며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연산 결과는 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true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나 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alse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가 된다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.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instanceof 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연산자는 클래스와 객체의 관계를 파악하는데 사용한다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94B8-25ED-418B-ACA6-5B337D7BB6C1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관계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grpSp>
        <p:nvGrpSpPr>
          <p:cNvPr id="394" name="Group 36"/>
          <p:cNvGrpSpPr/>
          <p:nvPr/>
        </p:nvGrpSpPr>
        <p:grpSpPr>
          <a:xfrm>
            <a:off x="1666800" y="1127160"/>
            <a:ext cx="5354640" cy="2932920"/>
            <a:chOff x="1666800" y="1127160"/>
            <a:chExt cx="5354640" cy="2932920"/>
          </a:xfrm>
        </p:grpSpPr>
        <p:sp>
          <p:nvSpPr>
            <p:cNvPr id="395" name="Document"/>
            <p:cNvSpPr/>
            <p:nvPr/>
          </p:nvSpPr>
          <p:spPr>
            <a:xfrm>
              <a:off x="6121440" y="1889280"/>
              <a:ext cx="900000" cy="9698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u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396" name="Picture 38" descr="MCj02908480000[1]"/>
            <p:cNvPicPr/>
            <p:nvPr/>
          </p:nvPicPr>
          <p:blipFill>
            <a:blip r:embed="rId1"/>
            <a:stretch/>
          </p:blipFill>
          <p:spPr>
            <a:xfrm>
              <a:off x="1666800" y="1203480"/>
              <a:ext cx="2584440" cy="28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39"/>
            <p:cNvSpPr/>
            <p:nvPr/>
          </p:nvSpPr>
          <p:spPr>
            <a:xfrm>
              <a:off x="2678760" y="1127160"/>
              <a:ext cx="89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[</a:t>
              </a: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조건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]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Text Box 40"/>
            <p:cNvSpPr/>
            <p:nvPr/>
          </p:nvSpPr>
          <p:spPr>
            <a:xfrm>
              <a:off x="2043720" y="2824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값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Text Box 41"/>
            <p:cNvSpPr/>
            <p:nvPr/>
          </p:nvSpPr>
          <p:spPr>
            <a:xfrm>
              <a:off x="3529800" y="3600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ahoma"/>
                </a:rPr>
                <a:t>값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Oval 42"/>
            <p:cNvSpPr/>
            <p:nvPr/>
          </p:nvSpPr>
          <p:spPr>
            <a:xfrm>
              <a:off x="2611440" y="2554200"/>
              <a:ext cx="1028520" cy="540000"/>
            </a:xfrm>
            <a:prstGeom prst="ellipse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ahoma"/>
                </a:rPr>
                <a:t>관계연산자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1" name="AutoShape 43"/>
            <p:cNvSpPr/>
            <p:nvPr/>
          </p:nvSpPr>
          <p:spPr>
            <a:xfrm>
              <a:off x="4275000" y="2284560"/>
              <a:ext cx="1690920" cy="180720"/>
            </a:xfrm>
            <a:custGeom>
              <a:avLst/>
              <a:gdLst>
                <a:gd name="textAreaLeft" fmla="*/ 263520 w 1690920"/>
                <a:gd name="textAreaRight" fmla="*/ 1479960 w 1690920"/>
                <a:gd name="textAreaTop" fmla="*/ 45720 h 180720"/>
                <a:gd name="textAreaBottom" fmla="*/ 13644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ecd882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2" name="Text Box 44"/>
            <p:cNvSpPr/>
            <p:nvPr/>
          </p:nvSpPr>
          <p:spPr>
            <a:xfrm>
              <a:off x="4877280" y="1846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Document"/>
            <p:cNvSpPr/>
            <p:nvPr/>
          </p:nvSpPr>
          <p:spPr>
            <a:xfrm>
              <a:off x="6121440" y="3087720"/>
              <a:ext cx="900000" cy="9698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als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AutoShape 46"/>
            <p:cNvSpPr/>
            <p:nvPr/>
          </p:nvSpPr>
          <p:spPr>
            <a:xfrm>
              <a:off x="4275000" y="3483000"/>
              <a:ext cx="1690920" cy="181080"/>
            </a:xfrm>
            <a:custGeom>
              <a:avLst/>
              <a:gdLst>
                <a:gd name="textAreaLeft" fmla="*/ 263520 w 1690920"/>
                <a:gd name="textAreaRight" fmla="*/ 1479960 w 1690920"/>
                <a:gd name="textAreaTop" fmla="*/ 46080 h 181080"/>
                <a:gd name="textAreaBottom" fmla="*/ 13680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ecd882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Text Box 47"/>
            <p:cNvSpPr/>
            <p:nvPr/>
          </p:nvSpPr>
          <p:spPr>
            <a:xfrm>
              <a:off x="4907520" y="3044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06" name="Rectangle 49"/>
          <p:cNvSpPr/>
          <p:nvPr/>
        </p:nvSpPr>
        <p:spPr>
          <a:xfrm>
            <a:off x="0" y="23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996840" y="4178160"/>
          <a:ext cx="6694560" cy="2438640"/>
        </p:xfrm>
        <a:graphic>
          <a:graphicData uri="http://schemas.openxmlformats.org/drawingml/2006/table">
            <a:tbl>
              <a:tblPr/>
              <a:tblGrid>
                <a:gridCol w="1187640"/>
                <a:gridCol w="3136680"/>
                <a:gridCol w="2370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연산자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의미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사용 예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lt;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작으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&lt; b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lt;=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작거나 같으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&lt;= b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gt;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크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c &gt; 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gt;=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크거나 같으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c &gt;= 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==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같으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c == 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!=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같지 않으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c != 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instanceof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클래스로 생성한 객체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c instanceof d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Rectangle 203"/>
          <p:cNvSpPr/>
          <p:nvPr/>
        </p:nvSpPr>
        <p:spPr>
          <a:xfrm>
            <a:off x="2106720" y="575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AFD7-B805-4A76-8397-C73D34E66151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관계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Rectangle 69"/>
          <p:cNvSpPr/>
          <p:nvPr/>
        </p:nvSpPr>
        <p:spPr>
          <a:xfrm>
            <a:off x="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Text Box 77"/>
          <p:cNvSpPr/>
          <p:nvPr/>
        </p:nvSpPr>
        <p:spPr>
          <a:xfrm>
            <a:off x="598320" y="1657440"/>
            <a:ext cx="7979040" cy="33858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Rela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throws Exception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a = 25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b = 15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&lt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b : " + (a&lt;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&lt;= b : " + (a&lt;=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&gt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b : " + (a&gt;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③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&gt;= b : " + (a&gt;=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④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== b : " + (a==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⑤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!= b : " + (a!=b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⑥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4" name="Picture 79" descr="3-2"/>
          <p:cNvPicPr/>
          <p:nvPr/>
        </p:nvPicPr>
        <p:blipFill>
          <a:blip r:embed="rId1"/>
          <a:stretch/>
        </p:blipFill>
        <p:spPr>
          <a:xfrm>
            <a:off x="6000840" y="3984480"/>
            <a:ext cx="2522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35E6-4AA0-4022-AA0C-2D0346AB6D7E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비트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0458c"/>
                </a:solidFill>
                <a:latin typeface="굴림"/>
              </a:rPr>
              <a:t>컴퓨터가 다루는 정보의 최소 단위는 </a:t>
            </a:r>
            <a:r>
              <a:rPr b="1" lang="en-US" sz="2400" spc="-1" strike="noStrike">
                <a:solidFill>
                  <a:srgbClr val="40458c"/>
                </a:solidFill>
                <a:latin typeface="굴림"/>
              </a:rPr>
              <a:t>0</a:t>
            </a:r>
            <a:r>
              <a:rPr b="1" lang="ko-KR" sz="2400" spc="-1" strike="noStrike">
                <a:solidFill>
                  <a:srgbClr val="40458c"/>
                </a:solidFill>
                <a:latin typeface="굴림"/>
              </a:rPr>
              <a:t>과 </a:t>
            </a:r>
            <a:r>
              <a:rPr b="1" lang="en-US" sz="2400" spc="-1" strike="noStrike">
                <a:solidFill>
                  <a:srgbClr val="40458c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40458c"/>
                </a:solidFill>
                <a:latin typeface="굴림"/>
              </a:rPr>
              <a:t>로 이루어진 </a:t>
            </a:r>
            <a:r>
              <a:rPr b="1" lang="en-US" sz="2400" spc="-1" strike="noStrike">
                <a:solidFill>
                  <a:srgbClr val="40458c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40458c"/>
                </a:solidFill>
                <a:latin typeface="굴림"/>
              </a:rPr>
              <a:t>진수 한자리 값인 비트</a:t>
            </a:r>
            <a:r>
              <a:rPr b="1" lang="en-US" sz="2400" spc="-1" strike="noStrike">
                <a:solidFill>
                  <a:srgbClr val="40458c"/>
                </a:solidFill>
                <a:latin typeface="굴림"/>
              </a:rPr>
              <a:t>(bit)</a:t>
            </a:r>
            <a:r>
              <a:rPr b="1" lang="ko-KR" sz="2400" spc="-1" strike="noStrike">
                <a:solidFill>
                  <a:srgbClr val="40458c"/>
                </a:solidFill>
                <a:latin typeface="굴림"/>
              </a:rPr>
              <a:t>이다</a:t>
            </a:r>
            <a:r>
              <a:rPr b="1" lang="en-US" sz="24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비트가 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8</a:t>
            </a: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개 모여서 바이트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(byte)</a:t>
            </a: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를 구성하며 문자나 숫자를 나타낸다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.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</p:txBody>
      </p:sp>
      <p:grpSp>
        <p:nvGrpSpPr>
          <p:cNvPr id="418" name="Group 30"/>
          <p:cNvGrpSpPr/>
          <p:nvPr/>
        </p:nvGrpSpPr>
        <p:grpSpPr>
          <a:xfrm>
            <a:off x="2120400" y="3274920"/>
            <a:ext cx="5415480" cy="2409120"/>
            <a:chOff x="2120400" y="3274920"/>
            <a:chExt cx="5415480" cy="2409120"/>
          </a:xfrm>
        </p:grpSpPr>
        <p:grpSp>
          <p:nvGrpSpPr>
            <p:cNvPr id="419" name="Group 31"/>
            <p:cNvGrpSpPr/>
            <p:nvPr/>
          </p:nvGrpSpPr>
          <p:grpSpPr>
            <a:xfrm>
              <a:off x="3386160" y="4356000"/>
              <a:ext cx="2430360" cy="630360"/>
              <a:chOff x="3386160" y="4356000"/>
              <a:chExt cx="2430360" cy="630360"/>
            </a:xfrm>
          </p:grpSpPr>
          <p:sp>
            <p:nvSpPr>
              <p:cNvPr id="420" name="Rectangle 32"/>
              <p:cNvSpPr/>
              <p:nvPr/>
            </p:nvSpPr>
            <p:spPr>
              <a:xfrm>
                <a:off x="3386160" y="4356000"/>
                <a:ext cx="2430360" cy="630360"/>
              </a:xfrm>
              <a:prstGeom prst="rect">
                <a:avLst/>
              </a:prstGeom>
              <a:solidFill>
                <a:srgbClr val="ecd882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1" name="Line 33"/>
              <p:cNvSpPr/>
              <p:nvPr/>
            </p:nvSpPr>
            <p:spPr>
              <a:xfrm>
                <a:off x="4602240" y="4356000"/>
                <a:ext cx="0" cy="6303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2" name="Line 34"/>
              <p:cNvSpPr/>
              <p:nvPr/>
            </p:nvSpPr>
            <p:spPr>
              <a:xfrm>
                <a:off x="4916520" y="4356000"/>
                <a:ext cx="0" cy="6303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3" name="Line 35"/>
              <p:cNvSpPr/>
              <p:nvPr/>
            </p:nvSpPr>
            <p:spPr>
              <a:xfrm>
                <a:off x="5186160" y="4356000"/>
                <a:ext cx="0" cy="6303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4" name="Line 36"/>
              <p:cNvSpPr/>
              <p:nvPr/>
            </p:nvSpPr>
            <p:spPr>
              <a:xfrm>
                <a:off x="5526000" y="4356000"/>
                <a:ext cx="0" cy="6303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5" name="Line 37"/>
              <p:cNvSpPr/>
              <p:nvPr/>
            </p:nvSpPr>
            <p:spPr>
              <a:xfrm>
                <a:off x="4286160" y="4356000"/>
                <a:ext cx="0" cy="6303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6" name="Line 38"/>
              <p:cNvSpPr/>
              <p:nvPr/>
            </p:nvSpPr>
            <p:spPr>
              <a:xfrm>
                <a:off x="3971880" y="4356000"/>
                <a:ext cx="0" cy="6303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7" name="Line 39"/>
              <p:cNvSpPr/>
              <p:nvPr/>
            </p:nvSpPr>
            <p:spPr>
              <a:xfrm>
                <a:off x="3655800" y="4356000"/>
                <a:ext cx="0" cy="6303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28" name="Text Box 40"/>
            <p:cNvSpPr/>
            <p:nvPr/>
          </p:nvSpPr>
          <p:spPr>
            <a:xfrm>
              <a:off x="2120400" y="435600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 byt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9" name="AutoShape 41"/>
            <p:cNvSpPr/>
            <p:nvPr/>
          </p:nvSpPr>
          <p:spPr>
            <a:xfrm>
              <a:off x="5105160" y="3274920"/>
              <a:ext cx="2430720" cy="630360"/>
            </a:xfrm>
            <a:prstGeom prst="wedgeRoundRectCallout">
              <a:avLst>
                <a:gd name="adj1" fmla="val -69138"/>
                <a:gd name="adj2" fmla="val 112467"/>
                <a:gd name="adj3" fmla="val 16667"/>
              </a:avLst>
            </a:prstGeom>
            <a:solidFill>
              <a:srgbClr val="ecd882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ko-KR" sz="1800" spc="-1" strike="noStrike">
                  <a:solidFill>
                    <a:srgbClr val="000000"/>
                  </a:solidFill>
                  <a:latin typeface="Tahoma"/>
                </a:rPr>
                <a:t>진수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8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2</a:t>
              </a:r>
              <a:r>
                <a:rPr b="0" lang="ko-KR" sz="1800" spc="-1" strike="noStrike">
                  <a:solidFill>
                    <a:srgbClr val="000000"/>
                  </a:solidFill>
                  <a:latin typeface="Tahoma"/>
                </a:rPr>
                <a:t>진수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10011110)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3334320" y="4413240"/>
              <a:ext cx="24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 0 0 1 1 1 1 0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1" name="Line 43"/>
            <p:cNvSpPr/>
            <p:nvPr/>
          </p:nvSpPr>
          <p:spPr>
            <a:xfrm>
              <a:off x="3486240" y="498636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Text Box 44"/>
            <p:cNvSpPr/>
            <p:nvPr/>
          </p:nvSpPr>
          <p:spPr>
            <a:xfrm>
              <a:off x="3185640" y="534672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bit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9FE3-4C9A-40DC-9BCD-B5FA27770B48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비트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0458c"/>
                </a:solidFill>
                <a:latin typeface="굴림"/>
              </a:rPr>
              <a:t>비트 연산자는 비트 단위로 데이터를 처리하는 연산자로서 비트를 직접 조작하는데 사용</a:t>
            </a:r>
            <a:r>
              <a:rPr b="1" lang="en-US" sz="24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비트 연산자는 양쪽의 피연산자의 값을 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2</a:t>
            </a: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진수로 변환한 다음 비트별로 논리 연산을 실행하며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연산의 대상은 정수이다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.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201680" y="3286080"/>
          <a:ext cx="7321680" cy="2963880"/>
        </p:xfrm>
        <a:graphic>
          <a:graphicData uri="http://schemas.openxmlformats.org/drawingml/2006/table">
            <a:tbl>
              <a:tblPr/>
              <a:tblGrid>
                <a:gridCol w="992160"/>
                <a:gridCol w="2340000"/>
                <a:gridCol w="3989520"/>
              </a:tblGrid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사용 예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∼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부정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보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~a ( a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를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진수화 하여 각 비트를 반전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    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즉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의보수와 같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lt;&lt;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단위 왼쪽이동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&lt;&lt; 8 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왼쪽 시프트 연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gt;&gt;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단위 오른쪽 이동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&gt;&gt; 8 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오른쪽 시프트 연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단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N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&amp; b 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ND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연산 수행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|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단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| b 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OR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연산 수행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^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단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X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^ b 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XOR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연산 수행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Rectangle 154"/>
          <p:cNvSpPr/>
          <p:nvPr/>
        </p:nvSpPr>
        <p:spPr>
          <a:xfrm>
            <a:off x="0" y="463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E4E0-32B0-403A-95DD-62105905C6D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논리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참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(true)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과 거짓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(false)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을 판정하는데 사용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40458c"/>
                </a:solidFill>
                <a:latin typeface="굴림"/>
              </a:rPr>
              <a:t>비트 연산자는 비트 단위의 연산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40458c"/>
                </a:solidFill>
                <a:latin typeface="굴림"/>
              </a:rPr>
              <a:t>논리 연산자는 연산 대상이 논리형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자바의 논리 연산자는 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boolean 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형의 자료만을 대상으로 하기 때문에 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ture, false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에 대해서만 처리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논리 연산자에는 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&amp;&amp;, ||, !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이 있으며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연산 결과 값은 관계 연산자와 마찬 가지로 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true 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또는 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false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의 값을 갖는다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 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1C13-FE6F-4E20-AE00-4CA91902EA79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실행문과 설명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설명문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69840" y="2514600"/>
          <a:ext cx="7425000" cy="2021040"/>
        </p:xfrm>
        <a:graphic>
          <a:graphicData uri="http://schemas.openxmlformats.org/drawingml/2006/table">
            <a:tbl>
              <a:tblPr/>
              <a:tblGrid>
                <a:gridCol w="1660680"/>
                <a:gridCol w="576432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설명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/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설명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한 줄이 설명문으로 사용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*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설명문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*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*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과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*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사이에 있는 내용을 설명문으로 사용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**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설명문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*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**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과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*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/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사이에 있는 내용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Javadoc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설명문으로 사용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Rectangle 76"/>
          <p:cNvSpPr/>
          <p:nvPr/>
        </p:nvSpPr>
        <p:spPr>
          <a:xfrm>
            <a:off x="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5B4D-774B-4206-831C-5FDE10F53678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논리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0600" y="3055680"/>
            <a:ext cx="7924680" cy="14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다음의 표는 논리형 데이터 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a</a:t>
            </a: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와 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b</a:t>
            </a: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에 대한 </a:t>
            </a:r>
            <a:r>
              <a:rPr b="1" lang="en-US" sz="2000" spc="-1" strike="noStrike">
                <a:solidFill>
                  <a:srgbClr val="40458c"/>
                </a:solidFill>
                <a:latin typeface="굴림"/>
              </a:rPr>
              <a:t>&amp;&amp;, ||, ! </a:t>
            </a:r>
            <a:r>
              <a:rPr b="1" lang="ko-KR" sz="2000" spc="-1" strike="noStrike">
                <a:solidFill>
                  <a:srgbClr val="40458c"/>
                </a:solidFill>
                <a:latin typeface="굴림"/>
              </a:rPr>
              <a:t>의 연산 결과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 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685800" y="1542960"/>
          <a:ext cx="7318440" cy="1341360"/>
        </p:xfrm>
        <a:graphic>
          <a:graphicData uri="http://schemas.openxmlformats.org/drawingml/2006/table">
            <a:tbl>
              <a:tblPr/>
              <a:tblGrid>
                <a:gridCol w="890640"/>
                <a:gridCol w="933480"/>
                <a:gridCol w="1933560"/>
                <a:gridCol w="35607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의미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일반 형식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사용 예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&amp;&amp;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N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  &amp;&amp;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&amp;&amp; b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||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 ||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a ||  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NOT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!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!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Rectangle 108"/>
          <p:cNvSpPr/>
          <p:nvPr/>
        </p:nvSpPr>
        <p:spPr>
          <a:xfrm>
            <a:off x="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Rectangle 113"/>
          <p:cNvSpPr/>
          <p:nvPr/>
        </p:nvSpPr>
        <p:spPr>
          <a:xfrm>
            <a:off x="0" y="28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85800" y="3768840"/>
          <a:ext cx="7318440" cy="2306520"/>
        </p:xfrm>
        <a:graphic>
          <a:graphicData uri="http://schemas.openxmlformats.org/drawingml/2006/table">
            <a:tbl>
              <a:tblPr/>
              <a:tblGrid>
                <a:gridCol w="1463760"/>
                <a:gridCol w="1463760"/>
                <a:gridCol w="1463400"/>
                <a:gridCol w="1463760"/>
                <a:gridCol w="1463760"/>
              </a:tblGrid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a &amp;&amp; 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a || 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!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tr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Rectangle 276"/>
          <p:cNvSpPr/>
          <p:nvPr/>
        </p:nvSpPr>
        <p:spPr>
          <a:xfrm>
            <a:off x="0" y="39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770F-AFD2-47C8-B4B7-4C9B34314E8B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논리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Rectangle 32"/>
          <p:cNvSpPr/>
          <p:nvPr/>
        </p:nvSpPr>
        <p:spPr>
          <a:xfrm>
            <a:off x="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Rectangle 33"/>
          <p:cNvSpPr/>
          <p:nvPr/>
        </p:nvSpPr>
        <p:spPr>
          <a:xfrm>
            <a:off x="0" y="28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Rectangle 72"/>
          <p:cNvSpPr/>
          <p:nvPr/>
        </p:nvSpPr>
        <p:spPr>
          <a:xfrm>
            <a:off x="0" y="39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Text Box 74"/>
          <p:cNvSpPr/>
          <p:nvPr/>
        </p:nvSpPr>
        <p:spPr>
          <a:xfrm>
            <a:off x="598320" y="1657440"/>
            <a:ext cx="7979040" cy="393444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Logi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x = 2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nt y = 3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z = 4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oolean a, b, c, d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(x&lt;y &amp;&amp; y&lt;z)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x+"&lt;"+y+" AND "+y+"&lt;"+z+" = Good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(x&lt;y || y&lt;z)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x+"&lt;"+y+" OR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"+y+"&lt;"+z+" = Good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= true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 = c = false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 = a || b &amp;&amp; c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③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a = "+a+ ", b = "+b+ ", c = "+c+", d = "+d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E27-98A1-444D-97C2-29C969574A05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대입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오른쪽에 있는 변수나 상수의 값을 왼쪽의 변수에 저장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대입 연산자 </a:t>
            </a:r>
            <a:r>
              <a:rPr b="0" lang="ko-KR" sz="28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=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는 우변의 연산 결과를 좌변의 변수에 대입하여 기억시키는 연산자이다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나머지 대입 연산자는 일반 연산자의 표현을 간결하게 줄여 사용한 표현이며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산술 연산자의 확장으로 작업 능률과 처리 속도를 증진 시킨다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61" name="Rectangle 29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Rectangle 262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4FA-37ED-4D2E-B0E1-6AAC63FC3CA6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대입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0" y="138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89120" y="1573200"/>
          <a:ext cx="7340400" cy="4638600"/>
        </p:xfrm>
        <a:graphic>
          <a:graphicData uri="http://schemas.openxmlformats.org/drawingml/2006/table">
            <a:tbl>
              <a:tblPr/>
              <a:tblGrid>
                <a:gridCol w="1692000"/>
                <a:gridCol w="1692360"/>
                <a:gridCol w="1693800"/>
                <a:gridCol w="2262240"/>
              </a:tblGrid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일반형식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의미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내용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=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(x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연산자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y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의 결과를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에 배정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+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+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+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-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-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-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*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*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*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/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/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/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%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%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%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&amp;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&amp;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&amp;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^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^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^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|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|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|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&lt;&lt;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&lt;&lt;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&lt;&lt;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&gt;&gt;=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&gt;&gt;=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x = x &gt;&gt; 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Rectangle 279"/>
          <p:cNvSpPr/>
          <p:nvPr/>
        </p:nvSpPr>
        <p:spPr>
          <a:xfrm>
            <a:off x="0" y="547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A91-4B1E-4D82-BB29-6AF1E1973FC8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대입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0" y="138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Rectangle 63"/>
          <p:cNvSpPr/>
          <p:nvPr/>
        </p:nvSpPr>
        <p:spPr>
          <a:xfrm>
            <a:off x="0" y="547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Text Box 64"/>
          <p:cNvSpPr/>
          <p:nvPr/>
        </p:nvSpPr>
        <p:spPr>
          <a:xfrm>
            <a:off x="598320" y="1657440"/>
            <a:ext cx="7979040" cy="283716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Assig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x, y, z = 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 = y = z = 10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 += x + y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 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 += y -= z *=5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③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 += y = z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 //④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x = "+x+ ", y = "+y+", z = "+z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77" name="Picture 65" descr="AssigOper"/>
          <p:cNvPicPr/>
          <p:nvPr/>
        </p:nvPicPr>
        <p:blipFill>
          <a:blip r:embed="rId1"/>
          <a:stretch/>
        </p:blipFill>
        <p:spPr>
          <a:xfrm>
            <a:off x="1469880" y="4684680"/>
            <a:ext cx="6705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34AA-2DAD-4365-8E5F-0EB8B46B5B90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변수에 저장되어 있는 값을 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1 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증가 시키거나 감소시킴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증가 연산자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++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는 피연산자인 변수의 값을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만큼 증가시킴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감소 연산자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--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는 피연산자인 변수의 값을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만큼 감소시킴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위치에 따라 변수 앞에 오는 전치형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prefix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과 변수 뒤에 오는 후치형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postfix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이 있다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  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증가</a:t>
            </a: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/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감소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Rectangle 57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071720" y="4021200"/>
          <a:ext cx="7451640" cy="1766880"/>
        </p:xfrm>
        <a:graphic>
          <a:graphicData uri="http://schemas.openxmlformats.org/drawingml/2006/table">
            <a:tbl>
              <a:tblPr/>
              <a:tblGrid>
                <a:gridCol w="985680"/>
                <a:gridCol w="1584360"/>
                <a:gridCol w="3533760"/>
                <a:gridCol w="134784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일반 형식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사용 예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++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++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피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1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증가시키고 피연산자 사용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a = ++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피연산자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++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피연산자 사용후에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1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증가시킴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a = b++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--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--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피연산자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1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감소시키고 피연산자 사용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a = --b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피연산자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--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피연산자 사용후에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1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감소시킴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,한컴돋움"/>
                        </a:rPr>
                        <a:t>a = b--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Rectangle 189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C0F4-3FDC-4F20-9D71-79B8AD50E8A0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++a, a++ 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와 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a = a + 1 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는 같은 의미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) a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값이 전치형과 후치형에 따라 값이 달라진다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int a, b;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a = b = 3;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c = a++ - 2;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// 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후치형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d = ++b - 2;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// 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전치형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증가</a:t>
            </a: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/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감소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Rectangle 36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969840" y="4371840"/>
            <a:ext cx="7553520" cy="1597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 = a++ -2;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에서</a:t>
            </a: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와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의 결과는 문장을 실행하고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++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가 계산되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때문에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 = 1 (c=3-2), a = 4 (a=a+1)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이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그러나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와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의 결과는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+b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계산되고 나서 문장을 실행하기 때문에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 = 4 (b=b+1), d = 2 (d=4-2)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이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3123-CEDE-4DA3-839D-9CB06C3C45C6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증가</a:t>
            </a: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/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감소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98320" y="1660680"/>
            <a:ext cx="7979040" cy="31114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Incr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a, b, c, d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=b=c=d=1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(int count=0; count&lt;5; count++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x = "+(a++)+ ", b = "+(++b)+"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 = "+(c--)+", d = "+(--d)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7" name="Picture 8" descr="IncrOper"/>
          <p:cNvPicPr/>
          <p:nvPr/>
        </p:nvPicPr>
        <p:blipFill>
          <a:blip r:embed="rId1"/>
          <a:stretch/>
        </p:blipFill>
        <p:spPr>
          <a:xfrm>
            <a:off x="1793880" y="4070520"/>
            <a:ext cx="55846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9B9-76B6-417F-9DDD-98C54396CBB4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조건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조건 연산자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(? :)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항을 사용하는 연산자이다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조건문인 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if 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문의 조건처리를 대신할 수 있는 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항 연산자이다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식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1(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조건식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의 참과 거짓을 판별하여 참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true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이면 식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를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거짓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false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이면 식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을 수행하여 그 결과를 생성 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127160" y="4654440"/>
          <a:ext cx="6838920" cy="906480"/>
        </p:xfrm>
        <a:graphic>
          <a:graphicData uri="http://schemas.openxmlformats.org/drawingml/2006/table">
            <a:tbl>
              <a:tblPr/>
              <a:tblGrid>
                <a:gridCol w="1090440"/>
                <a:gridCol w="2116440"/>
                <a:gridCol w="363204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8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연산자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8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일반 형식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800" spc="-1" strike="noStrike">
                          <a:solidFill>
                            <a:srgbClr val="0000ff"/>
                          </a:solidFill>
                          <a:latin typeface="한양신명조"/>
                          <a:ea typeface="한양신명조,한컴돋움"/>
                        </a:rPr>
                        <a:t>의미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? :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식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1 ? </a:t>
                      </a:r>
                      <a:r>
                        <a:rPr b="1" lang="ko-KR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식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2 : </a:t>
                      </a:r>
                      <a:r>
                        <a:rPr b="1" lang="ko-KR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식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imes New Roman"/>
                          <a:ea typeface="한양신명조,한컴돋움"/>
                        </a:rPr>
                        <a:t> </a:t>
                      </a:r>
                      <a:r>
                        <a:rPr b="1" lang="ko-KR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식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2 : true, </a:t>
                      </a:r>
                      <a:r>
                        <a:rPr b="1" lang="ko-KR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식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한양신명조"/>
                          <a:ea typeface="한양신명조,한컴돋움"/>
                        </a:rPr>
                        <a:t>3 : fals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Rectangle 47"/>
          <p:cNvSpPr/>
          <p:nvPr/>
        </p:nvSpPr>
        <p:spPr>
          <a:xfrm>
            <a:off x="0" y="37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66C-23DB-4A7A-B657-4265F668558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조건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) a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와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b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를 비교하여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true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와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false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에 따라 변수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x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에 값을 저장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x = ( a &lt; b )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 ?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 5 : (a+2);</a:t>
            </a: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만약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a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b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보다 작으면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true) x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는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5(x=5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이고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그렇지 않으면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false) x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는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a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에 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2(x=a+2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를 더한다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앞에 있는 예의 문장을 분기문을 사용하여 일반식으로 표현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if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 ( a &lt; b ){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   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x = 5;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}else{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   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x = a + 2;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   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}  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Rectangle 19"/>
          <p:cNvSpPr/>
          <p:nvPr/>
        </p:nvSpPr>
        <p:spPr>
          <a:xfrm>
            <a:off x="0" y="37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9040-03B2-486B-9F68-C0448059304B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실행문과 설명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98320" y="1657440"/>
            <a:ext cx="7979040" cy="44830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CommentPro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변수 선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sum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점수 합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average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점수 평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*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점수 합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300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을 대입하여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로 나누어 평균을 구한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*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*/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um = 30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//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합에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300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대입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verage = 300 / 4 ; //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합을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로 나눈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결과 출력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점수 합</a:t>
            </a: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" + sum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점수 평균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" + average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26" descr="2-4"/>
          <p:cNvPicPr/>
          <p:nvPr/>
        </p:nvPicPr>
        <p:blipFill>
          <a:blip r:embed="rId1"/>
          <a:stretch/>
        </p:blipFill>
        <p:spPr>
          <a:xfrm>
            <a:off x="5983200" y="4327560"/>
            <a:ext cx="2246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0003-32B2-40F6-9A5F-DB65FF16D69E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조건 연산자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37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598320" y="1660680"/>
            <a:ext cx="7979040" cy="31114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Condi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a = 5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b = 1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x, y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 = (a&lt;b) ? 5 : (a+2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 = (a&gt;b) ? 5 : (a+2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x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의 결과는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" + x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y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의 결과는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" + y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14" name="Picture 8" descr="CondiOper"/>
          <p:cNvPicPr/>
          <p:nvPr/>
        </p:nvPicPr>
        <p:blipFill>
          <a:blip r:embed="rId1"/>
          <a:stretch/>
        </p:blipFill>
        <p:spPr>
          <a:xfrm>
            <a:off x="1670040" y="4414680"/>
            <a:ext cx="6018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4431-4DA7-43C3-B549-6232149C9A82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제어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17" name="Rectangle 18"/>
          <p:cNvSpPr/>
          <p:nvPr/>
        </p:nvSpPr>
        <p:spPr>
          <a:xfrm>
            <a:off x="685800" y="1676520"/>
            <a:ext cx="7924680" cy="46242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조건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  <a:ea typeface="굴림"/>
              </a:rPr>
              <a:t>If-else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중첩된 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  <a:ea typeface="굴림"/>
              </a:rPr>
              <a:t>if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  <a:ea typeface="굴림"/>
              </a:rPr>
              <a:t>Switch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</a:rPr>
              <a:t>2.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반복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  <a:ea typeface="굴림"/>
              </a:rPr>
              <a:t>for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  <a:ea typeface="굴림"/>
              </a:rPr>
              <a:t>while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  <a:ea typeface="굴림"/>
              </a:rPr>
              <a:t>do-while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문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</a:rPr>
              <a:t>3.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분기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  <a:ea typeface="굴림"/>
              </a:rPr>
              <a:t>break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굴림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  <a:ea typeface="굴림"/>
              </a:rPr>
              <a:t>continue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  <a:ea typeface="굴림"/>
              </a:rPr>
              <a:t>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슬라이드 번호 개체 틀 6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E82E-BD0D-4476-BDAC-2DC178923A78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제어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37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프로그램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일을 수행하기 위하여 실행 가능한 여러 문장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(statement)</a:t>
            </a: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들이 모여 구성된 것</a:t>
            </a:r>
            <a:endParaRPr b="0" lang="en-US" sz="1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굴림"/>
              </a:rPr>
              <a:t>명령문이 작성된 순서에 따라 순차적으로 수행하거나 실행 순서가 바꿔야 하는 경우가 있다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프로그램의 순차적인 실행 순서를 변경시키는 것을 제어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(Control)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라고 하며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40458c"/>
                </a:solidFill>
                <a:latin typeface="굴림"/>
              </a:rPr>
              <a:t>제어란 이런 프로그램의 흐름을 통제하는 것이다</a:t>
            </a:r>
            <a:r>
              <a:rPr b="0" lang="en-US" sz="20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21" name="Rectangle 23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000160" y="4167360"/>
          <a:ext cx="6310440" cy="2315880"/>
        </p:xfrm>
        <a:graphic>
          <a:graphicData uri="http://schemas.openxmlformats.org/drawingml/2006/table">
            <a:tbl>
              <a:tblPr/>
              <a:tblGrid>
                <a:gridCol w="1135080"/>
                <a:gridCol w="2151000"/>
                <a:gridCol w="3024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종류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명령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의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조건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i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switch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반복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whi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f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do-whil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분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break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continu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Rectangle 101"/>
          <p:cNvSpPr/>
          <p:nvPr/>
        </p:nvSpPr>
        <p:spPr>
          <a:xfrm>
            <a:off x="0" y="43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4" name="Group 109"/>
          <p:cNvGrpSpPr/>
          <p:nvPr/>
        </p:nvGrpSpPr>
        <p:grpSpPr>
          <a:xfrm>
            <a:off x="5286240" y="4406760"/>
            <a:ext cx="2108160" cy="2077920"/>
            <a:chOff x="5286240" y="4406760"/>
            <a:chExt cx="2108160" cy="2077920"/>
          </a:xfrm>
        </p:grpSpPr>
        <p:graphicFrame>
          <p:nvGraphicFramePr>
            <p:cNvPr id="525" name="Object 104"/>
            <p:cNvGraphicFramePr/>
            <p:nvPr/>
          </p:nvGraphicFramePr>
          <p:xfrm>
            <a:off x="5286240" y="4406760"/>
            <a:ext cx="1319040" cy="68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6" name="Object 10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86240" y="4406760"/>
                      <a:ext cx="1319040" cy="68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7" name="Object 106"/>
            <p:cNvGraphicFramePr/>
            <p:nvPr/>
          </p:nvGraphicFramePr>
          <p:xfrm>
            <a:off x="5449680" y="5087520"/>
            <a:ext cx="1944720" cy="708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8" name="Object 10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49680" y="5087520"/>
                      <a:ext cx="1944720" cy="70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Object 108"/>
            <p:cNvGraphicFramePr/>
            <p:nvPr/>
          </p:nvGraphicFramePr>
          <p:xfrm>
            <a:off x="5286240" y="5908320"/>
            <a:ext cx="115704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0" name="Object 10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86240" y="5908320"/>
                      <a:ext cx="11570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슬라이드 번호 개체 틀 6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3DF-EFB8-4915-9ED4-E542408B78F2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조건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37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If-else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문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Rectangle 27"/>
          <p:cNvSpPr/>
          <p:nvPr/>
        </p:nvSpPr>
        <p:spPr>
          <a:xfrm>
            <a:off x="0" y="43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36" name="Group 32"/>
          <p:cNvGrpSpPr/>
          <p:nvPr/>
        </p:nvGrpSpPr>
        <p:grpSpPr>
          <a:xfrm>
            <a:off x="5726160" y="2463840"/>
            <a:ext cx="2440080" cy="2262240"/>
            <a:chOff x="5726160" y="2463840"/>
            <a:chExt cx="2440080" cy="2262240"/>
          </a:xfrm>
        </p:grpSpPr>
        <p:sp>
          <p:nvSpPr>
            <p:cNvPr id="537" name="Line 33"/>
            <p:cNvSpPr/>
            <p:nvPr/>
          </p:nvSpPr>
          <p:spPr>
            <a:xfrm>
              <a:off x="6329520" y="24638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5726160" y="2698920"/>
              <a:ext cx="1282680" cy="596880"/>
            </a:xfrm>
            <a:prstGeom prst="diamond">
              <a:avLst/>
            </a:prstGeom>
            <a:solidFill>
              <a:srgbClr val="cfdb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9" name="Rectangle 35"/>
            <p:cNvSpPr/>
            <p:nvPr/>
          </p:nvSpPr>
          <p:spPr>
            <a:xfrm>
              <a:off x="6024240" y="278316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조건식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0" name="Rectangle 36"/>
            <p:cNvSpPr/>
            <p:nvPr/>
          </p:nvSpPr>
          <p:spPr>
            <a:xfrm>
              <a:off x="5978160" y="3546720"/>
              <a:ext cx="7776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1" name="Line 37"/>
            <p:cNvSpPr/>
            <p:nvPr/>
          </p:nvSpPr>
          <p:spPr>
            <a:xfrm>
              <a:off x="6329520" y="3302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Line 38"/>
            <p:cNvSpPr/>
            <p:nvPr/>
          </p:nvSpPr>
          <p:spPr>
            <a:xfrm>
              <a:off x="7015320" y="2997360"/>
              <a:ext cx="4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3" name="Line 39"/>
            <p:cNvSpPr/>
            <p:nvPr/>
          </p:nvSpPr>
          <p:spPr>
            <a:xfrm>
              <a:off x="7499520" y="2997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4" name="Line 40"/>
            <p:cNvSpPr/>
            <p:nvPr/>
          </p:nvSpPr>
          <p:spPr>
            <a:xfrm>
              <a:off x="6329520" y="3911760"/>
              <a:ext cx="0" cy="81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5" name="Line 41"/>
            <p:cNvSpPr/>
            <p:nvPr/>
          </p:nvSpPr>
          <p:spPr>
            <a:xfrm flipV="1">
              <a:off x="7499520" y="392292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6" name="Line 42"/>
            <p:cNvSpPr/>
            <p:nvPr/>
          </p:nvSpPr>
          <p:spPr>
            <a:xfrm flipH="1" flipV="1">
              <a:off x="6329520" y="4381560"/>
              <a:ext cx="11700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7" name="Rectangle 43"/>
            <p:cNvSpPr/>
            <p:nvPr/>
          </p:nvSpPr>
          <p:spPr>
            <a:xfrm>
              <a:off x="6431040" y="3202200"/>
              <a:ext cx="578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r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8" name="Rectangle 44"/>
            <p:cNvSpPr/>
            <p:nvPr/>
          </p:nvSpPr>
          <p:spPr>
            <a:xfrm>
              <a:off x="7499520" y="320220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als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9" name="Rectangle 45"/>
            <p:cNvSpPr/>
            <p:nvPr/>
          </p:nvSpPr>
          <p:spPr>
            <a:xfrm>
              <a:off x="7116120" y="3546720"/>
              <a:ext cx="7776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50" name="Rectangle 46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Rectangle 66"/>
          <p:cNvSpPr/>
          <p:nvPr/>
        </p:nvSpPr>
        <p:spPr>
          <a:xfrm>
            <a:off x="0" y="38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Rectangle 68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Rectangle 88"/>
          <p:cNvSpPr/>
          <p:nvPr/>
        </p:nvSpPr>
        <p:spPr>
          <a:xfrm>
            <a:off x="0" y="38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54" name="Group 96"/>
          <p:cNvGrpSpPr/>
          <p:nvPr/>
        </p:nvGrpSpPr>
        <p:grpSpPr>
          <a:xfrm>
            <a:off x="1019160" y="2470320"/>
            <a:ext cx="4222800" cy="2027160"/>
            <a:chOff x="1019160" y="2470320"/>
            <a:chExt cx="4222800" cy="2027160"/>
          </a:xfrm>
        </p:grpSpPr>
        <p:sp>
          <p:nvSpPr>
            <p:cNvPr id="555" name="Rectangle 91"/>
            <p:cNvSpPr/>
            <p:nvPr/>
          </p:nvSpPr>
          <p:spPr>
            <a:xfrm>
              <a:off x="1019160" y="2470320"/>
              <a:ext cx="4222800" cy="202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40458c"/>
                  </a:solidFill>
                  <a:latin typeface="Tahoma"/>
                </a:rPr>
                <a:t>일반 형식 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: if (</a:t>
              </a:r>
              <a:r>
                <a:rPr b="1" lang="ko-KR" sz="2000" spc="-1" strike="noStrike">
                  <a:solidFill>
                    <a:srgbClr val="40458c"/>
                  </a:solidFill>
                  <a:latin typeface="Tahoma"/>
                </a:rPr>
                <a:t>조건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) {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                     </a:t>
              </a:r>
              <a:r>
                <a:rPr b="1" lang="ko-KR" sz="2000" spc="-1" strike="noStrike">
                  <a:solidFill>
                    <a:srgbClr val="40458c"/>
                  </a:solidFill>
                  <a:latin typeface="Tahoma"/>
                </a:rPr>
                <a:t>실행문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                 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} else {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                     </a:t>
              </a:r>
              <a:r>
                <a:rPr b="1" lang="ko-KR" sz="2000" spc="-1" strike="noStrike">
                  <a:solidFill>
                    <a:srgbClr val="40458c"/>
                  </a:solidFill>
                  <a:latin typeface="Tahoma"/>
                </a:rPr>
                <a:t>실행문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                  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}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6" name="Rectangle 92"/>
            <p:cNvSpPr/>
            <p:nvPr/>
          </p:nvSpPr>
          <p:spPr>
            <a:xfrm>
              <a:off x="2241720" y="3306600"/>
              <a:ext cx="1830240" cy="6573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7" name="Text Box 94"/>
            <p:cNvSpPr/>
            <p:nvPr/>
          </p:nvSpPr>
          <p:spPr>
            <a:xfrm>
              <a:off x="4213080" y="3597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ff"/>
                  </a:solidFill>
                  <a:latin typeface="Tahoma"/>
                </a:rPr>
                <a:t>선택절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6C57-AD3C-4F68-8A43-C868EA018928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조건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631800" y="1662120"/>
            <a:ext cx="7978680" cy="31114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IfControl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x=5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( x &gt; 25) 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x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값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"+x+")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이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5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보다 크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"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else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x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값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"+x+")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이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5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보다 작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"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//③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61" name="Picture 9" descr="IfControl"/>
          <p:cNvPicPr/>
          <p:nvPr/>
        </p:nvPicPr>
        <p:blipFill>
          <a:blip r:embed="rId1"/>
          <a:stretch/>
        </p:blipFill>
        <p:spPr>
          <a:xfrm>
            <a:off x="1693800" y="4975200"/>
            <a:ext cx="59706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21E9-D336-40E8-94CB-331820EEA339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중첩된 </a:t>
            </a: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if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579600" y="1928880"/>
            <a:ext cx="3636720" cy="40082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Tahoma"/>
              </a:rPr>
              <a:t>일반 형식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(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조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(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조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(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조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;}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;}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;}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;}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65" name="Group 13"/>
          <p:cNvGrpSpPr/>
          <p:nvPr/>
        </p:nvGrpSpPr>
        <p:grpSpPr>
          <a:xfrm>
            <a:off x="4073400" y="1790640"/>
            <a:ext cx="4849560" cy="4120920"/>
            <a:chOff x="4073400" y="1790640"/>
            <a:chExt cx="4849560" cy="4120920"/>
          </a:xfrm>
        </p:grpSpPr>
        <p:sp>
          <p:nvSpPr>
            <p:cNvPr id="566" name="Line 14"/>
            <p:cNvSpPr/>
            <p:nvPr/>
          </p:nvSpPr>
          <p:spPr>
            <a:xfrm>
              <a:off x="4648680" y="1790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7" name="AutoShape 15"/>
            <p:cNvSpPr/>
            <p:nvPr/>
          </p:nvSpPr>
          <p:spPr>
            <a:xfrm>
              <a:off x="4073400" y="2025360"/>
              <a:ext cx="1222920" cy="596880"/>
            </a:xfrm>
            <a:prstGeom prst="diamond">
              <a:avLst/>
            </a:prstGeom>
            <a:solidFill>
              <a:srgbClr val="cfdb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8" name="Rectangle 16"/>
            <p:cNvSpPr/>
            <p:nvPr/>
          </p:nvSpPr>
          <p:spPr>
            <a:xfrm>
              <a:off x="4292640" y="2109600"/>
              <a:ext cx="64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조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9" name="Rectangle 17"/>
            <p:cNvSpPr/>
            <p:nvPr/>
          </p:nvSpPr>
          <p:spPr>
            <a:xfrm>
              <a:off x="4318560" y="2873160"/>
              <a:ext cx="7776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18"/>
            <p:cNvSpPr/>
            <p:nvPr/>
          </p:nvSpPr>
          <p:spPr>
            <a:xfrm>
              <a:off x="4648680" y="2628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1" name="Line 19"/>
            <p:cNvSpPr/>
            <p:nvPr/>
          </p:nvSpPr>
          <p:spPr>
            <a:xfrm>
              <a:off x="5296320" y="2323800"/>
              <a:ext cx="62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2" name="Line 20"/>
            <p:cNvSpPr/>
            <p:nvPr/>
          </p:nvSpPr>
          <p:spPr>
            <a:xfrm>
              <a:off x="5924520" y="23238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3" name="Line 21"/>
            <p:cNvSpPr/>
            <p:nvPr/>
          </p:nvSpPr>
          <p:spPr>
            <a:xfrm>
              <a:off x="4648680" y="3238200"/>
              <a:ext cx="0" cy="267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4" name="Line 22"/>
            <p:cNvSpPr/>
            <p:nvPr/>
          </p:nvSpPr>
          <p:spPr>
            <a:xfrm flipH="1" flipV="1">
              <a:off x="4648320" y="5670000"/>
              <a:ext cx="3696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5" name="Rectangle 23"/>
            <p:cNvSpPr/>
            <p:nvPr/>
          </p:nvSpPr>
          <p:spPr>
            <a:xfrm>
              <a:off x="5924520" y="2438280"/>
              <a:ext cx="578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r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6" name="Rectangle 24"/>
            <p:cNvSpPr/>
            <p:nvPr/>
          </p:nvSpPr>
          <p:spPr>
            <a:xfrm>
              <a:off x="4694040" y="25286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als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7" name="Rectangle 25"/>
            <p:cNvSpPr/>
            <p:nvPr/>
          </p:nvSpPr>
          <p:spPr>
            <a:xfrm>
              <a:off x="7977600" y="4490640"/>
              <a:ext cx="7776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8" name="AutoShape 26"/>
            <p:cNvSpPr/>
            <p:nvPr/>
          </p:nvSpPr>
          <p:spPr>
            <a:xfrm>
              <a:off x="5329440" y="2811240"/>
              <a:ext cx="1222920" cy="596880"/>
            </a:xfrm>
            <a:prstGeom prst="diamond">
              <a:avLst/>
            </a:prstGeom>
            <a:solidFill>
              <a:srgbClr val="cfdb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9" name="Rectangle 27"/>
            <p:cNvSpPr/>
            <p:nvPr/>
          </p:nvSpPr>
          <p:spPr>
            <a:xfrm>
              <a:off x="5549040" y="2895480"/>
              <a:ext cx="64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조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0" name="Rectangle 28"/>
            <p:cNvSpPr/>
            <p:nvPr/>
          </p:nvSpPr>
          <p:spPr>
            <a:xfrm>
              <a:off x="5574240" y="3659040"/>
              <a:ext cx="7776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1" name="Line 29"/>
            <p:cNvSpPr/>
            <p:nvPr/>
          </p:nvSpPr>
          <p:spPr>
            <a:xfrm>
              <a:off x="5904720" y="3414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2" name="Line 30"/>
            <p:cNvSpPr/>
            <p:nvPr/>
          </p:nvSpPr>
          <p:spPr>
            <a:xfrm>
              <a:off x="6558840" y="3109680"/>
              <a:ext cx="73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3" name="Line 31"/>
            <p:cNvSpPr/>
            <p:nvPr/>
          </p:nvSpPr>
          <p:spPr>
            <a:xfrm>
              <a:off x="7295760" y="3109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4" name="Line 32"/>
            <p:cNvSpPr/>
            <p:nvPr/>
          </p:nvSpPr>
          <p:spPr>
            <a:xfrm>
              <a:off x="5904720" y="4024080"/>
              <a:ext cx="0" cy="165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Rectangle 33"/>
            <p:cNvSpPr/>
            <p:nvPr/>
          </p:nvSpPr>
          <p:spPr>
            <a:xfrm>
              <a:off x="7295760" y="3224160"/>
              <a:ext cx="578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r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6" name="Rectangle 34"/>
            <p:cNvSpPr/>
            <p:nvPr/>
          </p:nvSpPr>
          <p:spPr>
            <a:xfrm>
              <a:off x="5925600" y="329220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als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7" name="Line 35"/>
            <p:cNvSpPr/>
            <p:nvPr/>
          </p:nvSpPr>
          <p:spPr>
            <a:xfrm>
              <a:off x="8344800" y="4867200"/>
              <a:ext cx="0" cy="81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8" name="AutoShape 36"/>
            <p:cNvSpPr/>
            <p:nvPr/>
          </p:nvSpPr>
          <p:spPr>
            <a:xfrm>
              <a:off x="6654240" y="3643200"/>
              <a:ext cx="1222920" cy="596880"/>
            </a:xfrm>
            <a:prstGeom prst="diamond">
              <a:avLst/>
            </a:prstGeom>
            <a:solidFill>
              <a:srgbClr val="cfdb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9" name="Rectangle 37"/>
            <p:cNvSpPr/>
            <p:nvPr/>
          </p:nvSpPr>
          <p:spPr>
            <a:xfrm>
              <a:off x="6874200" y="3727080"/>
              <a:ext cx="64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조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0" name="Rectangle 38"/>
            <p:cNvSpPr/>
            <p:nvPr/>
          </p:nvSpPr>
          <p:spPr>
            <a:xfrm>
              <a:off x="6897600" y="4490640"/>
              <a:ext cx="7776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1" name="Line 39"/>
            <p:cNvSpPr/>
            <p:nvPr/>
          </p:nvSpPr>
          <p:spPr>
            <a:xfrm>
              <a:off x="7229160" y="4246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2" name="Line 40"/>
            <p:cNvSpPr/>
            <p:nvPr/>
          </p:nvSpPr>
          <p:spPr>
            <a:xfrm>
              <a:off x="7882920" y="3941640"/>
              <a:ext cx="46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Line 41"/>
            <p:cNvSpPr/>
            <p:nvPr/>
          </p:nvSpPr>
          <p:spPr>
            <a:xfrm>
              <a:off x="8344800" y="3941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4" name="Line 42"/>
            <p:cNvSpPr/>
            <p:nvPr/>
          </p:nvSpPr>
          <p:spPr>
            <a:xfrm>
              <a:off x="7229160" y="4856040"/>
              <a:ext cx="0" cy="81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5" name="Rectangle 43"/>
            <p:cNvSpPr/>
            <p:nvPr/>
          </p:nvSpPr>
          <p:spPr>
            <a:xfrm>
              <a:off x="8344800" y="3941640"/>
              <a:ext cx="578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ru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7248960" y="412416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alse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51C-6950-40CB-B001-5421B2254EA6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중첩된 </a:t>
            </a: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if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99" name="Text Box 36"/>
          <p:cNvSpPr/>
          <p:nvPr/>
        </p:nvSpPr>
        <p:spPr>
          <a:xfrm>
            <a:off x="631800" y="1662120"/>
            <a:ext cx="7978680" cy="47574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IfIfControl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x=5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y=6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z=7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( y &gt; x) 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(y &lt; z )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②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y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는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보다 크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y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는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보다 작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else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//③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y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는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보다 크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y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는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보다 크다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else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//④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y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는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보다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0C1D-6402-4627-9166-B207E9D51BA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switch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579600" y="2575080"/>
            <a:ext cx="3867120" cy="35686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Tahoma"/>
              </a:rPr>
              <a:t>일반 형식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witch (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표현식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{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결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 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eak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결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 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eak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fault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3" name="Group 9"/>
          <p:cNvGrpSpPr/>
          <p:nvPr/>
        </p:nvGrpSpPr>
        <p:grpSpPr>
          <a:xfrm>
            <a:off x="3595680" y="1660680"/>
            <a:ext cx="4433400" cy="4367160"/>
            <a:chOff x="3595680" y="1660680"/>
            <a:chExt cx="4433400" cy="4367160"/>
          </a:xfrm>
        </p:grpSpPr>
        <p:sp>
          <p:nvSpPr>
            <p:cNvPr id="604" name="Line 10"/>
            <p:cNvSpPr/>
            <p:nvPr/>
          </p:nvSpPr>
          <p:spPr>
            <a:xfrm>
              <a:off x="3595680" y="2013120"/>
              <a:ext cx="28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5" name="AutoShape 11"/>
            <p:cNvSpPr/>
            <p:nvPr/>
          </p:nvSpPr>
          <p:spPr>
            <a:xfrm>
              <a:off x="3881160" y="1660680"/>
              <a:ext cx="1130040" cy="672840"/>
            </a:xfrm>
            <a:prstGeom prst="diamond">
              <a:avLst/>
            </a:prstGeom>
            <a:solidFill>
              <a:srgbClr val="cfdb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6" name="Rectangle 12"/>
            <p:cNvSpPr/>
            <p:nvPr/>
          </p:nvSpPr>
          <p:spPr>
            <a:xfrm>
              <a:off x="4059000" y="1782720"/>
              <a:ext cx="95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표현식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7" name="Rectangle 13"/>
            <p:cNvSpPr/>
            <p:nvPr/>
          </p:nvSpPr>
          <p:spPr>
            <a:xfrm>
              <a:off x="6602040" y="2773440"/>
              <a:ext cx="1196640" cy="36684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8" name="Line 14"/>
            <p:cNvSpPr/>
            <p:nvPr/>
          </p:nvSpPr>
          <p:spPr>
            <a:xfrm>
              <a:off x="5036760" y="2035080"/>
              <a:ext cx="28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9" name="Rectangle 15"/>
            <p:cNvSpPr/>
            <p:nvPr/>
          </p:nvSpPr>
          <p:spPr>
            <a:xfrm>
              <a:off x="6602040" y="3716280"/>
              <a:ext cx="1196640" cy="36684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0" name="Rectangle 16"/>
            <p:cNvSpPr/>
            <p:nvPr/>
          </p:nvSpPr>
          <p:spPr>
            <a:xfrm>
              <a:off x="6692760" y="4822920"/>
              <a:ext cx="1015200" cy="36684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n 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1" name="Rectangle 17"/>
            <p:cNvSpPr/>
            <p:nvPr/>
          </p:nvSpPr>
          <p:spPr>
            <a:xfrm>
              <a:off x="6602040" y="1859040"/>
              <a:ext cx="1196640" cy="36684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Line 18"/>
            <p:cNvSpPr/>
            <p:nvPr/>
          </p:nvSpPr>
          <p:spPr>
            <a:xfrm>
              <a:off x="5332320" y="2035080"/>
              <a:ext cx="128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3" name="Line 19"/>
            <p:cNvSpPr/>
            <p:nvPr/>
          </p:nvSpPr>
          <p:spPr>
            <a:xfrm>
              <a:off x="5332320" y="2949480"/>
              <a:ext cx="128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4" name="Line 20"/>
            <p:cNvSpPr/>
            <p:nvPr/>
          </p:nvSpPr>
          <p:spPr>
            <a:xfrm>
              <a:off x="5332320" y="3892680"/>
              <a:ext cx="128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5" name="Line 21"/>
            <p:cNvSpPr/>
            <p:nvPr/>
          </p:nvSpPr>
          <p:spPr>
            <a:xfrm>
              <a:off x="5337000" y="5006880"/>
              <a:ext cx="127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6" name="Rectangle 22"/>
            <p:cNvSpPr/>
            <p:nvPr/>
          </p:nvSpPr>
          <p:spPr>
            <a:xfrm>
              <a:off x="6693120" y="413712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: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7" name="Line 23"/>
            <p:cNvSpPr/>
            <p:nvPr/>
          </p:nvSpPr>
          <p:spPr>
            <a:xfrm>
              <a:off x="7799040" y="2065320"/>
              <a:ext cx="22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8" name="Line 24"/>
            <p:cNvSpPr/>
            <p:nvPr/>
          </p:nvSpPr>
          <p:spPr>
            <a:xfrm>
              <a:off x="7799040" y="2979720"/>
              <a:ext cx="22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9" name="Line 25"/>
            <p:cNvSpPr/>
            <p:nvPr/>
          </p:nvSpPr>
          <p:spPr>
            <a:xfrm>
              <a:off x="7799040" y="3932280"/>
              <a:ext cx="22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0" name="Line 26"/>
            <p:cNvSpPr/>
            <p:nvPr/>
          </p:nvSpPr>
          <p:spPr>
            <a:xfrm>
              <a:off x="7799040" y="5037120"/>
              <a:ext cx="22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1" name="Line 27"/>
            <p:cNvSpPr/>
            <p:nvPr/>
          </p:nvSpPr>
          <p:spPr>
            <a:xfrm>
              <a:off x="8027640" y="2065320"/>
              <a:ext cx="1440" cy="39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2" name="Line 28"/>
            <p:cNvSpPr/>
            <p:nvPr/>
          </p:nvSpPr>
          <p:spPr>
            <a:xfrm>
              <a:off x="5322600" y="2035080"/>
              <a:ext cx="144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3" name="Rectangle 29"/>
            <p:cNvSpPr/>
            <p:nvPr/>
          </p:nvSpPr>
          <p:spPr>
            <a:xfrm>
              <a:off x="5398920" y="4594320"/>
              <a:ext cx="99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defaul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4" name="Rectangle 30"/>
            <p:cNvSpPr/>
            <p:nvPr/>
          </p:nvSpPr>
          <p:spPr>
            <a:xfrm>
              <a:off x="5381280" y="1698480"/>
              <a:ext cx="1240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se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결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5" name="Rectangle 31"/>
            <p:cNvSpPr/>
            <p:nvPr/>
          </p:nvSpPr>
          <p:spPr>
            <a:xfrm>
              <a:off x="5416200" y="2536920"/>
              <a:ext cx="1385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se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결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6" name="Rectangle 32"/>
            <p:cNvSpPr/>
            <p:nvPr/>
          </p:nvSpPr>
          <p:spPr>
            <a:xfrm>
              <a:off x="5416200" y="3532320"/>
              <a:ext cx="1385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ase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결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6011-B1FB-4033-8572-18643A65BF0D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switch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69840" y="1773360"/>
            <a:ext cx="7553520" cy="4552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witch (n)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{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s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1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s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2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stem.out.println(" N =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1, 2")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reak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s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3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stem.out.println(" N =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3")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reak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s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6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stem.out.println(" N =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6")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fault 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stem.out.println(" </a:t>
            </a:r>
            <a:r>
              <a:rPr b="0" lang="ko-KR" sz="2000" spc="-1" strike="noStrike">
                <a:solidFill>
                  <a:srgbClr val="40458c"/>
                </a:solidFill>
                <a:latin typeface="Tahoma"/>
              </a:rPr>
              <a:t>필요 없는 숫자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")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52D2-49C2-4348-89FA-B31AB067F0AD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switch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631800" y="1209600"/>
            <a:ext cx="7891560" cy="569124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mport java.io.*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ublic class SwitchOper {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ublic static void main(String[] args) throws Exception {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nt jumsu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ufferedReader inbr = new BufferedReader(new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nputStreamReader(System.in)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당신의 점수를 입력하세요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! : "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jumsu = Integer.parseInt(inbr.readLine()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nt h = jumsu/10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                    //①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witch(h) {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se 10: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se 9: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당신의 학점은</a:t>
            </a: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입니다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")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②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reak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se 8: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당신의 학점은</a:t>
            </a: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입니다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");   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break;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se 7: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당신의 학점은</a:t>
            </a: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입니다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");    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reak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se 6: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당신의 학점은</a:t>
            </a: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입니다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");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reak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efault: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      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③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당신의 학점은</a:t>
            </a: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입니다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"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}  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}   }  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5679-BB52-4719-9FCA-D6C7D3CBEFE0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기본 자료형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자바 프로그램에서 자료의 최소 단위는 입력하는 자료에 맞게 여러 형태로 구분하여 사용하며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이것을 기본 자료형이라 한다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.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 </a:t>
            </a:r>
            <a:r>
              <a:rPr b="1" lang="en-US" sz="3200" spc="-1" strike="noStrike">
                <a:solidFill>
                  <a:srgbClr val="40458c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2577240" y="3651120"/>
            <a:ext cx="5898240" cy="2836800"/>
            <a:chOff x="2577240" y="3651120"/>
            <a:chExt cx="5898240" cy="2836800"/>
          </a:xfrm>
        </p:grpSpPr>
        <p:sp>
          <p:nvSpPr>
            <p:cNvPr id="261" name="Rectangle 6"/>
            <p:cNvSpPr/>
            <p:nvPr/>
          </p:nvSpPr>
          <p:spPr>
            <a:xfrm>
              <a:off x="3769920" y="3651120"/>
              <a:ext cx="3485880" cy="25236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t sum;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3430080" y="4126320"/>
              <a:ext cx="0" cy="19026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4742280" y="4126320"/>
              <a:ext cx="0" cy="190260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3761280" y="6028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Tahoma"/>
                </a:rPr>
                <a:t>메모리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3430080" y="4295160"/>
              <a:ext cx="131220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Line 11"/>
            <p:cNvSpPr/>
            <p:nvPr/>
          </p:nvSpPr>
          <p:spPr>
            <a:xfrm>
              <a:off x="3421080" y="441288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7" name="Line 12"/>
            <p:cNvSpPr/>
            <p:nvPr/>
          </p:nvSpPr>
          <p:spPr>
            <a:xfrm>
              <a:off x="3430080" y="4518360"/>
              <a:ext cx="131220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8" name="Line 13"/>
            <p:cNvSpPr/>
            <p:nvPr/>
          </p:nvSpPr>
          <p:spPr>
            <a:xfrm>
              <a:off x="3430080" y="4642560"/>
              <a:ext cx="131220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9" name="Line 14"/>
            <p:cNvSpPr/>
            <p:nvPr/>
          </p:nvSpPr>
          <p:spPr>
            <a:xfrm>
              <a:off x="3421080" y="474804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0" name="Line 15"/>
            <p:cNvSpPr/>
            <p:nvPr/>
          </p:nvSpPr>
          <p:spPr>
            <a:xfrm>
              <a:off x="3421080" y="485280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Line 16"/>
            <p:cNvSpPr/>
            <p:nvPr/>
          </p:nvSpPr>
          <p:spPr>
            <a:xfrm>
              <a:off x="3430080" y="4964400"/>
              <a:ext cx="131220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2" name="Line 17"/>
            <p:cNvSpPr/>
            <p:nvPr/>
          </p:nvSpPr>
          <p:spPr>
            <a:xfrm>
              <a:off x="3421080" y="508284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3" name="Line 18"/>
            <p:cNvSpPr/>
            <p:nvPr/>
          </p:nvSpPr>
          <p:spPr>
            <a:xfrm>
              <a:off x="3421080" y="521784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Line 19"/>
            <p:cNvSpPr/>
            <p:nvPr/>
          </p:nvSpPr>
          <p:spPr>
            <a:xfrm>
              <a:off x="3421080" y="535788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3421080" y="549828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3421080" y="563724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3421080" y="5777280"/>
              <a:ext cx="131256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896200" y="4330800"/>
              <a:ext cx="7380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9" name="Text Box 24"/>
            <p:cNvSpPr/>
            <p:nvPr/>
          </p:nvSpPr>
          <p:spPr>
            <a:xfrm>
              <a:off x="2577240" y="4331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바이트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5029200" y="4964400"/>
              <a:ext cx="12312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1" name="AutoShape 26"/>
            <p:cNvSpPr/>
            <p:nvPr/>
          </p:nvSpPr>
          <p:spPr>
            <a:xfrm>
              <a:off x="4742280" y="4748040"/>
              <a:ext cx="286560" cy="432000"/>
            </a:xfrm>
            <a:custGeom>
              <a:avLst/>
              <a:gdLst>
                <a:gd name="textAreaLeft" fmla="*/ 0 w 286560"/>
                <a:gd name="textAreaRight" fmla="*/ 201240 w 286560"/>
                <a:gd name="textAreaTop" fmla="*/ 18000 h 432000"/>
                <a:gd name="textAreaBottom" fmla="*/ 4140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2" name="Text Box 27"/>
            <p:cNvSpPr/>
            <p:nvPr/>
          </p:nvSpPr>
          <p:spPr>
            <a:xfrm>
              <a:off x="5107680" y="4972320"/>
              <a:ext cx="91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 </a:t>
              </a:r>
              <a:r>
                <a:rPr b="1" lang="ko-KR" sz="2000" spc="-1" strike="noStrike">
                  <a:solidFill>
                    <a:srgbClr val="000000"/>
                  </a:solidFill>
                  <a:latin typeface="Tahoma"/>
                </a:rPr>
                <a:t>바이트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83" name="Picture 28" descr="MCj03797530000[1]"/>
            <p:cNvPicPr/>
            <p:nvPr/>
          </p:nvPicPr>
          <p:blipFill>
            <a:blip r:embed="rId2"/>
            <a:stretch/>
          </p:blipFill>
          <p:spPr>
            <a:xfrm>
              <a:off x="6464520" y="4412880"/>
              <a:ext cx="2010960" cy="9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29"/>
            <p:cNvSpPr/>
            <p:nvPr/>
          </p:nvSpPr>
          <p:spPr>
            <a:xfrm>
              <a:off x="6516000" y="4852800"/>
              <a:ext cx="8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B59A-78C8-4E61-A993-F8E1BCBDA1B3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반복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for 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문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명령문들을 반복적으로 수행하는 명령문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정해진 횟수만큼 일정한 문들을 반복하며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조건 내에서 한꺼번에 여러 일을 하기 때문에 편리하게 사용할 수 있다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969840" y="4208400"/>
            <a:ext cx="5194440" cy="1636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Tahoma"/>
              </a:rPr>
              <a:t>일반 형식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(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초기화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조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증감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37" name="Group 6"/>
          <p:cNvGrpSpPr/>
          <p:nvPr/>
        </p:nvGrpSpPr>
        <p:grpSpPr>
          <a:xfrm>
            <a:off x="6342120" y="3789360"/>
            <a:ext cx="1985040" cy="2690640"/>
            <a:chOff x="6342120" y="3789360"/>
            <a:chExt cx="1985040" cy="2690640"/>
          </a:xfrm>
        </p:grpSpPr>
        <p:sp>
          <p:nvSpPr>
            <p:cNvPr id="638" name="Line 7"/>
            <p:cNvSpPr/>
            <p:nvPr/>
          </p:nvSpPr>
          <p:spPr>
            <a:xfrm>
              <a:off x="7103880" y="4270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AutoShape 8"/>
            <p:cNvSpPr/>
            <p:nvPr/>
          </p:nvSpPr>
          <p:spPr>
            <a:xfrm>
              <a:off x="6500880" y="4505400"/>
              <a:ext cx="1282680" cy="596880"/>
            </a:xfrm>
            <a:prstGeom prst="diamond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0" name="Rectangle 9"/>
            <p:cNvSpPr/>
            <p:nvPr/>
          </p:nvSpPr>
          <p:spPr>
            <a:xfrm>
              <a:off x="6798600" y="461952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조건식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1" name="Rectangle 10"/>
            <p:cNvSpPr/>
            <p:nvPr/>
          </p:nvSpPr>
          <p:spPr>
            <a:xfrm>
              <a:off x="6793920" y="5313240"/>
              <a:ext cx="59652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2" name="Line 11"/>
            <p:cNvSpPr/>
            <p:nvPr/>
          </p:nvSpPr>
          <p:spPr>
            <a:xfrm>
              <a:off x="7103880" y="5108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Line 12"/>
            <p:cNvSpPr/>
            <p:nvPr/>
          </p:nvSpPr>
          <p:spPr>
            <a:xfrm>
              <a:off x="7789680" y="48038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Line 13"/>
            <p:cNvSpPr/>
            <p:nvPr/>
          </p:nvSpPr>
          <p:spPr>
            <a:xfrm>
              <a:off x="7942320" y="480384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Line 14"/>
            <p:cNvSpPr/>
            <p:nvPr/>
          </p:nvSpPr>
          <p:spPr>
            <a:xfrm>
              <a:off x="7103880" y="57182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Line 15"/>
            <p:cNvSpPr/>
            <p:nvPr/>
          </p:nvSpPr>
          <p:spPr>
            <a:xfrm flipH="1">
              <a:off x="6342120" y="648000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Line 16"/>
            <p:cNvSpPr/>
            <p:nvPr/>
          </p:nvSpPr>
          <p:spPr>
            <a:xfrm flipV="1">
              <a:off x="6342120" y="442224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Line 17"/>
            <p:cNvSpPr/>
            <p:nvPr/>
          </p:nvSpPr>
          <p:spPr>
            <a:xfrm>
              <a:off x="6342120" y="44226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9" name="Rectangle 18"/>
            <p:cNvSpPr/>
            <p:nvPr/>
          </p:nvSpPr>
          <p:spPr>
            <a:xfrm>
              <a:off x="7239960" y="5008680"/>
              <a:ext cx="325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0" name="Rectangle 19"/>
            <p:cNvSpPr/>
            <p:nvPr/>
          </p:nvSpPr>
          <p:spPr>
            <a:xfrm>
              <a:off x="8002080" y="4932360"/>
              <a:ext cx="325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1" name="Rectangle 20"/>
            <p:cNvSpPr/>
            <p:nvPr/>
          </p:nvSpPr>
          <p:spPr>
            <a:xfrm>
              <a:off x="6707520" y="3789360"/>
              <a:ext cx="79308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시작 조건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2" name="Rectangle 21"/>
            <p:cNvSpPr/>
            <p:nvPr/>
          </p:nvSpPr>
          <p:spPr>
            <a:xfrm>
              <a:off x="6772320" y="5892840"/>
              <a:ext cx="642240" cy="3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재평가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3" name="Line 22"/>
            <p:cNvSpPr/>
            <p:nvPr/>
          </p:nvSpPr>
          <p:spPr>
            <a:xfrm>
              <a:off x="7103880" y="629928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0DA8-05BE-4916-963C-F96CC7034390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for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56" name="Text Box 23"/>
          <p:cNvSpPr/>
          <p:nvPr/>
        </p:nvSpPr>
        <p:spPr>
          <a:xfrm>
            <a:off x="631800" y="1662120"/>
            <a:ext cx="7978680" cy="47574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mport java.io.*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For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throws IOException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number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fferedReader inbr = new BufferedReader(new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putStreamReader(System.in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그릴 삼각형 높이를 입력하세요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! : 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umber = Integer.parseInt(inbr.readLine(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(int x=1; x&lt;=number; x++) 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(int y=1; y&lt;=x; y++) 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  //②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"x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039D-2D15-431A-8521-A8D7C6ADE759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while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조건만큼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정해지지 않은 횟수만큼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문을 수행하는 명령문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for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문에서는 조건이나 증감에 대한 처리를 조건식 내에서 한꺼번에 처리를 하였으나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, while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문이나 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do-while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문은 별도로 반복횟수 저장변수를 선언하고 변수의 값을 증가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감소시키는 작업을 해야 한다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.  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60" name="Rectangle 60"/>
          <p:cNvSpPr/>
          <p:nvPr/>
        </p:nvSpPr>
        <p:spPr>
          <a:xfrm>
            <a:off x="969840" y="4383000"/>
            <a:ext cx="3953160" cy="1636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Tahoma"/>
              </a:rPr>
              <a:t>일반 형식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while (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조건식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61" name="Group 61"/>
          <p:cNvGrpSpPr/>
          <p:nvPr/>
        </p:nvGrpSpPr>
        <p:grpSpPr>
          <a:xfrm>
            <a:off x="5700600" y="4270320"/>
            <a:ext cx="2378520" cy="1749240"/>
            <a:chOff x="5700600" y="4270320"/>
            <a:chExt cx="2378520" cy="1749240"/>
          </a:xfrm>
        </p:grpSpPr>
        <p:sp>
          <p:nvSpPr>
            <p:cNvPr id="662" name="Line 62"/>
            <p:cNvSpPr/>
            <p:nvPr/>
          </p:nvSpPr>
          <p:spPr>
            <a:xfrm>
              <a:off x="6643080" y="4270320"/>
              <a:ext cx="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3" name="AutoShape 63"/>
            <p:cNvSpPr/>
            <p:nvPr/>
          </p:nvSpPr>
          <p:spPr>
            <a:xfrm>
              <a:off x="5896800" y="4515480"/>
              <a:ext cx="1586160" cy="622800"/>
            </a:xfrm>
            <a:prstGeom prst="diamond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4" name="Rectangle 64"/>
            <p:cNvSpPr/>
            <p:nvPr/>
          </p:nvSpPr>
          <p:spPr>
            <a:xfrm>
              <a:off x="6234840" y="460332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조건식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5" name="Rectangle 65"/>
            <p:cNvSpPr/>
            <p:nvPr/>
          </p:nvSpPr>
          <p:spPr>
            <a:xfrm>
              <a:off x="6209280" y="5400360"/>
              <a:ext cx="59652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6" name="Line 66"/>
            <p:cNvSpPr/>
            <p:nvPr/>
          </p:nvSpPr>
          <p:spPr>
            <a:xfrm>
              <a:off x="6643080" y="5145120"/>
              <a:ext cx="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7" name="Line 67"/>
            <p:cNvSpPr/>
            <p:nvPr/>
          </p:nvSpPr>
          <p:spPr>
            <a:xfrm>
              <a:off x="7491240" y="482688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8" name="Line 68"/>
            <p:cNvSpPr/>
            <p:nvPr/>
          </p:nvSpPr>
          <p:spPr>
            <a:xfrm>
              <a:off x="7679520" y="4826880"/>
              <a:ext cx="0" cy="10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9" name="Line 69"/>
            <p:cNvSpPr/>
            <p:nvPr/>
          </p:nvSpPr>
          <p:spPr>
            <a:xfrm>
              <a:off x="6643080" y="5781240"/>
              <a:ext cx="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0" name="Line 70"/>
            <p:cNvSpPr/>
            <p:nvPr/>
          </p:nvSpPr>
          <p:spPr>
            <a:xfrm flipH="1">
              <a:off x="5700600" y="6019560"/>
              <a:ext cx="94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1" name="Line 71"/>
            <p:cNvSpPr/>
            <p:nvPr/>
          </p:nvSpPr>
          <p:spPr>
            <a:xfrm flipV="1">
              <a:off x="5700600" y="4429080"/>
              <a:ext cx="0" cy="159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72"/>
            <p:cNvSpPr/>
            <p:nvPr/>
          </p:nvSpPr>
          <p:spPr>
            <a:xfrm>
              <a:off x="5700600" y="4429440"/>
              <a:ext cx="65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3" name="Rectangle 73"/>
            <p:cNvSpPr/>
            <p:nvPr/>
          </p:nvSpPr>
          <p:spPr>
            <a:xfrm>
              <a:off x="6811920" y="5040720"/>
              <a:ext cx="400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4" name="Rectangle 74"/>
            <p:cNvSpPr/>
            <p:nvPr/>
          </p:nvSpPr>
          <p:spPr>
            <a:xfrm>
              <a:off x="7754040" y="4961160"/>
              <a:ext cx="325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F514-4F15-479B-B043-FCAD5F343BEC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while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631800" y="1287360"/>
            <a:ext cx="7978680" cy="530604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mport java.io.*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While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throws IOException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x=1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y=1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number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fferedReader inbr = new BufferedReader(new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putStreamReader(System.in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그릴 삼각형 높이를 입력하세요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! : 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umber = Integer.parseInt(inbr.readLine(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hile(x &lt;= number) 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hile(y &lt;= x)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"x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 = y + 1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 = x + 1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 = 1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4103-9469-4BF4-9DBF-DDE562227158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do-while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먼저 실행문을 수행하고 조건식을 따져 그 다음 수행을 결정하는 명령문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while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문은 먼저 조건식을 따져 참인 경우에 실행문이 수행된다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적어도 한번은 문을 수행한다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while(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조건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다음에 세미콜론</a:t>
            </a:r>
            <a:r>
              <a:rPr b="0" lang="en-US" sz="2400" spc="-1" strike="noStrike">
                <a:solidFill>
                  <a:srgbClr val="40458c"/>
                </a:solidFill>
                <a:latin typeface="굴림"/>
              </a:rPr>
              <a:t>(;)</a:t>
            </a: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을 반드시 적어야 함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1420920" y="4611600"/>
            <a:ext cx="3952800" cy="1636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Tahoma"/>
              </a:rPr>
              <a:t>일반 형식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o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실행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}while(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조건식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82" name="Group 9"/>
          <p:cNvGrpSpPr/>
          <p:nvPr/>
        </p:nvGrpSpPr>
        <p:grpSpPr>
          <a:xfrm>
            <a:off x="6018120" y="4334040"/>
            <a:ext cx="1985040" cy="2286000"/>
            <a:chOff x="6018120" y="4334040"/>
            <a:chExt cx="1985040" cy="2286000"/>
          </a:xfrm>
        </p:grpSpPr>
        <p:sp>
          <p:nvSpPr>
            <p:cNvPr id="683" name="Line 10"/>
            <p:cNvSpPr/>
            <p:nvPr/>
          </p:nvSpPr>
          <p:spPr>
            <a:xfrm>
              <a:off x="6779880" y="50961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4" name="AutoShape 11"/>
            <p:cNvSpPr/>
            <p:nvPr/>
          </p:nvSpPr>
          <p:spPr>
            <a:xfrm>
              <a:off x="6176880" y="5331240"/>
              <a:ext cx="1282680" cy="596880"/>
            </a:xfrm>
            <a:prstGeom prst="diamond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6481080" y="5453280"/>
              <a:ext cx="59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조건식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6" name="Rectangle 13"/>
            <p:cNvSpPr/>
            <p:nvPr/>
          </p:nvSpPr>
          <p:spPr>
            <a:xfrm>
              <a:off x="6476040" y="4619880"/>
              <a:ext cx="59652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실행문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7" name="Line 14"/>
            <p:cNvSpPr/>
            <p:nvPr/>
          </p:nvSpPr>
          <p:spPr>
            <a:xfrm>
              <a:off x="7465680" y="5629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8" name="Line 15"/>
            <p:cNvSpPr/>
            <p:nvPr/>
          </p:nvSpPr>
          <p:spPr>
            <a:xfrm>
              <a:off x="7618320" y="562968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>
              <a:off x="6779880" y="60105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0" name="Line 17"/>
            <p:cNvSpPr/>
            <p:nvPr/>
          </p:nvSpPr>
          <p:spPr>
            <a:xfrm flipH="1">
              <a:off x="6018120" y="6239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1" name="Line 18"/>
            <p:cNvSpPr/>
            <p:nvPr/>
          </p:nvSpPr>
          <p:spPr>
            <a:xfrm flipV="1">
              <a:off x="6018120" y="44103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2" name="Line 19"/>
            <p:cNvSpPr/>
            <p:nvPr/>
          </p:nvSpPr>
          <p:spPr>
            <a:xfrm>
              <a:off x="6018120" y="441036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6915960" y="5834520"/>
              <a:ext cx="325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4" name="Rectangle 21"/>
            <p:cNvSpPr/>
            <p:nvPr/>
          </p:nvSpPr>
          <p:spPr>
            <a:xfrm>
              <a:off x="7678080" y="5758200"/>
              <a:ext cx="325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5" name="Line 22"/>
            <p:cNvSpPr/>
            <p:nvPr/>
          </p:nvSpPr>
          <p:spPr>
            <a:xfrm>
              <a:off x="6779880" y="4334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9181-FE2E-45DB-B107-71DEC6E494AB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do-while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98" name="Text Box 20"/>
          <p:cNvSpPr/>
          <p:nvPr/>
        </p:nvSpPr>
        <p:spPr>
          <a:xfrm>
            <a:off x="631800" y="1287360"/>
            <a:ext cx="7978680" cy="530604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mport java.io.*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Dowhile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throws IOException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x=1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y=1;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number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fferedReader inbr = new BufferedReader(new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putStreamReader(System.in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그릴 삼각형 높이를 입력하세요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! : 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umber = Integer.parseInt(inbr.readLine(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"x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 = y + 1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while( y &lt;= x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 = x + 1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 = 1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while(x &lt;= number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0160-3438-4952-A3EE-EE2E896D3A36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do-while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631800" y="1287360"/>
            <a:ext cx="7978680" cy="530604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mport java.io.*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Dowhile2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throws IOException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innum;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outnum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count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sum=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//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숫자 합 누적</a:t>
            </a: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      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fferedReader inbr = new BufferedReader(new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putStreamReader(System.in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합을 구하는 시작숫자 입력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num = Integer.parseInt(inbr.readLine(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(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합을 구하는 끝</a:t>
            </a: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숫자</a:t>
            </a: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입력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num = Integer.parseInt(inbr.readLine()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unt = innum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합을 구할 시작 숫자 치환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           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unt ++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um += count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합의 값 누적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while(count &lt; outnum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innum+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부터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"+outnum + "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까지의 합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" + sum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A8E6-3DA7-437E-8F4B-35EEBF89677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분기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Rectangle 128"/>
          <p:cNvSpPr/>
          <p:nvPr/>
        </p:nvSpPr>
        <p:spPr>
          <a:xfrm>
            <a:off x="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break 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문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반복문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(switch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문 등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실행 중에 반복문 블록 내에서 블록 외부로 블록을 탈출할 목적으로 사용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07" name="Rectangle 131"/>
          <p:cNvSpPr/>
          <p:nvPr/>
        </p:nvSpPr>
        <p:spPr>
          <a:xfrm>
            <a:off x="1380960" y="3789360"/>
            <a:ext cx="6723360" cy="11127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Tahoma"/>
              </a:rPr>
              <a:t>일반 형식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1 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reak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 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reak 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레이블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E2CA-C5C8-4A0D-863E-19BC217AD8B5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break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754200" y="1898640"/>
            <a:ext cx="7513560" cy="33876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 x= 1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ile(true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stem.out.println("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무한 루프 반복</a:t>
            </a:r>
            <a:r>
              <a:rPr b="0" lang="ko-KR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( x &gt; 10 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reak;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//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반복문을 빠져나온다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++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97D-7E68-4616-98CC-FF7F8D366B33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break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754200" y="1898640"/>
            <a:ext cx="7769160" cy="4389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bel: while(x &lt;= 50)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// ⓓ → ⓑ</a:t>
            </a:r>
            <a:r>
              <a:rPr b="0" lang="ko-KR" sz="2000" spc="-1" strike="noStrike">
                <a:solidFill>
                  <a:srgbClr val="40458c"/>
                </a:solidFill>
                <a:latin typeface="Tahoma"/>
              </a:rPr>
              <a:t>가 빠져나오는 곳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{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(int y=5; y&lt;50; y++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{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( x &gt; y ) break;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// ⓐ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( x &lt; y ) break label;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// ⓑ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stem.out.println("ⓐ</a:t>
            </a:r>
            <a:r>
              <a:rPr b="0" lang="ko-KR" sz="2000" spc="-1" strike="noStrike">
                <a:solidFill>
                  <a:srgbClr val="40458c"/>
                </a:solidFill>
                <a:latin typeface="Tahoma"/>
              </a:rPr>
              <a:t>가 빠져나와서 이 실행문을 실행</a:t>
            </a:r>
            <a:r>
              <a:rPr b="0" lang="ko-KR" sz="20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;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// ⓒ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42F-7B23-4F99-9072-B9D4CF59884E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기본 자료형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40458c"/>
                </a:solidFill>
                <a:latin typeface="굴림"/>
              </a:rPr>
              <a:t>자바의 기본 자료형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288" name="Rectangle 29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93560" y="2332080"/>
          <a:ext cx="8116920" cy="3181320"/>
        </p:xfrm>
        <a:graphic>
          <a:graphicData uri="http://schemas.openxmlformats.org/drawingml/2006/table">
            <a:tbl>
              <a:tblPr/>
              <a:tblGrid>
                <a:gridCol w="1710000"/>
                <a:gridCol w="860400"/>
                <a:gridCol w="841320"/>
                <a:gridCol w="470520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데이터형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예약어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명령어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비트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바이트</a:t>
                      </a: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40458c"/>
                          </a:solidFill>
                          <a:latin typeface="굴림"/>
                          <a:ea typeface="한컴바탕"/>
                        </a:rPr>
                        <a:t>값의 저장범위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논리형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boolea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true, fals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문자형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cha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16(2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유니코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수치로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0 ~ 6553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수치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바이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by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8(1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-128 ~ 12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수치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16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비트 정수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sh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16(2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-32,768 ~ 32,7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수치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정수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)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in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32(4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-2,147,438,648 ~ 2,147,438,64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수치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6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비트 정수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long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64(8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-9223372036854775080 ~ 922337203685477508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수치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실수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floa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32(4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3.40282347E+38 ~1.40239846E-45, IEEE 754-1985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표준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수치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(64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비트 실수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doubl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64(8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1.79769313486231570E+308 ~ 4.94065645841265544E-324, IEEE 754- 1985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한컴바탕"/>
                        </a:rPr>
                        <a:t>표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262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8E2B-F2D9-4D8C-BFCC-36F3F09141E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break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631800" y="1662120"/>
            <a:ext cx="7978680" cy="366012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Break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x=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sum=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&lt;&lt;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무한 반복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gt;&gt; 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klabel:while(true) 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 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hile(true){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(x &gt;= 500) break bklabel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③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++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um =sum+x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E54D-4F63-4EED-824A-F72E5E2A3B9F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continue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반복문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(for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문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, while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문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, do-while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문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내부에서 사용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이 제어문을 만나면 이후의 명령문을 생략하고 반복문의 조건부로 가서 반복문을 수행한다</a:t>
            </a:r>
            <a:r>
              <a:rPr b="0" lang="en-US" sz="3200" spc="-1" strike="noStrike">
                <a:solidFill>
                  <a:srgbClr val="40458c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1380960" y="4343400"/>
            <a:ext cx="6723360" cy="5270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40458c"/>
                </a:solidFill>
                <a:latin typeface="Tahoma"/>
              </a:rPr>
              <a:t>일반 형식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continu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AutoShape 8"/>
          <p:cNvSpPr/>
          <p:nvPr/>
        </p:nvSpPr>
        <p:spPr>
          <a:xfrm>
            <a:off x="2730600" y="5511960"/>
            <a:ext cx="5792760" cy="936360"/>
          </a:xfrm>
          <a:prstGeom prst="wedgeRectCallout">
            <a:avLst>
              <a:gd name="adj1" fmla="val -43231"/>
              <a:gd name="adj2" fmla="val -11728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[ break</a:t>
            </a:r>
            <a:r>
              <a:rPr b="1" lang="ko-KR" sz="1400" spc="-1" strike="noStrike">
                <a:solidFill>
                  <a:srgbClr val="40458c"/>
                </a:solidFill>
                <a:latin typeface="Tahoma"/>
              </a:rPr>
              <a:t>문 과 </a:t>
            </a: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continue</a:t>
            </a:r>
            <a:r>
              <a:rPr b="1" lang="ko-KR" sz="1400" spc="-1" strike="noStrike">
                <a:solidFill>
                  <a:srgbClr val="40458c"/>
                </a:solidFill>
                <a:latin typeface="Tahoma"/>
              </a:rPr>
              <a:t>문 </a:t>
            </a: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]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break</a:t>
            </a:r>
            <a:r>
              <a:rPr b="1" lang="ko-KR" sz="1400" spc="-1" strike="noStrike">
                <a:solidFill>
                  <a:srgbClr val="40458c"/>
                </a:solidFill>
                <a:latin typeface="Tahoma"/>
              </a:rPr>
              <a:t>문은 이후의 명령문을 생략하고 반복문을 빠져 나온다</a:t>
            </a: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. continue</a:t>
            </a:r>
            <a:r>
              <a:rPr b="1" lang="ko-KR" sz="1400" spc="-1" strike="noStrike">
                <a:solidFill>
                  <a:srgbClr val="40458c"/>
                </a:solidFill>
                <a:latin typeface="Tahoma"/>
              </a:rPr>
              <a:t>문은 이후의 명령문을 생략하고 반복문의 조건식을 검사하는 부분으로 되돌아가서 반복문을 수행한다</a:t>
            </a: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F305-0F2D-4E81-96FD-CCE089F9FB5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continue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754200" y="1898640"/>
            <a:ext cx="7769160" cy="3800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  x = 1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( int y=0; y&lt;50; y++)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// ⓐ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stem.out.println(x + "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값 반복</a:t>
            </a:r>
            <a:r>
              <a:rPr b="0" lang="ko-KR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++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 x &gt; 30 ) continue;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/ ⓑ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stem.out.println("x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가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0</a:t>
            </a:r>
            <a:r>
              <a:rPr b="0" lang="ko-KR" sz="2400" spc="-1" strike="noStrike">
                <a:solidFill>
                  <a:srgbClr val="40458c"/>
                </a:solidFill>
                <a:latin typeface="Tahoma"/>
              </a:rPr>
              <a:t>일 때까지만 반복</a:t>
            </a:r>
            <a:r>
              <a:rPr b="0" lang="ko-KR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;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/ ⓒ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}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90D8-3714-4003-AD76-622E1ACE7806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continue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문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31800" y="1662120"/>
            <a:ext cx="7978680" cy="420876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class ContinueOper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blic static void main(String[] a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count=0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t sum=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continue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문 사용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"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unt ++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(count%2 !=0) continue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//①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um += count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//②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while(count &lt; 500);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//③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        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stem.out.println("1 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부터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00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까지</a:t>
            </a:r>
            <a:r>
              <a:rPr b="0" lang="ko-KR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800" spc="-1" strike="noStrike">
                <a:solidFill>
                  <a:srgbClr val="40458c"/>
                </a:solidFill>
                <a:latin typeface="Tahoma"/>
              </a:rPr>
              <a:t> 짝수의 합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" + sum)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0DEA-E1E7-4801-A105-35DD9A5E12C4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기본 자료형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Rectangle 57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Text Box 59"/>
          <p:cNvSpPr/>
          <p:nvPr/>
        </p:nvSpPr>
        <p:spPr>
          <a:xfrm>
            <a:off x="598320" y="1349280"/>
            <a:ext cx="7979040" cy="520452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ublic class DataType1 {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ublic static void main(String[] srgs) {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변수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yte bytev = 122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정수형 바이트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hort shortv = 31250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16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비트 정수형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int intv= 111250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정수형 변수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long longv = 1234567890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64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비트 정수형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loat floatv = 23.45F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실수형 변수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ouble doublev = 2456.78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64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비트 실수형 변수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har charv = 'C'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문자형 변수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boolean booleanv = true;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  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논리형 변수 선언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//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변수에 입력된 값</a:t>
            </a: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출력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ln("byte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값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: " + bytev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ln("short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값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: " + shortv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ln("int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값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: " + intv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ln("long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값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: " + longv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ln("float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값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: " + floatv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ln("double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값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: " + doublev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ln("char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값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: " + charv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ystem.out.println("boolean </a:t>
            </a:r>
            <a:r>
              <a:rPr b="0" lang="ko-KR" sz="1600" spc="-1" strike="noStrike">
                <a:solidFill>
                  <a:srgbClr val="40458c"/>
                </a:solidFill>
                <a:latin typeface="Tahoma"/>
              </a:rPr>
              <a:t>값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: " + booleanv)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}   }  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6" name="Picture 61" descr="2-1"/>
          <p:cNvPicPr/>
          <p:nvPr/>
        </p:nvPicPr>
        <p:blipFill>
          <a:blip r:embed="rId1"/>
          <a:stretch/>
        </p:blipFill>
        <p:spPr>
          <a:xfrm>
            <a:off x="5999040" y="4040280"/>
            <a:ext cx="20671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E74F-8949-432B-A11E-046242CB445A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67057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기본 자료형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0" y="45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98320" y="1660680"/>
            <a:ext cx="7979040" cy="31114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public class DataType2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public static void main(String[] srgs) {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변수 선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int inta= 22250;                              //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정수형 변수 선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int intb= 32500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float floatc;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floatc = inta + intb;          //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변수에 입력된 값  출력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  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System.out.println("</a:t>
            </a:r>
            <a:r>
              <a:rPr b="1" lang="ko-KR" sz="1800" spc="-1" strike="noStrike">
                <a:solidFill>
                  <a:srgbClr val="40458c"/>
                </a:solidFill>
                <a:latin typeface="굴림"/>
              </a:rPr>
              <a:t>정수형 합을 실수형 변수에 저장 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: " + floatc);      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굴림"/>
              </a:rPr>
              <a:t>}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2" name="Picture 7" descr="DataType2"/>
          <p:cNvPicPr/>
          <p:nvPr/>
        </p:nvPicPr>
        <p:blipFill>
          <a:blip r:embed="rId1"/>
          <a:stretch/>
        </p:blipFill>
        <p:spPr>
          <a:xfrm>
            <a:off x="1239840" y="4973760"/>
            <a:ext cx="64357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슬라이드 번호 개체 틀 4"/>
          <p:cNvSpPr/>
          <p:nvPr/>
        </p:nvSpPr>
        <p:spPr>
          <a:xfrm>
            <a:off x="82296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42C6-DC46-41B7-8AEC-E5992ED7FE25}" type="slidenum">
              <a:rPr b="0" lang="en-US" sz="1400" spc="-1" strike="noStrike">
                <a:solidFill>
                  <a:srgbClr val="40458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69480" y="456840"/>
            <a:ext cx="795492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굴림"/>
              </a:rPr>
              <a:t>4. </a:t>
            </a:r>
            <a:r>
              <a:rPr b="0" lang="ko-KR" sz="4000" spc="-1" strike="noStrike">
                <a:solidFill>
                  <a:srgbClr val="660066"/>
                </a:solidFill>
                <a:latin typeface="굴림"/>
              </a:rPr>
              <a:t>변수와 상수</a:t>
            </a:r>
            <a:endParaRPr b="0" lang="en-US" sz="4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40458c"/>
                </a:solidFill>
                <a:latin typeface="굴림"/>
              </a:rPr>
              <a:t>변수</a:t>
            </a:r>
            <a:endParaRPr b="0" lang="en-US" sz="32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데이터를 기억시킬 수 있는 기억장소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프로그램에서 메모리상의 자료에 접근하기 위해서는 실제의 자료를 나타내는 변수가 있어야 한다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40458c"/>
                </a:solidFill>
                <a:latin typeface="굴림"/>
              </a:rPr>
              <a:t>프로그램 실행 중에 메모리상에 자료를 저장하고 꺼내오기 위해서는 적절한 자료형을 선택하여 변수를 선언해야 한다</a:t>
            </a:r>
            <a:r>
              <a:rPr b="0" lang="en-US" sz="2800" spc="-1" strike="noStrike">
                <a:solidFill>
                  <a:srgbClr val="40458c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58c"/>
                </a:solidFill>
                <a:latin typeface="굴림"/>
              </a:rPr>
              <a:t>선택한 자료형의 크기를 가진 장소가 메모리에 할당됨  </a:t>
            </a:r>
            <a:endParaRPr b="0" lang="en-US" sz="2400" spc="-1" strike="noStrike">
              <a:solidFill>
                <a:srgbClr val="40458c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9T20:18:57Z</dcterms:created>
  <dc:creator>조정길</dc:creator>
  <dc:description/>
  <dc:language>en-US</dc:language>
  <cp:lastModifiedBy>SBS</cp:lastModifiedBy>
  <cp:lastPrinted>1998-09-07T07:15:53Z</cp:lastPrinted>
  <dcterms:modified xsi:type="dcterms:W3CDTF">2013-03-26T04:12:27Z</dcterms:modified>
  <cp:revision>9992</cp:revision>
  <dc:subject/>
  <dc:title>C++기처_2</dc:title>
</cp:coreProperties>
</file>