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472D6-AAE2-4267-AF82-73F134A06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E666F-51D7-4BEC-8C53-DDD822CF4B6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42274-8DF6-427B-8B1C-00C4A8AE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9F612-AAD8-402A-A812-41FF13BD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34E91-6510-4B2E-8DE6-3780C82E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CAEAA-22FA-475D-A01C-7F86D032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AE556-D25B-4694-89CC-05E279B8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69283-CCB2-45F8-BBE9-E4A0C6B7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4B6B9-B2F5-445C-B303-6835DAE6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130B5-F9A3-43F7-9FE5-7F1163DE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FBCF0-F2E5-4E14-87B0-D7F396DA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7AA2AE-9889-423D-B685-3C2E9D76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D6D1C-3699-4AEB-9013-FAA39AD0677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01F6F-EDA5-4792-B158-FEBCF980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3F44A3-9E88-4CD8-95D5-6ADFD143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57099-22BE-4FFB-A4DB-11F2AE21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CCD56-6283-47BB-8DDF-C067EB36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E9030-9A9D-490F-A76A-A2766721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12DFA8-7DFA-49C8-B071-61899F80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D9D9AB-C52B-4C70-B45A-1DFCAB71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EB2FD4-BCFB-46AD-9334-DBB09939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8AFED4-FAA3-4299-801F-21CA34CA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D30F1F-A210-439D-B6D1-1A9065EA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AECD-897A-4FF7-B239-00B46927F81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C849E-4007-47D5-ACD1-4B54FCB4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349917-7EC8-46ED-B8DE-E14F06D0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E9EC5C-7A9F-43DC-909E-FE003FAD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27A944-237F-4886-BE1B-9C44C936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562202-E290-4D5F-B83D-A9A141A8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EE2D88-8428-4773-8907-1A38E86D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BE565F-4FC6-4C43-86B9-879A1FE9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0AA1B4-C73E-42F2-90EE-B212B583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DA14DB-26DE-4D1C-AA9A-3D40B868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4363C3-7604-499C-BCDC-A4ADC3FE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E613D-DC10-4859-AFC7-7A1C851E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4C1B11-82E9-4ED6-BF71-0B91D6BB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9960FD-C337-481F-92B9-957D2E2F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C30F2B-1EBF-4A5E-B4E8-8E9322FB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6DDC6-D97B-4B06-A843-DFC4B7F3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4785F-97BB-4386-A475-220E6753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EADAF-C486-4A38-A6A0-2164A9CF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84EB1-F407-4A27-8711-37332F3B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201E8-F91A-4C20-BD62-F22E721D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5C898-2759-4D92-9DA9-FE2E28DF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C87B-08F0-4DA2-89A2-9B5B44524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4C24D-6DB8-4D46-B9F7-3D83FF42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91833-857A-4D0B-AD09-83A0121D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6225A-0789-4ABE-A204-857FCD74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74267-4C0F-4BA1-80D9-89AF2A84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885C4-3200-4AD7-8346-6643062B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682A-9D3B-4A11-837C-B6819A58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5C9F-5800-4AEC-B0D8-C332B92B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DAC5-929D-4A74-A524-33D62736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4DA7-3229-4ABE-A192-50B6F7E1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32FB-AEC3-4206-8DF5-15EE8859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70D0-BBF1-445F-BE51-67B8528843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869C-8429-4DC4-A8CC-61574801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9BF6-565B-44C1-A5A1-521B1DE2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D309-CC0D-47EA-AFBC-E650BBAC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C3B6-DE7A-4DC4-810A-069BB83B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4852-C50F-481D-AB1F-BD5E7153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879A-7321-472A-AB24-F0E2CA82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F434-4CA0-4DC5-934C-163904BB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43702-43AE-4D23-9B9A-BAE2FD69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DF636-02A0-434D-8D43-89EB049E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349B8-C2E1-4BBE-8E0D-D0904347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4BBCA-17D5-40F3-836A-3B6847A2CB8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D1D89-757F-46CF-B661-96FF5934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70F98-B777-4F82-9F5D-AB70C0E7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6843B-3738-4E54-9298-0A111AC5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A996D-FB07-4441-A34E-7C0A8BA8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D3A2A-BBDD-4D6A-A49E-26062173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E624-209E-4BF0-A297-9154D884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EE8F7-D98C-4F0B-85E4-6E393B8D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8DFA1-5D46-46F8-B51D-5842DFB8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3EB9E-9D6A-45D7-B6DE-F773BD75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B85FE-1A83-48E1-BE15-885801F1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367A-80DC-42FD-9AE1-456DF419505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8987C-F8DD-41C0-B8DD-F732732D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18A2A-4E28-4B44-AEE6-B170FCAB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693EE-5742-4190-A40E-CA77E86F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85B3D-97F9-4770-BB3F-C6789835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E5B1E-9A1D-4F54-A5D0-7545F10D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8413C-93A2-4A7E-A974-C4FE8E29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4C429-245B-436E-B313-9878FEB8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32945-5896-4F6F-BBEA-CC346200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FA41E-5A49-42D7-A61B-3E3F0730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653A8-A4F8-44D9-AB4E-F7526B4F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B99F-599D-46FA-B6A0-CD65F1902E7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215E6-1453-46FC-ADF4-4EAAF0B6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84A828-17AA-448F-B54D-B6D770E5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150793-AE9F-432A-A9E6-81C2B86A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C180A1-877A-4F28-87B9-9689C402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60DB54-80E0-4E02-AA3D-24E4D8C4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97DC05-740A-4F67-96EF-E47EC309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699D27-DBF3-4805-A98E-427D2BE8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27A244-4701-4612-8036-78455999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33F3F7-06C2-4567-BC49-7339F0E6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D501B8-5FB1-4623-8AC4-A6FEE028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E328-08F0-4845-9725-321C07A2009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2735AF-B07B-445C-809D-9DFC5D3C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943DAA-D391-459E-9983-5C63287E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08FEE1-3931-4EDF-8F64-544F08D8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A89251-EC4C-4250-B2C5-399C8C72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F7498F-B69D-4F7C-B424-5655954E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751385-3968-4985-85CB-BFC76231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B50E5A-3AD1-4C6B-BC00-F7FD9724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D03C02-FFC1-4C5E-88B2-A09F820D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ECFEFF-9853-4D62-A588-4E00F889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CF03E5-1EBC-4726-9FC2-CAA4A394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7F4F-6113-474D-9157-6BCD54C8C23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497045-603B-461E-8080-B9396E53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765FF2-196B-4A81-9E93-2CBCF745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0082D4-6866-4A6C-879D-7C0668CD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DCBF7E-64B9-4685-8F25-E7AF0233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90805A-BC27-46AB-954D-0E6E7BFF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60A219-D46D-4176-AFFB-F808F34A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3EED43-CF11-4143-B8B0-6A671691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5C5EAB-471A-46D2-AF5A-D682A78F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27C50D-C4D5-4E45-AE77-9E3B90DB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2F93F4-37AE-45B2-B33B-A3AE4AF3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8115-9F71-436F-A5D9-E38A346138D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3CDD3A-77DA-463E-8448-DC7E5C60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530255-E9D8-48D1-AA08-506279F8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D69A80-6A18-4CA5-AFD5-7264BC41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67E772-39F2-4FD1-8334-9454EA5E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D8F6D0-4725-4206-B260-7DED0219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BEFFE0-2153-4E2E-A54B-2CD82891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B7CD4D-650C-431E-BB7C-91C73705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BD388-45D4-4FFE-BC68-C4CFDAEE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21B62-8778-4553-873B-27EA3EFA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5CE28-EAA9-42CC-96C2-1160BC9A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직사각형 6"/>
          <p:cNvSpPr/>
          <p:nvPr/>
        </p:nvSpPr>
        <p:spPr>
          <a:xfrm>
            <a:off x="0" y="954000"/>
            <a:ext cx="9144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직사각형 7"/>
          <p:cNvSpPr/>
          <p:nvPr/>
        </p:nvSpPr>
        <p:spPr>
          <a:xfrm>
            <a:off x="0" y="100008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590400" y="100008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0" y="99180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CB3C-0EC4-4D2A-8434-0FAAA924F58C}" type="slidenum"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직사각형 6"/>
          <p:cNvSpPr/>
          <p:nvPr/>
        </p:nvSpPr>
        <p:spPr>
          <a:xfrm>
            <a:off x="0" y="954000"/>
            <a:ext cx="9144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직사각형 7"/>
          <p:cNvSpPr/>
          <p:nvPr/>
        </p:nvSpPr>
        <p:spPr>
          <a:xfrm>
            <a:off x="0" y="100008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직사각형 8"/>
          <p:cNvSpPr/>
          <p:nvPr/>
        </p:nvSpPr>
        <p:spPr>
          <a:xfrm>
            <a:off x="590400" y="100008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A772-7392-440A-A754-A746D3F2DBAC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7"/>
          </p:nvPr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8"/>
          </p:nvPr>
        </p:nvSpPr>
        <p:spPr>
          <a:xfrm>
            <a:off x="0" y="99180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9A7E-19FA-4EA9-A70B-9C374F5211ED}" type="slidenum"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직사각형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직사각형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직사각형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9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9762-7287-459B-BAAC-9576A801A7E6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0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1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4F8C-EBB0-45FB-9CBD-EB02477F3A8D}" type="slidenum"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직사각형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직사각형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ebddc3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BC39-F75F-4DC2-A859-E591FE909740}" type="datetime"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26年 7月 29日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00"/>
                </a:solidFill>
                <a:latin typeface="HY나무M"/>
                <a:ea typeface="HY나무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00"/>
                </a:solidFill>
                <a:latin typeface="HY나무M"/>
                <a:ea typeface="HY나무M"/>
              </a:rPr>
              <a:t>명품 </a:t>
            </a:r>
            <a:r>
              <a:rPr b="0" lang="en-US" sz="2400" spc="-1" strike="noStrike">
                <a:solidFill>
                  <a:srgbClr val="ffff00"/>
                </a:solidFill>
                <a:latin typeface="HY나무M"/>
                <a:ea typeface="HY나무M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1924-3D76-4371-A5F4-996A2EC55BFA}" type="slidenum">
              <a:rPr b="1" lang="ko-KR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직사각형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직사각형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92BD-3C1F-4539-BB74-552E27EAD5FE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16C0-DD8E-4B01-AAAC-4C22E8077418}" type="slidenum">
              <a:rPr b="1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직사각형 6"/>
          <p:cNvSpPr/>
          <p:nvPr/>
        </p:nvSpPr>
        <p:spPr>
          <a:xfrm>
            <a:off x="0" y="954000"/>
            <a:ext cx="9144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직사각형 7"/>
          <p:cNvSpPr/>
          <p:nvPr/>
        </p:nvSpPr>
        <p:spPr>
          <a:xfrm>
            <a:off x="0" y="100008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직사각형 8"/>
          <p:cNvSpPr/>
          <p:nvPr/>
        </p:nvSpPr>
        <p:spPr>
          <a:xfrm>
            <a:off x="590400" y="100008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90C0-434E-4B95-9E43-A28142ABB885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9"/>
          </p:nvPr>
        </p:nvSpPr>
        <p:spPr>
          <a:xfrm>
            <a:off x="0" y="99180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392F-7BD1-49A6-A7E0-6ACABD4B1D15}" type="slidenum"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0"/>
          </p:nvPr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직사각형 6"/>
          <p:cNvSpPr/>
          <p:nvPr/>
        </p:nvSpPr>
        <p:spPr>
          <a:xfrm>
            <a:off x="0" y="954000"/>
            <a:ext cx="9144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직사각형 7"/>
          <p:cNvSpPr/>
          <p:nvPr/>
        </p:nvSpPr>
        <p:spPr>
          <a:xfrm>
            <a:off x="0" y="100008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직사각형 8"/>
          <p:cNvSpPr/>
          <p:nvPr/>
        </p:nvSpPr>
        <p:spPr>
          <a:xfrm>
            <a:off x="590400" y="100008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DC92-29B7-4BED-ACBA-BAB04A1CA856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2"/>
          </p:nvPr>
        </p:nvSpPr>
        <p:spPr>
          <a:xfrm>
            <a:off x="0" y="99180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93F7-7999-4EFA-94CA-ED52CA0533F6}" type="slidenum"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3"/>
          </p:nvPr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6"/>
          <p:cNvSpPr/>
          <p:nvPr/>
        </p:nvSpPr>
        <p:spPr>
          <a:xfrm>
            <a:off x="0" y="954000"/>
            <a:ext cx="9144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직사각형 7"/>
          <p:cNvSpPr/>
          <p:nvPr/>
        </p:nvSpPr>
        <p:spPr>
          <a:xfrm>
            <a:off x="0" y="100008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직사각형 8"/>
          <p:cNvSpPr/>
          <p:nvPr/>
        </p:nvSpPr>
        <p:spPr>
          <a:xfrm>
            <a:off x="590400" y="100008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697B-CA66-4B5C-82ED-B1C4B72C2E44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0" y="99180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2542-22AF-42E6-A6E7-A90BFAEBA8C4}" type="slidenum"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813B-040A-47AC-B271-AFC7347905EF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9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AEC0-4DEF-4AD8-9BE3-44B8FA9CDF0B}" type="slidenum">
              <a:rPr b="1" lang="ko-KR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직사각형 6"/>
          <p:cNvSpPr/>
          <p:nvPr/>
        </p:nvSpPr>
        <p:spPr>
          <a:xfrm>
            <a:off x="0" y="954000"/>
            <a:ext cx="9144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직사각형 7"/>
          <p:cNvSpPr/>
          <p:nvPr/>
        </p:nvSpPr>
        <p:spPr>
          <a:xfrm>
            <a:off x="0" y="100008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직사각형 8"/>
          <p:cNvSpPr/>
          <p:nvPr/>
        </p:nvSpPr>
        <p:spPr>
          <a:xfrm>
            <a:off x="590400" y="100008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3938-5139-4F2B-BEB2-D86ACFCD33DA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1"/>
          </p:nvPr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2"/>
          </p:nvPr>
        </p:nvSpPr>
        <p:spPr>
          <a:xfrm>
            <a:off x="0" y="99180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BAA4-87F4-4E1E-B590-DD4889E40E0B}" type="slidenum"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직사각형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직사각형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직사각형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4913-B6D2-48AD-A242-6BE495072965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814D-B506-4155-B6F5-4CFC95F01DB2}" type="slidenum">
              <a:rPr b="1" lang="ko-K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bddc3"/>
                </a:solidFill>
                <a:latin typeface="맑은 고딕"/>
              </a:rPr>
              <a:t>제 </a:t>
            </a:r>
            <a:r>
              <a:rPr b="0" lang="en-US" sz="3200" spc="-1" strike="noStrike">
                <a:solidFill>
                  <a:srgbClr val="ebddc3"/>
                </a:solidFill>
                <a:latin typeface="맑은 고딕"/>
              </a:rPr>
              <a:t>12 </a:t>
            </a:r>
            <a:r>
              <a:rPr b="0" lang="ko-KR" sz="3200" spc="-1" strike="noStrike">
                <a:solidFill>
                  <a:srgbClr val="ebddc3"/>
                </a:solidFill>
                <a:latin typeface="맑은 고딕"/>
              </a:rPr>
              <a:t>장 그래픽</a:t>
            </a:r>
            <a:endParaRPr b="0" lang="en-US" sz="3200" spc="-1" strike="noStrike">
              <a:solidFill>
                <a:srgbClr val="ebddc3"/>
              </a:solidFill>
              <a:latin typeface="맑은 고딕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82" name="슬라이드 번호 개체 틀 3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4DF6-737E-4385-80C2-E84D691923D6}" type="slidenum">
              <a:rPr b="1" lang="ko-KR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바닥글 개체 틀 4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00"/>
                </a:solidFill>
                <a:latin typeface="HY나무M"/>
                <a:ea typeface="HY나무M"/>
              </a:rPr>
              <a:t>명품 </a:t>
            </a:r>
            <a:r>
              <a:rPr b="0" lang="en-US" sz="1800" spc="-1" strike="noStrike">
                <a:solidFill>
                  <a:srgbClr val="ffff00"/>
                </a:solidFill>
                <a:latin typeface="HY나무M"/>
                <a:ea typeface="HY나무M"/>
              </a:rPr>
              <a:t>JAVA Programm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1015920" y="384804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선 그리기 사례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46" name="직사각형 3"/>
          <p:cNvSpPr/>
          <p:nvPr/>
        </p:nvSpPr>
        <p:spPr>
          <a:xfrm>
            <a:off x="3857760" y="571680"/>
            <a:ext cx="4572000" cy="627444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public class GraphicsDrawLineEx extends JFrame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ntainer contentPane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GraphicsDrawLineEx()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tTitle("drawLine 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사용  예제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MyPanel panel =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new MyPanel(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ntentPane.add(panel, BorderLayout.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CENTER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tSize(200, 150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tVisible(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true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class MyPanel extends JPanel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public void paintComponent(Graphics g)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super.paintComponent(g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g.setColor(Color.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RED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ff0000"/>
                </a:solidFill>
                <a:latin typeface="Tw Cen MT"/>
              </a:rPr>
              <a:t>g.drawLine(20,20, 100, 100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new GraphicsDrawLineEx(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TextBox 8"/>
          <p:cNvSpPr/>
          <p:nvPr/>
        </p:nvSpPr>
        <p:spPr>
          <a:xfrm>
            <a:off x="704520" y="4143240"/>
            <a:ext cx="66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(20,20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TextBox 9"/>
          <p:cNvSpPr/>
          <p:nvPr/>
        </p:nvSpPr>
        <p:spPr>
          <a:xfrm>
            <a:off x="1917360" y="500076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(100,100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슬라이드 번호 개체 틀 6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6241-38CB-420E-A94E-410D37FAA68A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6437160" y="497376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2"/>
          <a:stretch/>
        </p:blipFill>
        <p:spPr>
          <a:xfrm>
            <a:off x="6429240" y="30272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" descr=""/>
          <p:cNvPicPr/>
          <p:nvPr/>
        </p:nvPicPr>
        <p:blipFill>
          <a:blip r:embed="rId3"/>
          <a:stretch/>
        </p:blipFill>
        <p:spPr>
          <a:xfrm>
            <a:off x="6450120" y="11080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다른 도형 그리기 사례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54" name="직사각형 4"/>
          <p:cNvSpPr/>
          <p:nvPr/>
        </p:nvSpPr>
        <p:spPr>
          <a:xfrm>
            <a:off x="6715080" y="1571760"/>
            <a:ext cx="785880" cy="785520"/>
          </a:xfrm>
          <a:prstGeom prst="rect">
            <a:avLst/>
          </a:prstGeom>
          <a:noFill/>
          <a:ln w="93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TextBox 5"/>
          <p:cNvSpPr/>
          <p:nvPr/>
        </p:nvSpPr>
        <p:spPr>
          <a:xfrm>
            <a:off x="6134040" y="1357200"/>
            <a:ext cx="66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(20,20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오른쪽 중괄호 6"/>
          <p:cNvSpPr/>
          <p:nvPr/>
        </p:nvSpPr>
        <p:spPr>
          <a:xfrm>
            <a:off x="7500960" y="1571760"/>
            <a:ext cx="142920" cy="785520"/>
          </a:xfrm>
          <a:custGeom>
            <a:avLst/>
            <a:gdLst>
              <a:gd name="textAreaLeft" fmla="*/ 0 w 142920"/>
              <a:gd name="textAreaRight" fmla="*/ 51480 w 142920"/>
              <a:gd name="textAreaTop" fmla="*/ 30600 h 785520"/>
              <a:gd name="textAreaBottom" fmla="*/ 754920 h 78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50"/>
                  <a:pt x="10800" y="2700"/>
                </a:cubicBezTo>
                <a:lnTo>
                  <a:pt x="10800" y="8100"/>
                </a:lnTo>
                <a:cubicBezTo>
                  <a:pt x="10800" y="9450"/>
                  <a:pt x="16200" y="10800"/>
                  <a:pt x="21600" y="10800"/>
                </a:cubicBezTo>
                <a:cubicBezTo>
                  <a:pt x="16200" y="10800"/>
                  <a:pt x="10800" y="12150"/>
                  <a:pt x="10800" y="13500"/>
                </a:cubicBezTo>
                <a:lnTo>
                  <a:pt x="10800" y="18900"/>
                </a:lnTo>
                <a:cubicBezTo>
                  <a:pt x="10800" y="20250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오른쪽 중괄호 7"/>
          <p:cNvSpPr/>
          <p:nvPr/>
        </p:nvSpPr>
        <p:spPr>
          <a:xfrm rot="16200000">
            <a:off x="7036560" y="1107000"/>
            <a:ext cx="142920" cy="785880"/>
          </a:xfrm>
          <a:custGeom>
            <a:avLst/>
            <a:gdLst>
              <a:gd name="textAreaLeft" fmla="*/ 0 w 142920"/>
              <a:gd name="textAreaRight" fmla="*/ 51480 w 142920"/>
              <a:gd name="textAreaTop" fmla="*/ 30600 h 785880"/>
              <a:gd name="textAreaBottom" fmla="*/ 7552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50"/>
                  <a:pt x="10800" y="2700"/>
                </a:cubicBezTo>
                <a:lnTo>
                  <a:pt x="10800" y="8100"/>
                </a:lnTo>
                <a:cubicBezTo>
                  <a:pt x="10800" y="9450"/>
                  <a:pt x="16200" y="10800"/>
                  <a:pt x="21600" y="10800"/>
                </a:cubicBezTo>
                <a:cubicBezTo>
                  <a:pt x="16200" y="10800"/>
                  <a:pt x="10800" y="12150"/>
                  <a:pt x="10800" y="13500"/>
                </a:cubicBezTo>
                <a:lnTo>
                  <a:pt x="10800" y="18900"/>
                </a:lnTo>
                <a:cubicBezTo>
                  <a:pt x="10800" y="20250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7497360" y="15001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80x8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TextBox 11"/>
          <p:cNvSpPr/>
          <p:nvPr/>
        </p:nvSpPr>
        <p:spPr>
          <a:xfrm>
            <a:off x="6134040" y="3286080"/>
            <a:ext cx="66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(20,20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0" name="오른쪽 중괄호 13"/>
          <p:cNvSpPr/>
          <p:nvPr/>
        </p:nvSpPr>
        <p:spPr>
          <a:xfrm rot="16200000">
            <a:off x="7006320" y="3035880"/>
            <a:ext cx="142560" cy="785880"/>
          </a:xfrm>
          <a:custGeom>
            <a:avLst/>
            <a:gdLst>
              <a:gd name="textAreaLeft" fmla="*/ 0 w 142560"/>
              <a:gd name="textAreaRight" fmla="*/ 51480 w 142560"/>
              <a:gd name="textAreaTop" fmla="*/ 30600 h 785880"/>
              <a:gd name="textAreaBottom" fmla="*/ 7552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50"/>
                  <a:pt x="10800" y="2700"/>
                </a:cubicBezTo>
                <a:lnTo>
                  <a:pt x="10800" y="8100"/>
                </a:lnTo>
                <a:cubicBezTo>
                  <a:pt x="10800" y="9450"/>
                  <a:pt x="16200" y="10800"/>
                  <a:pt x="21600" y="10800"/>
                </a:cubicBezTo>
                <a:cubicBezTo>
                  <a:pt x="16200" y="10800"/>
                  <a:pt x="10800" y="12150"/>
                  <a:pt x="10800" y="13500"/>
                </a:cubicBezTo>
                <a:lnTo>
                  <a:pt x="10800" y="18900"/>
                </a:lnTo>
                <a:cubicBezTo>
                  <a:pt x="10800" y="20250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1" name="TextBox 14"/>
          <p:cNvSpPr/>
          <p:nvPr/>
        </p:nvSpPr>
        <p:spPr>
          <a:xfrm>
            <a:off x="7497360" y="342900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80x8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TextBox 26"/>
          <p:cNvSpPr/>
          <p:nvPr/>
        </p:nvSpPr>
        <p:spPr>
          <a:xfrm>
            <a:off x="6276960" y="5214960"/>
            <a:ext cx="66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(20,20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직사각형 27"/>
          <p:cNvSpPr/>
          <p:nvPr/>
        </p:nvSpPr>
        <p:spPr>
          <a:xfrm>
            <a:off x="6715080" y="5438880"/>
            <a:ext cx="1143000" cy="785880"/>
          </a:xfrm>
          <a:prstGeom prst="rect">
            <a:avLst/>
          </a:prstGeom>
          <a:noFill/>
          <a:ln w="93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오른쪽 중괄호 29"/>
          <p:cNvSpPr/>
          <p:nvPr/>
        </p:nvSpPr>
        <p:spPr>
          <a:xfrm>
            <a:off x="7929720" y="6000840"/>
            <a:ext cx="142560" cy="214200"/>
          </a:xfrm>
          <a:custGeom>
            <a:avLst/>
            <a:gdLst>
              <a:gd name="textAreaLeft" fmla="*/ 0 w 142560"/>
              <a:gd name="textAreaRight" fmla="*/ 51480 w 142560"/>
              <a:gd name="textAreaTop" fmla="*/ 30600 h 214200"/>
              <a:gd name="textAreaBottom" fmla="*/ 1836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950"/>
                  <a:pt x="10800" y="9900"/>
                </a:cubicBezTo>
                <a:lnTo>
                  <a:pt x="10800" y="900"/>
                </a:lnTo>
                <a:cubicBezTo>
                  <a:pt x="10800" y="5850"/>
                  <a:pt x="16200" y="10800"/>
                  <a:pt x="21600" y="10800"/>
                </a:cubicBezTo>
                <a:cubicBezTo>
                  <a:pt x="16200" y="10800"/>
                  <a:pt x="10800" y="15750"/>
                  <a:pt x="10800" y="20700"/>
                </a:cubicBezTo>
                <a:lnTo>
                  <a:pt x="10800" y="11700"/>
                </a:lnTo>
                <a:cubicBezTo>
                  <a:pt x="10800" y="16650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오른쪽 중괄호 30"/>
          <p:cNvSpPr/>
          <p:nvPr/>
        </p:nvSpPr>
        <p:spPr>
          <a:xfrm flipV="1" rot="5400000">
            <a:off x="7715160" y="6286320"/>
            <a:ext cx="142560" cy="142920"/>
          </a:xfrm>
          <a:custGeom>
            <a:avLst/>
            <a:gdLst>
              <a:gd name="textAreaLeft" fmla="*/ 0 w 142560"/>
              <a:gd name="textAreaRight" fmla="*/ 51480 w 142560"/>
              <a:gd name="textAreaTop" fmla="*/ 30600 h 142920"/>
              <a:gd name="textAreaBottom" fmla="*/ 1123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425"/>
                  <a:pt x="10800" y="14850"/>
                </a:cubicBezTo>
                <a:lnTo>
                  <a:pt x="10800" y="-4050"/>
                </a:lnTo>
                <a:cubicBezTo>
                  <a:pt x="10800" y="3375"/>
                  <a:pt x="16200" y="10800"/>
                  <a:pt x="21600" y="10800"/>
                </a:cubicBezTo>
                <a:cubicBezTo>
                  <a:pt x="16200" y="10800"/>
                  <a:pt x="10800" y="18225"/>
                  <a:pt x="10800" y="25650"/>
                </a:cubicBezTo>
                <a:lnTo>
                  <a:pt x="10800" y="6750"/>
                </a:lnTo>
                <a:cubicBezTo>
                  <a:pt x="10800" y="14175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TextBox 31"/>
          <p:cNvSpPr/>
          <p:nvPr/>
        </p:nvSpPr>
        <p:spPr>
          <a:xfrm>
            <a:off x="7710120" y="528624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120x8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TextBox 32"/>
          <p:cNvSpPr/>
          <p:nvPr/>
        </p:nvSpPr>
        <p:spPr>
          <a:xfrm>
            <a:off x="8000640" y="600084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TextBox 33"/>
          <p:cNvSpPr/>
          <p:nvPr/>
        </p:nvSpPr>
        <p:spPr>
          <a:xfrm>
            <a:off x="7643520" y="635796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9" name="직사각형 34"/>
          <p:cNvSpPr/>
          <p:nvPr/>
        </p:nvSpPr>
        <p:spPr>
          <a:xfrm>
            <a:off x="2000160" y="1143000"/>
            <a:ext cx="3571920" cy="1554120"/>
          </a:xfrm>
          <a:prstGeom prst="rect">
            <a:avLst/>
          </a:prstGeom>
          <a:noFill/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lass MyPanel extends JPanel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void paintComponent(Graphics g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uper.paintComponent(g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.setColor(Color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RED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200" spc="-1" strike="noStrike">
                <a:solidFill>
                  <a:srgbClr val="ff0000"/>
                </a:solidFill>
                <a:latin typeface="Tw Cen MT"/>
              </a:rPr>
              <a:t>g.drawOval(20,20,80,8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직사각형 35"/>
          <p:cNvSpPr/>
          <p:nvPr/>
        </p:nvSpPr>
        <p:spPr>
          <a:xfrm>
            <a:off x="2000160" y="3071880"/>
            <a:ext cx="3571920" cy="1554120"/>
          </a:xfrm>
          <a:prstGeom prst="rect">
            <a:avLst/>
          </a:prstGeom>
          <a:noFill/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lass MyPanel extends JPanel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void paintComponent(Graphics g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uper.paintComponent(g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.setColor(Color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RED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200" spc="-1" strike="noStrike">
                <a:solidFill>
                  <a:srgbClr val="ff0000"/>
                </a:solidFill>
                <a:latin typeface="Tw Cen MT"/>
              </a:rPr>
              <a:t>g.drawRect(20,20,80,8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직사각형 36"/>
          <p:cNvSpPr/>
          <p:nvPr/>
        </p:nvSpPr>
        <p:spPr>
          <a:xfrm>
            <a:off x="2000160" y="5072040"/>
            <a:ext cx="3571920" cy="1554120"/>
          </a:xfrm>
          <a:prstGeom prst="rect">
            <a:avLst/>
          </a:prstGeom>
          <a:noFill/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lass MyPanel extends JPanel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void paintComponent(Graphics g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uper.paintComponent(g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.setColor(Color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RED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200" spc="-1" strike="noStrike">
                <a:solidFill>
                  <a:srgbClr val="ff0000"/>
                </a:solidFill>
                <a:latin typeface="Tw Cen MT"/>
              </a:rPr>
              <a:t>g.drawRoundRect(20,20,120,80,40,6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오른쪽 중괄호 28"/>
          <p:cNvSpPr/>
          <p:nvPr/>
        </p:nvSpPr>
        <p:spPr>
          <a:xfrm>
            <a:off x="7500960" y="3479760"/>
            <a:ext cx="142920" cy="785880"/>
          </a:xfrm>
          <a:custGeom>
            <a:avLst/>
            <a:gdLst>
              <a:gd name="textAreaLeft" fmla="*/ 0 w 142920"/>
              <a:gd name="textAreaRight" fmla="*/ 51480 w 142920"/>
              <a:gd name="textAreaTop" fmla="*/ 30600 h 785880"/>
              <a:gd name="textAreaBottom" fmla="*/ 7552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50"/>
                  <a:pt x="10800" y="2700"/>
                </a:cubicBezTo>
                <a:lnTo>
                  <a:pt x="10800" y="8100"/>
                </a:lnTo>
                <a:cubicBezTo>
                  <a:pt x="10800" y="9450"/>
                  <a:pt x="16200" y="10800"/>
                  <a:pt x="21600" y="10800"/>
                </a:cubicBezTo>
                <a:cubicBezTo>
                  <a:pt x="16200" y="10800"/>
                  <a:pt x="10800" y="12150"/>
                  <a:pt x="10800" y="13500"/>
                </a:cubicBezTo>
                <a:lnTo>
                  <a:pt x="10800" y="18900"/>
                </a:lnTo>
                <a:cubicBezTo>
                  <a:pt x="10800" y="20250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슬라이드 번호 개체 틀 24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F1BA-01B5-410D-8437-CD4E5E86E7A3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Graphics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의 원호와 폐다각형 그리기 메소드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12720" y="1285560"/>
            <a:ext cx="815328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void drawArc(int x, int y, int w, int h, int</a:t>
            </a: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startAngle, int arcAngle)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x1,y1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에서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wxh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크기의 사각형에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내접하는 원호를 그린다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원호의 시작 각도는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startAngle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원호 각도는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arcAngle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원호는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3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시 방향을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도의 기점에서 시작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arcAngle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이 양수이면 반시계방향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음수이면 시계방향으로 그리기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void drawPolygon(int []x, int []y, int n)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연결된 폐다각형을 그리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다각형의 점들은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x, y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배열에서 지정됨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x[0], y[0]),,(x[n-1], y[n-1]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의 총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n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개의 점을 연결함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6" name="슬라이드 번호 개체 틀 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CC8A-DC05-4D03-8587-0A1124D31226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3" descr=""/>
          <p:cNvPicPr/>
          <p:nvPr/>
        </p:nvPicPr>
        <p:blipFill>
          <a:blip r:embed="rId1"/>
          <a:stretch/>
        </p:blipFill>
        <p:spPr>
          <a:xfrm>
            <a:off x="6391440" y="3716280"/>
            <a:ext cx="1904760" cy="28576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2" descr=""/>
          <p:cNvPicPr/>
          <p:nvPr/>
        </p:nvPicPr>
        <p:blipFill>
          <a:blip r:embed="rId2"/>
          <a:stretch/>
        </p:blipFill>
        <p:spPr>
          <a:xfrm>
            <a:off x="6351480" y="480960"/>
            <a:ext cx="1905120" cy="285768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원호와 폐다각형 그리기 사례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7657920" y="192888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0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도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6575040" y="1143000"/>
            <a:ext cx="13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tartAngle=90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도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7086600" y="2786040"/>
            <a:ext cx="128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arcAngle=270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도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Text Box 12"/>
          <p:cNvSpPr/>
          <p:nvPr/>
        </p:nvSpPr>
        <p:spPr>
          <a:xfrm>
            <a:off x="5990400" y="150012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(20,100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직선 연결선 9"/>
          <p:cNvSpPr/>
          <p:nvPr/>
        </p:nvSpPr>
        <p:spPr>
          <a:xfrm flipH="1">
            <a:off x="7000920" y="1428840"/>
            <a:ext cx="1440" cy="642960"/>
          </a:xfrm>
          <a:prstGeom prst="line">
            <a:avLst/>
          </a:prstGeom>
          <a:ln w="10080">
            <a:solidFill>
              <a:srgbClr val="558bb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직선 연결선 10"/>
          <p:cNvSpPr/>
          <p:nvPr/>
        </p:nvSpPr>
        <p:spPr>
          <a:xfrm flipV="1">
            <a:off x="7000920" y="2071440"/>
            <a:ext cx="642960" cy="4680"/>
          </a:xfrm>
          <a:prstGeom prst="line">
            <a:avLst/>
          </a:prstGeom>
          <a:ln w="10080">
            <a:solidFill>
              <a:srgbClr val="558b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직선 연결선 11"/>
          <p:cNvSpPr/>
          <p:nvPr/>
        </p:nvSpPr>
        <p:spPr>
          <a:xfrm flipH="1" flipV="1">
            <a:off x="7286400" y="2357280"/>
            <a:ext cx="142920" cy="500400"/>
          </a:xfrm>
          <a:prstGeom prst="line">
            <a:avLst/>
          </a:prstGeom>
          <a:ln w="10080">
            <a:solidFill>
              <a:srgbClr val="558b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직사각형 12"/>
          <p:cNvSpPr/>
          <p:nvPr/>
        </p:nvSpPr>
        <p:spPr>
          <a:xfrm>
            <a:off x="6615000" y="1714680"/>
            <a:ext cx="779400" cy="785520"/>
          </a:xfrm>
          <a:prstGeom prst="rect">
            <a:avLst/>
          </a:prstGeom>
          <a:noFill/>
          <a:ln w="9360">
            <a:solidFill>
              <a:srgbClr val="558bb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8" name="Text Box 12"/>
          <p:cNvSpPr/>
          <p:nvPr/>
        </p:nvSpPr>
        <p:spPr>
          <a:xfrm>
            <a:off x="6068520" y="242892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80x80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Text Box 12"/>
          <p:cNvSpPr/>
          <p:nvPr/>
        </p:nvSpPr>
        <p:spPr>
          <a:xfrm>
            <a:off x="6848280" y="4143240"/>
            <a:ext cx="66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(80,40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Text Box 12"/>
          <p:cNvSpPr/>
          <p:nvPr/>
        </p:nvSpPr>
        <p:spPr>
          <a:xfrm>
            <a:off x="6204960" y="492912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(40,120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6847920" y="592920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(80,200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Text Box 12"/>
          <p:cNvSpPr/>
          <p:nvPr/>
        </p:nvSpPr>
        <p:spPr>
          <a:xfrm>
            <a:off x="7489440" y="492912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(120,120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직사각형 33"/>
          <p:cNvSpPr/>
          <p:nvPr/>
        </p:nvSpPr>
        <p:spPr>
          <a:xfrm>
            <a:off x="1928880" y="1285920"/>
            <a:ext cx="3571920" cy="1554120"/>
          </a:xfrm>
          <a:prstGeom prst="rect">
            <a:avLst/>
          </a:prstGeom>
          <a:noFill/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lass MyPanel extends JPanel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void paintComponent(Graphics g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uper.paintComponent(g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.setColor(Color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RED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200" spc="-1" strike="noStrike">
                <a:solidFill>
                  <a:srgbClr val="ff0000"/>
                </a:solidFill>
                <a:latin typeface="Tw Cen MT"/>
              </a:rPr>
              <a:t>g.drawArc(20,100,80,80,90,27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직사각형 34"/>
          <p:cNvSpPr/>
          <p:nvPr/>
        </p:nvSpPr>
        <p:spPr>
          <a:xfrm>
            <a:off x="1928880" y="4071960"/>
            <a:ext cx="3571920" cy="2101680"/>
          </a:xfrm>
          <a:prstGeom prst="rect">
            <a:avLst/>
          </a:prstGeom>
          <a:noFill/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lass MyPanel extends JPanel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void paintComponent(Graphics g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uper.paintComponent(g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.setColor(Color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RED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nt []x = {80,40,80,120}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nt []y = {40,120,200,120};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Tw Cen MT"/>
              </a:rPr>
              <a:t>	</a:t>
            </a:r>
            <a:r>
              <a:rPr b="0" i="1" lang="en-US" sz="1200" spc="-1" strike="noStrike">
                <a:solidFill>
                  <a:srgbClr val="ff0000"/>
                </a:solidFill>
                <a:latin typeface="Tw Cen MT"/>
              </a:rPr>
              <a:t>	</a:t>
            </a:r>
            <a:r>
              <a:rPr b="0" i="1" lang="en-US" sz="1200" spc="-1" strike="noStrike">
                <a:solidFill>
                  <a:srgbClr val="ff0000"/>
                </a:solidFill>
                <a:latin typeface="Tw Cen MT"/>
              </a:rPr>
              <a:t>	</a:t>
            </a:r>
            <a:r>
              <a:rPr b="0" i="1" lang="en-US" sz="1200" spc="-1" strike="noStrike">
                <a:solidFill>
                  <a:srgbClr val="ff0000"/>
                </a:solidFill>
                <a:latin typeface="Tw Cen MT"/>
              </a:rPr>
              <a:t>g.drawPolygon(x, y, 4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슬라이드 번호 개체 틀 19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0B2A-DF9C-43B8-9648-77D0AC337333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Graphics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의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도형 칠하기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도형 칠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도형을 그리고 그 내부를 칠하는 기능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도형의 외곽선과 내부를 따로 칠하는 기능은 없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도형 칠하기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위한 메소드는 도형 그리기 메소드 명에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draw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를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ll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로 대치하면 된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인자는 동일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) drawRect() -&gt; fillRect(), 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drawArc() -&gt; fillArc()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칠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메소드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void fillOval(int x1, int y1, int w, int h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void fillRect(int x1, int y1, int w, int h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void fillRoundRect(int x1, int y1, int w, int h, int arcWidth, int arcHeight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void fillArc(int x, int y, int w, int h, int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tartAngle, int arcAngle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void fillPolygon(int []x, int []y, int n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8" name="슬라이드 번호 개체 틀 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B1E6-FD4B-41F1-9C0F-8360DA97F492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12-4 :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도형 칠하기 예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00" name="직사각형 4"/>
          <p:cNvSpPr/>
          <p:nvPr/>
        </p:nvSpPr>
        <p:spPr>
          <a:xfrm>
            <a:off x="5214960" y="142920"/>
            <a:ext cx="3714840" cy="702972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class GraphicsFillEx extends JFrame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ainer contentPan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raphicsFillEx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Title("fillXXX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사용  예제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MyPanel panel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MyPanel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panel, BorderLayout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CENTER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Size(100, 35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Visible(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lass MyPanel extends JPanel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void paintComponent(Graphics g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uper.paintComponent(g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.setColor(Color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RED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g.fillRect(10,10,50,5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.setColor(Color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BL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g.fillOval(10,70,50,5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.setColor(Color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GREEN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g.fillRoundRect(10,130,50,50, 20,2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.setColor(Color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MAGENTA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g.fillArc(10, 190, 50, 50, 0, 27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.setColor(Color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ORANG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nt []x ={30,10,30,60}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nt []y ={250,275,300,275}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g.fillPolygon(x, y, 4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new GraphicsFillEx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01" name="Picture 2" descr=""/>
          <p:cNvPicPr/>
          <p:nvPr/>
        </p:nvPicPr>
        <p:blipFill>
          <a:blip r:embed="rId1"/>
          <a:stretch/>
        </p:blipFill>
        <p:spPr>
          <a:xfrm>
            <a:off x="3203640" y="3040200"/>
            <a:ext cx="1257120" cy="3333600"/>
          </a:xfrm>
          <a:prstGeom prst="rect">
            <a:avLst/>
          </a:prstGeom>
          <a:ln w="0">
            <a:noFill/>
          </a:ln>
        </p:spPr>
      </p:pic>
      <p:sp>
        <p:nvSpPr>
          <p:cNvPr id="602" name="슬라이드 번호 개체 틀 5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4768-190A-4B11-83A3-AC43FDF2D181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3" name="직사각형 6"/>
          <p:cNvSpPr/>
          <p:nvPr/>
        </p:nvSpPr>
        <p:spPr>
          <a:xfrm>
            <a:off x="571680" y="1285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b22"/>
                </a:solidFill>
                <a:latin typeface="HY강B"/>
                <a:ea typeface="HY강B"/>
              </a:rPr>
              <a:t>Graphics</a:t>
            </a:r>
            <a:r>
              <a:rPr b="0" lang="ko-KR" sz="1800" spc="-1" strike="noStrike">
                <a:solidFill>
                  <a:srgbClr val="b95b22"/>
                </a:solidFill>
                <a:latin typeface="HY강B"/>
                <a:ea typeface="HY강B"/>
              </a:rPr>
              <a:t>의 칠하기 메소드를 이용하여 다음 그림과 같은 패널을 작성하라</a:t>
            </a:r>
            <a:r>
              <a:rPr b="0" lang="en-US" sz="1800" spc="-1" strike="noStrike">
                <a:solidFill>
                  <a:srgbClr val="b95b22"/>
                </a:solidFill>
                <a:latin typeface="HY강B"/>
                <a:ea typeface="HY강B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스윙에서 이미지를 그리는 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2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가지 방법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1. JLabel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컴포넌트를 이용한 이미지 출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Label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컴포넌트가 이미지를 자신의 영역에 그린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장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이미지 그리기가 간편하고 쉬운 장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단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이미지의 원본 크기 그대로 그리므로 이미지의 크기 조절 불가능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2. JPanel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Graphic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메소드를 이용한 이미지 출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장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이미지의 원본 크기와 다르게 그리기 가능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단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Graphics.drawImage(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메소드를 호출하여 개발자가 직접 이미지 그리기 실행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6" name="직사각형 4"/>
          <p:cNvSpPr/>
          <p:nvPr/>
        </p:nvSpPr>
        <p:spPr>
          <a:xfrm>
            <a:off x="1357200" y="2214720"/>
            <a:ext cx="6000840" cy="119124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mageIcon image = new ImageIcon("images/apple.jpg")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JLabel label = new JLabel(image)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anel.add(label)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슬라이드 번호 개체 틀 5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BD63-286F-443E-94F9-E8A605885B00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Graphics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로 이미지 그리기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6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개의 메소드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원본 크기로 그리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void drawImage(Image img, int x, int y, Color bgColor, ImageObserver observer)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void drawImage(Image img, int x, int y, ImageObserver observer)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크기 조절하여 그리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void drawImage(Image img, int x, int y, int width, int height, Color bgColor, ImageObserver observer)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void drawImage(Image img, int x, int y, int width, int height, ImageObserver observer)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원본의 일부분을 크기 조절하여 그리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void drawImage(Image img, int dx1, int dy1, int dx2, int dy2, int sx1, int sy1, int sx2, int sy2, Color bgColor, ImageObserver observer)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void drawImage(Image img, int dx1, int dy1, int dx2, int dy2, int sx1, int sy1, int sx2, int sy2, ImageObserver observer)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0" name="슬라이드 번호 개체 틀 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571E-2B53-45D2-BB63-71F107DC8869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이미지 그리기 샘플 코드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285480" y="1571400"/>
            <a:ext cx="414324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이미지 로딩 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: Image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객체 생성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원본 이미지를 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(20,20)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위치에 원본 크기로 그리기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고정 크기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원본 이미지를 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100x100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크기로 조절하여 그리기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고정 크기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원본 이미지를 패널에 꽉차도록 그리기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JPanel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크기로 조절하여 그리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변 크기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휴먼편지체"/>
              </a:rPr>
              <a:t>JPanel</a:t>
            </a:r>
            <a:r>
              <a:rPr b="0" lang="ko-KR" sz="1000" spc="-1" strike="noStrike">
                <a:solidFill>
                  <a:srgbClr val="000000"/>
                </a:solidFill>
                <a:latin typeface="휴먼편지체"/>
              </a:rPr>
              <a:t>의 크기가 변할 때마다 이미지의 크기도 따라서 변함</a:t>
            </a:r>
            <a:endParaRPr b="0" lang="en-US" sz="10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원본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이미지의 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(50, 0)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에서 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(150,150)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사각형 부분을 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JPanel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의 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(20,20)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에서 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(250,100)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영역에 그리기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고정 크기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3" name="TextBox 3"/>
          <p:cNvSpPr/>
          <p:nvPr/>
        </p:nvSpPr>
        <p:spPr>
          <a:xfrm>
            <a:off x="4429080" y="1357200"/>
            <a:ext cx="4429080" cy="115956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//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그리고자 하는 이미지가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mage/image0.jpg”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인 경우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mageIcon icon = new ImageIcon(“image/image0.jpg”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mage img = icon.getImage(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4" name="TextBox 4"/>
          <p:cNvSpPr/>
          <p:nvPr/>
        </p:nvSpPr>
        <p:spPr>
          <a:xfrm>
            <a:off x="4446720" y="2421000"/>
            <a:ext cx="4411440" cy="94644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public void paintComponent(Graphics g)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uper.paintComponent(g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g.drawImage(img, 20, 20, this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TextBox 5"/>
          <p:cNvSpPr/>
          <p:nvPr/>
        </p:nvSpPr>
        <p:spPr>
          <a:xfrm>
            <a:off x="4429080" y="3500280"/>
            <a:ext cx="4429080" cy="94644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public void paintComponent(Graphics g)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uper.paintComponent(g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g.drawImage(img, 20, 20, 100, 100, this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TextBox 7"/>
          <p:cNvSpPr/>
          <p:nvPr/>
        </p:nvSpPr>
        <p:spPr>
          <a:xfrm>
            <a:off x="4429080" y="4572000"/>
            <a:ext cx="4429080" cy="115956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public void paintComponent(Graphics g)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uper.paintComponent(g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g.drawImage(img, 0, 0, getWidth(), getHeight(), this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7" name="TextBox 8"/>
          <p:cNvSpPr/>
          <p:nvPr/>
        </p:nvSpPr>
        <p:spPr>
          <a:xfrm>
            <a:off x="4429080" y="5643720"/>
            <a:ext cx="4429080" cy="115956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public void paintComponent(Graphics g)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uper.paintComponent(g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g.drawImage(img, 20,20,250,100,50,0,150,150, this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8" name="슬라이드 번호 개체 틀 9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7F5D-F2B9-4640-A4BE-285EC0A9F6DF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9" name="바닥글 개체 틀 10"/>
          <p:cNvSpPr/>
          <p:nvPr/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명품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JAVA Programm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571680" y="267012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12-5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원본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이미지 그리기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22" name="직사각형 3"/>
          <p:cNvSpPr/>
          <p:nvPr/>
        </p:nvSpPr>
        <p:spPr>
          <a:xfrm>
            <a:off x="3929040" y="857160"/>
            <a:ext cx="4786200" cy="556956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class GraphicsDrawImageEx1 extends JFrame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ainer contentPan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raphicsDrawImageEx1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Title("drawImage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사용  예제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1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MyPanel panel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MyPanel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panel, BorderLayout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CENTER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Size(300, 40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Visible(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lass MyPanel extends JPanel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ImageIcon imageIcon = new  ImageIcon("images/image0.jpg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Image image = imageIcon.getImag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void paintComponent(Graphics g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uper.paintComponent(g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g.drawImage(image, 20,20, this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new GraphicsDrawImageEx1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623" name="직선 화살표 연결선 6"/>
          <p:cNvCxnSpPr/>
          <p:nvPr/>
        </p:nvCxnSpPr>
        <p:spPr>
          <a:xfrm flipH="1">
            <a:off x="839160" y="2285640"/>
            <a:ext cx="572040" cy="85788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4" name="TextBox 7"/>
          <p:cNvSpPr/>
          <p:nvPr/>
        </p:nvSpPr>
        <p:spPr>
          <a:xfrm>
            <a:off x="1328040" y="2071800"/>
            <a:ext cx="8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(20,20)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슬라이드 번호 개체 틀 8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ADD1-54D0-48DC-ABFB-C895F59DB53A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스윙 컴포넌트 그리기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, paintComponent()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메소드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12720" y="1285560"/>
            <a:ext cx="81532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스윙의 기본 철학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모든 컴포넌트는 자신의 모양을 스스로 그린다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컨테이너는 자신을 그린 후 자식들에게 그리기 지시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public void paintComponent(Graphics g)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스윙 컴포넌트가 자신의 모양을 그리는 메소드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JComponent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의 메소드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모든 스윙 컴포넌트가 이 메소드 소유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컴포넌트가 그려져야 하는 시점마다 호출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편지체"/>
              </a:rPr>
              <a:t>컴포넌트의 크기가 변경되거나</a:t>
            </a:r>
            <a:r>
              <a:rPr b="0" lang="en-US" sz="1400" spc="-1" strike="noStrike">
                <a:solidFill>
                  <a:srgbClr val="000000"/>
                </a:solidFill>
                <a:latin typeface="휴먼편지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휴먼편지체"/>
              </a:rPr>
              <a:t>컴포넌트의 위치가 변경되거나 컴포넌트가 가려졌던 것이 사라지는 등</a:t>
            </a:r>
            <a:endParaRPr b="0" lang="en-US" sz="14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Graphics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객체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경로명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java.awt.Graphics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컴포넌트를 위한 그래픽 컨텍스트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편지체"/>
              </a:rPr>
              <a:t>그리기에 필요한 모든 정보와 메소드를 제공하는 객체</a:t>
            </a:r>
            <a:endParaRPr b="0" lang="en-US" sz="14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편지체"/>
              </a:rPr>
              <a:t>색지정</a:t>
            </a:r>
            <a:r>
              <a:rPr b="0" lang="en-US" sz="1400" spc="-1" strike="noStrike">
                <a:solidFill>
                  <a:srgbClr val="000000"/>
                </a:solidFill>
                <a:latin typeface="휴먼편지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휴먼편지체"/>
              </a:rPr>
              <a:t>도형그리기</a:t>
            </a:r>
            <a:r>
              <a:rPr b="0" lang="en-US" sz="1400" spc="-1" strike="noStrike">
                <a:solidFill>
                  <a:srgbClr val="000000"/>
                </a:solidFill>
                <a:latin typeface="휴먼편지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휴먼편지체"/>
              </a:rPr>
              <a:t>클리핑</a:t>
            </a:r>
            <a:r>
              <a:rPr b="0" lang="en-US" sz="1400" spc="-1" strike="noStrike">
                <a:solidFill>
                  <a:srgbClr val="000000"/>
                </a:solidFill>
                <a:latin typeface="휴먼편지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휴먼편지체"/>
              </a:rPr>
              <a:t>이미지 그리기</a:t>
            </a:r>
            <a:r>
              <a:rPr b="0" lang="en-US" sz="1400" spc="-1" strike="noStrike">
                <a:solidFill>
                  <a:srgbClr val="000000"/>
                </a:solidFill>
                <a:latin typeface="휴먼편지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편지체"/>
              </a:rPr>
              <a:t>등을 위한 메소드 제공</a:t>
            </a:r>
            <a:endParaRPr b="0" lang="en-US" sz="14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사용자가 원하는 모양을 그리고자 할 때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paintComponent(Graphic g)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를 오버라이딩하여 재작성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직사각형 3"/>
          <p:cNvSpPr/>
          <p:nvPr/>
        </p:nvSpPr>
        <p:spPr>
          <a:xfrm>
            <a:off x="1357200" y="5429160"/>
            <a:ext cx="4572000" cy="146556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ublic void paintComponent(Graphics g) {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uper.paintComponent(g);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... 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필요한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그리기 코드 작성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슬라이드 번호 개체 틀 4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24D2-7CE7-4C55-A514-D01AA3BE8BAC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12-6 : JPanel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크기로 이미지 그리기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27" name="직사각형 5"/>
          <p:cNvSpPr/>
          <p:nvPr/>
        </p:nvSpPr>
        <p:spPr>
          <a:xfrm>
            <a:off x="4214880" y="1071720"/>
            <a:ext cx="4786200" cy="575208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class GraphicsDrawImageEx2 extends JFrame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ainer contentPan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raphicsDrawImageEx2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Title("drawImage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사용  예제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2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MyPanel panel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MyPanel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panel, BorderLayout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CENTER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Size(300, 40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Visible(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lass MyPanel extends JPanel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ageIcon imageIcon = new  ImageIcon("images/image0.jpg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age image = imageIcon.getImag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void paintComponent(Graphics g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uper.paintComponent(g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g.drawImage(image, 0, 0, this.getWidth(), this.getHeight(), this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new GraphicsDrawImageEx2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28" name="Picture 2" descr=""/>
          <p:cNvPicPr/>
          <p:nvPr/>
        </p:nvPicPr>
        <p:blipFill>
          <a:blip r:embed="rId1"/>
          <a:stretch/>
        </p:blipFill>
        <p:spPr>
          <a:xfrm>
            <a:off x="498600" y="981000"/>
            <a:ext cx="2857320" cy="38102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"/>
          <p:cNvPicPr/>
          <p:nvPr/>
        </p:nvPicPr>
        <p:blipFill>
          <a:blip r:embed="rId2"/>
          <a:stretch/>
        </p:blipFill>
        <p:spPr>
          <a:xfrm>
            <a:off x="473040" y="4896000"/>
            <a:ext cx="3686040" cy="1942920"/>
          </a:xfrm>
          <a:prstGeom prst="rect">
            <a:avLst/>
          </a:prstGeom>
          <a:ln w="0">
            <a:noFill/>
          </a:ln>
        </p:spPr>
      </p:pic>
      <p:sp>
        <p:nvSpPr>
          <p:cNvPr id="630" name="슬라이드 번호 개체 틀 6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1626-46AA-43EB-AFFF-0DE8C09EC47F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961920" y="388296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214800" y="228240"/>
            <a:ext cx="59292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12-7 : 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이미지의 일부분을 크기 조절하여 그리기</a:t>
            </a:r>
            <a:endParaRPr b="0" lang="en-US" sz="29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33" name="직사각형 4"/>
          <p:cNvSpPr/>
          <p:nvPr/>
        </p:nvSpPr>
        <p:spPr>
          <a:xfrm>
            <a:off x="4214880" y="1071720"/>
            <a:ext cx="4714920" cy="575208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class GraphicsDrawImageEx3 extends JFrame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ainer contentPan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raphicsDrawImageEx3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Title("drawImage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사용  예제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3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MyPanel panel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MyPanel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panel, BorderLayout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CENTER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Size(300, 40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Visible(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lass MyPanel extends JPanel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ageIcon imageIcon = new  ImageIcon("images/image0.jpg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age image = imageIcon.getImag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void paintComponent(Graphics g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uper.paintComponent(g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g.drawImage(img, 20,20,250,100,100,50,200,200, this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new GraphicsDrawImageEx3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4" name="TextBox 7"/>
          <p:cNvSpPr/>
          <p:nvPr/>
        </p:nvSpPr>
        <p:spPr>
          <a:xfrm>
            <a:off x="979200" y="4102200"/>
            <a:ext cx="66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(20,20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TextBox 13"/>
          <p:cNvSpPr/>
          <p:nvPr/>
        </p:nvSpPr>
        <p:spPr>
          <a:xfrm>
            <a:off x="2906280" y="510228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(250,100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36" name="Picture 3" descr=""/>
          <p:cNvPicPr/>
          <p:nvPr/>
        </p:nvPicPr>
        <p:blipFill>
          <a:blip r:embed="rId2"/>
          <a:stretch/>
        </p:blipFill>
        <p:spPr>
          <a:xfrm>
            <a:off x="961920" y="501480"/>
            <a:ext cx="2133720" cy="3048120"/>
          </a:xfrm>
          <a:prstGeom prst="rect">
            <a:avLst/>
          </a:prstGeom>
          <a:ln w="0">
            <a:noFill/>
          </a:ln>
        </p:spPr>
      </p:pic>
      <p:sp>
        <p:nvSpPr>
          <p:cNvPr id="637" name="직사각형 2"/>
          <p:cNvSpPr/>
          <p:nvPr/>
        </p:nvSpPr>
        <p:spPr>
          <a:xfrm>
            <a:off x="1908000" y="907920"/>
            <a:ext cx="935280" cy="1441440"/>
          </a:xfrm>
          <a:prstGeom prst="rect">
            <a:avLst/>
          </a:prstGeom>
          <a:noFill/>
          <a:ln w="28440">
            <a:solidFill>
              <a:srgbClr val="dce6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638" name="직선 화살표 연결선 27"/>
          <p:cNvCxnSpPr/>
          <p:nvPr/>
        </p:nvCxnSpPr>
        <p:spPr>
          <a:xfrm flipH="1">
            <a:off x="1202760" y="2349000"/>
            <a:ext cx="705240" cy="27536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639" name="직선 화살표 연결선 30"/>
          <p:cNvCxnSpPr/>
          <p:nvPr/>
        </p:nvCxnSpPr>
        <p:spPr>
          <a:xfrm>
            <a:off x="2843280" y="907920"/>
            <a:ext cx="558000" cy="34725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640" name="슬라이드 번호 개체 틀 10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2906-A1E9-4E22-9EE8-F29D65F7AD6B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클리핑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612720" y="1285560"/>
            <a:ext cx="81532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클리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Clipping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이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그리기</a:t>
            </a: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그리기</a:t>
            </a: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칠하기</a:t>
            </a: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이미지 그리기</a:t>
            </a: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문자열 출력 등</a:t>
            </a: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에 의해 그래픽 대상 컴포넌트 내 일정 영역에 있는 부분만 보이도록 하는 기능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그래픽 대상 컴포넌트 내 클리핑 영역에서만 그리기 연산 진행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클리핑 영역 </a:t>
            </a: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하나의 사각형 영역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643" name="그룹 3"/>
          <p:cNvGrpSpPr/>
          <p:nvPr/>
        </p:nvGrpSpPr>
        <p:grpSpPr>
          <a:xfrm>
            <a:off x="5143680" y="3000240"/>
            <a:ext cx="2392200" cy="3048120"/>
            <a:chOff x="5143680" y="3000240"/>
            <a:chExt cx="2392200" cy="3048120"/>
          </a:xfrm>
        </p:grpSpPr>
        <p:pic>
          <p:nvPicPr>
            <p:cNvPr id="644" name="Picture 2" descr=""/>
            <p:cNvPicPr/>
            <p:nvPr/>
          </p:nvPicPr>
          <p:blipFill>
            <a:blip r:embed="rId1"/>
            <a:stretch/>
          </p:blipFill>
          <p:spPr>
            <a:xfrm>
              <a:off x="5143680" y="3000240"/>
              <a:ext cx="2390400" cy="3045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45" name="직사각형 5"/>
            <p:cNvSpPr/>
            <p:nvPr/>
          </p:nvSpPr>
          <p:spPr>
            <a:xfrm>
              <a:off x="5143680" y="4440960"/>
              <a:ext cx="2390400" cy="160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6" name="직사각형 6"/>
            <p:cNvSpPr/>
            <p:nvPr/>
          </p:nvSpPr>
          <p:spPr>
            <a:xfrm>
              <a:off x="5143680" y="3102840"/>
              <a:ext cx="827640" cy="210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7" name="직사각형 7"/>
            <p:cNvSpPr/>
            <p:nvPr/>
          </p:nvSpPr>
          <p:spPr>
            <a:xfrm>
              <a:off x="5143680" y="3000600"/>
              <a:ext cx="2390400" cy="14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48" name="직사각형 8"/>
            <p:cNvSpPr/>
            <p:nvPr/>
          </p:nvSpPr>
          <p:spPr>
            <a:xfrm>
              <a:off x="7269480" y="3102840"/>
              <a:ext cx="266400" cy="176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649" name="Picture 2" descr=""/>
          <p:cNvPicPr/>
          <p:nvPr/>
        </p:nvPicPr>
        <p:blipFill>
          <a:blip r:embed="rId2"/>
          <a:stretch/>
        </p:blipFill>
        <p:spPr>
          <a:xfrm>
            <a:off x="1614600" y="3000240"/>
            <a:ext cx="2390760" cy="30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0" name="TextBox 10"/>
          <p:cNvSpPr/>
          <p:nvPr/>
        </p:nvSpPr>
        <p:spPr>
          <a:xfrm>
            <a:off x="941400" y="6143760"/>
            <a:ext cx="417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클리핑이 설정되지 않아서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전체 영역이 클리핑 영역으로 설정된 경우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1" name="TextBox 11"/>
          <p:cNvSpPr/>
          <p:nvPr/>
        </p:nvSpPr>
        <p:spPr>
          <a:xfrm>
            <a:off x="5024880" y="6143760"/>
            <a:ext cx="293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특정 사각형 영역을 클리핑 영역으로 설정된 경우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모서리가 둥근 사각형 설명선 12"/>
          <p:cNvSpPr/>
          <p:nvPr/>
        </p:nvSpPr>
        <p:spPr>
          <a:xfrm>
            <a:off x="7715160" y="2413440"/>
            <a:ext cx="1071720" cy="759960"/>
          </a:xfrm>
          <a:prstGeom prst="wedgeRoundRectCallout">
            <a:avLst>
              <a:gd name="adj1" fmla="val -112319"/>
              <a:gd name="adj2" fmla="val 48768"/>
              <a:gd name="adj3" fmla="val 16667"/>
            </a:avLst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w Cen MT"/>
              </a:rPr>
              <a:t>클리핑 영역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슬라이드 번호 개체 틀 1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01A2-D5FD-4F94-901F-EE1760058DD0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클리핑 영역 설정 메소드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Graphics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의 클리핑 메소드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void setClip(int x, in y, int w, int h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그래픽 대상 컴포넌트의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(x, y)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위치에서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wxh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의 사각형 영역을 클리핑 영역으로 지정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void clipRect(int x, in y, int w, int h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기존 클리핑 영역과 지정된 사각형 영역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((x,y)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에서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wxh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의 영역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의 교집합 영역을 새로운 클리핑 영역으로 설정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clipRect()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이 계속 불리게 되면 클리핑 영역을 계속 줄어들게 된다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6" name="슬라이드 번호 개체 틀 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4408-1ECF-4E19-9A8D-0E7AA0A00D30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571680" y="2643120"/>
            <a:ext cx="2857320" cy="381024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12-8 :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클리핑 예제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59" name="직사각형 3"/>
          <p:cNvSpPr/>
          <p:nvPr/>
        </p:nvSpPr>
        <p:spPr>
          <a:xfrm>
            <a:off x="4643280" y="357120"/>
            <a:ext cx="4214880" cy="648216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class GraphicsClipEx extends JFrame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ainer contentPan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raphicsClipEx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Title("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클리핑 예제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MyPanel panel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MyPanel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panel, BorderLayout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CENTER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Size(300, 40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Visible(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lass MyPanel extends JPanel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ageIcon icon = new ImageIcon("images/image0.jpg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age img = icon.getImag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void paintComponent(Graphics g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uper.paintComponent(g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g.setClip(50, 20, 150, 15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g.drawImage(img, getWidth(), getHeignt(), this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.setColor(Color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BL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w Cen MT"/>
              </a:rPr>
              <a:t>g.setFont(new Font("SanSerif", Font.</a:t>
            </a:r>
            <a:r>
              <a:rPr b="0" i="1" lang="fr-FR" sz="1200" spc="-1" strike="noStrike">
                <a:solidFill>
                  <a:srgbClr val="000000"/>
                </a:solidFill>
                <a:latin typeface="Tw Cen MT"/>
              </a:rPr>
              <a:t>ITALIC, 40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g.drawString("Ji Sung Park", 10, 15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new GraphicsClipEx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TextBox 11"/>
          <p:cNvSpPr/>
          <p:nvPr/>
        </p:nvSpPr>
        <p:spPr>
          <a:xfrm>
            <a:off x="634680" y="2155680"/>
            <a:ext cx="365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클리핑 영역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: (50,20)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150x150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사각형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영역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661" name="직선 화살표 연결선 13"/>
          <p:cNvCxnSpPr/>
          <p:nvPr/>
        </p:nvCxnSpPr>
        <p:spPr>
          <a:xfrm>
            <a:off x="1533600" y="2512800"/>
            <a:ext cx="72000" cy="57204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62" name="슬라이드 번호 개체 틀 6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BD98-F004-4717-816D-530E72FDA507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스윙의 페인팅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JComponent.paint(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컴포넌트 자신과 모든 자손 그리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JComponent.paint(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메소드는 다음 메소드를 순서대로 호출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Component.paintComponent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컴포넌트 자신의 모양 그리기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Component.paintBorder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컴포넌트의 외곽 그리기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Component.paintChildren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컴포넌트의 자식들 그리기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개발자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paintComponent(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를 직접 호출하면 안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aintComponent(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는 페인팅 메카니즘에 의해 자동으로 호출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5" name="슬라이드 번호 개체 틀 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AAC9-4F5C-451B-AF09-3E8661EFC9E5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스윙 컴포넌트가 그려지는 과정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grpSp>
        <p:nvGrpSpPr>
          <p:cNvPr id="667" name="직사각형 4"/>
          <p:cNvGrpSpPr/>
          <p:nvPr/>
        </p:nvGrpSpPr>
        <p:grpSpPr>
          <a:xfrm>
            <a:off x="42840" y="1384200"/>
            <a:ext cx="8131320" cy="5145120"/>
            <a:chOff x="42840" y="1384200"/>
            <a:chExt cx="8131320" cy="5145120"/>
          </a:xfrm>
        </p:grpSpPr>
        <p:pic>
          <p:nvPicPr>
            <p:cNvPr id="668" name="직사각형 4" descr=""/>
            <p:cNvPicPr/>
            <p:nvPr/>
          </p:nvPicPr>
          <p:blipFill>
            <a:blip r:embed="rId1"/>
            <a:stretch/>
          </p:blipFill>
          <p:spPr>
            <a:xfrm>
              <a:off x="42840" y="1384200"/>
              <a:ext cx="8131320" cy="51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285840" y="1628640"/>
              <a:ext cx="7643880" cy="46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w Cen MT"/>
                </a:rPr>
                <a:t>paint()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w Cen MT"/>
                </a:rPr>
                <a:t>paintComponent()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w Cen MT"/>
                </a:rPr>
                <a:t>paintBorder()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w Cen MT"/>
                </a:rPr>
                <a:t>paintChildren()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70" name="직사각형 8"/>
          <p:cNvGrpSpPr/>
          <p:nvPr/>
        </p:nvGrpSpPr>
        <p:grpSpPr>
          <a:xfrm>
            <a:off x="1103400" y="4419720"/>
            <a:ext cx="5241960" cy="1749240"/>
            <a:chOff x="1103400" y="4419720"/>
            <a:chExt cx="5241960" cy="1749240"/>
          </a:xfrm>
        </p:grpSpPr>
        <p:pic>
          <p:nvPicPr>
            <p:cNvPr id="671" name="직사각형 8" descr=""/>
            <p:cNvPicPr/>
            <p:nvPr/>
          </p:nvPicPr>
          <p:blipFill>
            <a:blip r:embed="rId2"/>
            <a:stretch/>
          </p:blipFill>
          <p:spPr>
            <a:xfrm>
              <a:off x="1103400" y="4419720"/>
              <a:ext cx="524196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1258920" y="4581360"/>
              <a:ext cx="492912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paint()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paintComponent()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paintBorder()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paintChildren</a:t>
              </a:r>
              <a:r>
                <a:rPr b="0" lang="en-US" sz="2000" spc="-1" strike="noStrike">
                  <a:solidFill>
                    <a:srgbClr val="000000"/>
                  </a:solidFill>
                  <a:latin typeface="Tw Cen MT"/>
                </a:rPr>
                <a:t>()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73" name="직사각형 96"/>
          <p:cNvGrpSpPr/>
          <p:nvPr/>
        </p:nvGrpSpPr>
        <p:grpSpPr>
          <a:xfrm>
            <a:off x="3548160" y="4857840"/>
            <a:ext cx="2528640" cy="1098360"/>
            <a:chOff x="3548160" y="4857840"/>
            <a:chExt cx="2528640" cy="1098360"/>
          </a:xfrm>
        </p:grpSpPr>
        <p:pic>
          <p:nvPicPr>
            <p:cNvPr id="674" name="직사각형 96" descr=""/>
            <p:cNvPicPr/>
            <p:nvPr/>
          </p:nvPicPr>
          <p:blipFill>
            <a:blip r:embed="rId3"/>
            <a:stretch/>
          </p:blipFill>
          <p:spPr>
            <a:xfrm>
              <a:off x="3548160" y="4857840"/>
              <a:ext cx="2528640" cy="10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3635280" y="4941720"/>
              <a:ext cx="23576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paint()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paintComponent()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paintBorder()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paintChildren()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76" name="직사각형 6"/>
          <p:cNvGrpSpPr/>
          <p:nvPr/>
        </p:nvGrpSpPr>
        <p:grpSpPr>
          <a:xfrm>
            <a:off x="2755800" y="1755720"/>
            <a:ext cx="5248440" cy="2840040"/>
            <a:chOff x="2755800" y="1755720"/>
            <a:chExt cx="5248440" cy="2840040"/>
          </a:xfrm>
        </p:grpSpPr>
        <p:pic>
          <p:nvPicPr>
            <p:cNvPr id="677" name="직사각형 6" descr=""/>
            <p:cNvPicPr/>
            <p:nvPr/>
          </p:nvPicPr>
          <p:blipFill>
            <a:blip r:embed="rId4"/>
            <a:stretch/>
          </p:blipFill>
          <p:spPr>
            <a:xfrm>
              <a:off x="2755800" y="1755720"/>
              <a:ext cx="524844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"/>
            <p:cNvSpPr/>
            <p:nvPr/>
          </p:nvSpPr>
          <p:spPr>
            <a:xfrm>
              <a:off x="2916360" y="1916280"/>
              <a:ext cx="4929120" cy="25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paint()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paintComponent()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paintBorder()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</a:rPr>
                <a:t>paintChildren</a:t>
              </a:r>
              <a:r>
                <a:rPr b="0" lang="en-US" sz="2000" spc="-1" strike="noStrike">
                  <a:solidFill>
                    <a:srgbClr val="000000"/>
                  </a:solidFill>
                  <a:latin typeface="Tw Cen MT"/>
                </a:rPr>
                <a:t>()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79" name="직사각형 7"/>
          <p:cNvGrpSpPr/>
          <p:nvPr/>
        </p:nvGrpSpPr>
        <p:grpSpPr>
          <a:xfrm>
            <a:off x="5205240" y="2120760"/>
            <a:ext cx="2530800" cy="1098720"/>
            <a:chOff x="5205240" y="2120760"/>
            <a:chExt cx="2530800" cy="1098720"/>
          </a:xfrm>
        </p:grpSpPr>
        <p:pic>
          <p:nvPicPr>
            <p:cNvPr id="680" name="직사각형 7" descr=""/>
            <p:cNvPicPr/>
            <p:nvPr/>
          </p:nvPicPr>
          <p:blipFill>
            <a:blip r:embed="rId5"/>
            <a:stretch/>
          </p:blipFill>
          <p:spPr>
            <a:xfrm>
              <a:off x="5205240" y="2120760"/>
              <a:ext cx="2530800" cy="10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"/>
            <p:cNvSpPr/>
            <p:nvPr/>
          </p:nvSpPr>
          <p:spPr>
            <a:xfrm>
              <a:off x="5292720" y="2205000"/>
              <a:ext cx="235728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paint()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paintComponent()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paintBorder()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paintChildren()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cxnSp>
        <p:nvCxnSpPr>
          <p:cNvPr id="682" name="구부러진 연결선 11"/>
          <p:cNvCxnSpPr/>
          <p:nvPr/>
        </p:nvCxnSpPr>
        <p:spPr>
          <a:xfrm flipH="1" rot="16200000">
            <a:off x="498960" y="2000160"/>
            <a:ext cx="215280" cy="214920"/>
          </a:xfrm>
          <a:prstGeom prst="curvedConnector5">
            <a:avLst>
              <a:gd name="adj1" fmla="val 100167"/>
              <a:gd name="adj2" fmla="val 50000"/>
              <a:gd name="adj3" fmla="val 100167"/>
            </a:avLst>
          </a:prstGeom>
          <a:ln w="100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683" name="자유형 30"/>
          <p:cNvSpPr/>
          <p:nvPr/>
        </p:nvSpPr>
        <p:spPr>
          <a:xfrm>
            <a:off x="625320" y="2295360"/>
            <a:ext cx="73080" cy="258840"/>
          </a:xfrm>
          <a:custGeom>
            <a:avLst/>
            <a:gdLst/>
            <a:ahLst/>
            <a:rect l="l" t="t" r="r" b="b"/>
            <a:pathLst>
              <a:path w="73212" h="259976">
                <a:moveTo>
                  <a:pt x="73212" y="0"/>
                </a:moveTo>
                <a:cubicBezTo>
                  <a:pt x="47065" y="26894"/>
                  <a:pt x="20918" y="53788"/>
                  <a:pt x="10459" y="89647"/>
                </a:cubicBezTo>
                <a:cubicBezTo>
                  <a:pt x="0" y="125506"/>
                  <a:pt x="1494" y="186765"/>
                  <a:pt x="10459" y="215153"/>
                </a:cubicBezTo>
                <a:cubicBezTo>
                  <a:pt x="19424" y="243541"/>
                  <a:pt x="53788" y="248023"/>
                  <a:pt x="64247" y="259976"/>
                </a:cubicBezTo>
              </a:path>
            </a:pathLst>
          </a:custGeom>
          <a:noFill/>
          <a:ln w="1008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자유형 31"/>
          <p:cNvSpPr/>
          <p:nvPr/>
        </p:nvSpPr>
        <p:spPr>
          <a:xfrm>
            <a:off x="642960" y="2571840"/>
            <a:ext cx="73080" cy="260280"/>
          </a:xfrm>
          <a:custGeom>
            <a:avLst/>
            <a:gdLst/>
            <a:ahLst/>
            <a:rect l="l" t="t" r="r" b="b"/>
            <a:pathLst>
              <a:path w="73212" h="259976">
                <a:moveTo>
                  <a:pt x="73212" y="0"/>
                </a:moveTo>
                <a:cubicBezTo>
                  <a:pt x="47065" y="26894"/>
                  <a:pt x="20918" y="53788"/>
                  <a:pt x="10459" y="89647"/>
                </a:cubicBezTo>
                <a:cubicBezTo>
                  <a:pt x="0" y="125506"/>
                  <a:pt x="1494" y="186765"/>
                  <a:pt x="10459" y="215153"/>
                </a:cubicBezTo>
                <a:cubicBezTo>
                  <a:pt x="19424" y="243541"/>
                  <a:pt x="53788" y="248023"/>
                  <a:pt x="64247" y="259976"/>
                </a:cubicBezTo>
              </a:path>
            </a:pathLst>
          </a:custGeom>
          <a:noFill/>
          <a:ln w="1008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685" name="구부러진 연결선 39"/>
          <p:cNvCxnSpPr/>
          <p:nvPr/>
        </p:nvCxnSpPr>
        <p:spPr>
          <a:xfrm flipV="1" rot="10800000">
            <a:off x="2142360" y="2214720"/>
            <a:ext cx="857880" cy="643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0080">
            <a:solidFill>
              <a:srgbClr val="ff00ff"/>
            </a:solidFill>
            <a:miter/>
            <a:headEnd len="med" type="triangle" w="med"/>
          </a:ln>
        </p:spPr>
      </p:cxnSp>
      <p:cxnSp>
        <p:nvCxnSpPr>
          <p:cNvPr id="686" name="구부러진 연결선 41"/>
          <p:cNvCxnSpPr/>
          <p:nvPr/>
        </p:nvCxnSpPr>
        <p:spPr>
          <a:xfrm flipH="1" rot="16200000">
            <a:off x="3159720" y="2276280"/>
            <a:ext cx="214920" cy="214920"/>
          </a:xfrm>
          <a:prstGeom prst="curvedConnector5">
            <a:avLst>
              <a:gd name="adj1" fmla="val 100167"/>
              <a:gd name="adj2" fmla="val 50000"/>
              <a:gd name="adj3" fmla="val 100167"/>
            </a:avLst>
          </a:prstGeom>
          <a:ln w="100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687" name="자유형 42"/>
          <p:cNvSpPr/>
          <p:nvPr/>
        </p:nvSpPr>
        <p:spPr>
          <a:xfrm>
            <a:off x="3268800" y="2571840"/>
            <a:ext cx="90360" cy="223920"/>
          </a:xfrm>
          <a:custGeom>
            <a:avLst/>
            <a:gdLst/>
            <a:ahLst/>
            <a:rect l="l" t="t" r="r" b="b"/>
            <a:pathLst>
              <a:path w="73212" h="259976">
                <a:moveTo>
                  <a:pt x="73212" y="0"/>
                </a:moveTo>
                <a:cubicBezTo>
                  <a:pt x="47065" y="26894"/>
                  <a:pt x="20918" y="53788"/>
                  <a:pt x="10459" y="89647"/>
                </a:cubicBezTo>
                <a:cubicBezTo>
                  <a:pt x="0" y="125506"/>
                  <a:pt x="1494" y="186765"/>
                  <a:pt x="10459" y="215153"/>
                </a:cubicBezTo>
                <a:cubicBezTo>
                  <a:pt x="19424" y="243541"/>
                  <a:pt x="53788" y="248023"/>
                  <a:pt x="64247" y="259976"/>
                </a:cubicBezTo>
              </a:path>
            </a:pathLst>
          </a:custGeom>
          <a:noFill/>
          <a:ln w="1008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자유형 43"/>
          <p:cNvSpPr/>
          <p:nvPr/>
        </p:nvSpPr>
        <p:spPr>
          <a:xfrm>
            <a:off x="3286080" y="2847960"/>
            <a:ext cx="90360" cy="223920"/>
          </a:xfrm>
          <a:custGeom>
            <a:avLst/>
            <a:gdLst/>
            <a:ahLst/>
            <a:rect l="l" t="t" r="r" b="b"/>
            <a:pathLst>
              <a:path w="73212" h="259976">
                <a:moveTo>
                  <a:pt x="73212" y="0"/>
                </a:moveTo>
                <a:cubicBezTo>
                  <a:pt x="47065" y="26894"/>
                  <a:pt x="20918" y="53788"/>
                  <a:pt x="10459" y="89647"/>
                </a:cubicBezTo>
                <a:cubicBezTo>
                  <a:pt x="0" y="125506"/>
                  <a:pt x="1494" y="186765"/>
                  <a:pt x="10459" y="215153"/>
                </a:cubicBezTo>
                <a:cubicBezTo>
                  <a:pt x="19424" y="243541"/>
                  <a:pt x="53788" y="248023"/>
                  <a:pt x="64247" y="259976"/>
                </a:cubicBezTo>
              </a:path>
            </a:pathLst>
          </a:custGeom>
          <a:noFill/>
          <a:ln w="1008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89" name="직사각형 48"/>
          <p:cNvGrpSpPr/>
          <p:nvPr/>
        </p:nvGrpSpPr>
        <p:grpSpPr>
          <a:xfrm>
            <a:off x="5205240" y="3346560"/>
            <a:ext cx="2530800" cy="1096920"/>
            <a:chOff x="5205240" y="3346560"/>
            <a:chExt cx="2530800" cy="1096920"/>
          </a:xfrm>
        </p:grpSpPr>
        <p:pic>
          <p:nvPicPr>
            <p:cNvPr id="690" name="직사각형 48" descr=""/>
            <p:cNvPicPr/>
            <p:nvPr/>
          </p:nvPicPr>
          <p:blipFill>
            <a:blip r:embed="rId6"/>
            <a:stretch/>
          </p:blipFill>
          <p:spPr>
            <a:xfrm>
              <a:off x="5205240" y="3346560"/>
              <a:ext cx="25308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5292720" y="3429000"/>
              <a:ext cx="235728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paint()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paintComponent()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paintBorder()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358920"/>
                  <a:tab algn="l" pos="717480"/>
                  <a:tab algn="l" pos="1076400"/>
                  <a:tab algn="l" pos="1434960"/>
                  <a:tab algn="l" pos="1793880"/>
                  <a:tab algn="l" pos="2152800"/>
                  <a:tab algn="l" pos="2511360"/>
                  <a:tab algn="l" pos="2870280"/>
                  <a:tab algn="l" pos="3228840"/>
                  <a:tab algn="l" pos="3587760"/>
                  <a:tab algn="l" pos="3946680"/>
                  <a:tab algn="l" pos="4305240"/>
                  <a:tab algn="l" pos="4664160"/>
                  <a:tab algn="l" pos="5022720"/>
                  <a:tab algn="l" pos="5381640"/>
                  <a:tab algn="l" pos="5740560"/>
                  <a:tab algn="l" pos="6099120"/>
                  <a:tab algn="l" pos="6458040"/>
                  <a:tab algn="l" pos="6816600"/>
                  <a:tab algn="l" pos="7175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w Cen MT"/>
                </a:rPr>
                <a:t>paintChildren()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692" name="자유형 59"/>
          <p:cNvSpPr/>
          <p:nvPr/>
        </p:nvSpPr>
        <p:spPr>
          <a:xfrm>
            <a:off x="4716360" y="2419200"/>
            <a:ext cx="647640" cy="578160"/>
          </a:xfrm>
          <a:custGeom>
            <a:avLst/>
            <a:gdLst/>
            <a:ahLst/>
            <a:rect l="l" t="t" r="r" b="b"/>
            <a:pathLst>
              <a:path w="968189" h="797859">
                <a:moveTo>
                  <a:pt x="0" y="797859"/>
                </a:moveTo>
                <a:cubicBezTo>
                  <a:pt x="43329" y="797859"/>
                  <a:pt x="86659" y="797859"/>
                  <a:pt x="125506" y="788894"/>
                </a:cubicBezTo>
                <a:cubicBezTo>
                  <a:pt x="164353" y="779929"/>
                  <a:pt x="195730" y="770965"/>
                  <a:pt x="233083" y="744071"/>
                </a:cubicBezTo>
                <a:cubicBezTo>
                  <a:pt x="270436" y="717177"/>
                  <a:pt x="318248" y="697754"/>
                  <a:pt x="349624" y="627530"/>
                </a:cubicBezTo>
                <a:cubicBezTo>
                  <a:pt x="381001" y="557307"/>
                  <a:pt x="395942" y="398930"/>
                  <a:pt x="421342" y="322730"/>
                </a:cubicBezTo>
                <a:cubicBezTo>
                  <a:pt x="446742" y="246530"/>
                  <a:pt x="455707" y="216648"/>
                  <a:pt x="502024" y="170330"/>
                </a:cubicBezTo>
                <a:cubicBezTo>
                  <a:pt x="548341" y="124012"/>
                  <a:pt x="621553" y="73212"/>
                  <a:pt x="699247" y="44824"/>
                </a:cubicBezTo>
                <a:cubicBezTo>
                  <a:pt x="776941" y="16436"/>
                  <a:pt x="872565" y="8218"/>
                  <a:pt x="968189" y="0"/>
                </a:cubicBezTo>
              </a:path>
            </a:pathLst>
          </a:custGeom>
          <a:noFill/>
          <a:ln w="1008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자유형 61"/>
          <p:cNvSpPr/>
          <p:nvPr/>
        </p:nvSpPr>
        <p:spPr>
          <a:xfrm>
            <a:off x="5649840" y="2633760"/>
            <a:ext cx="106560" cy="152280"/>
          </a:xfrm>
          <a:custGeom>
            <a:avLst/>
            <a:gdLst/>
            <a:ahLst/>
            <a:rect l="l" t="t" r="r" b="b"/>
            <a:pathLst>
              <a:path w="73212" h="259976">
                <a:moveTo>
                  <a:pt x="73212" y="0"/>
                </a:moveTo>
                <a:cubicBezTo>
                  <a:pt x="47065" y="26894"/>
                  <a:pt x="20918" y="53788"/>
                  <a:pt x="10459" y="89647"/>
                </a:cubicBezTo>
                <a:cubicBezTo>
                  <a:pt x="0" y="125506"/>
                  <a:pt x="1494" y="186765"/>
                  <a:pt x="10459" y="215153"/>
                </a:cubicBezTo>
                <a:cubicBezTo>
                  <a:pt x="19424" y="243541"/>
                  <a:pt x="53788" y="248023"/>
                  <a:pt x="64247" y="259976"/>
                </a:cubicBezTo>
              </a:path>
            </a:pathLst>
          </a:custGeom>
          <a:noFill/>
          <a:ln w="1008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4" name="자유형 62"/>
          <p:cNvSpPr/>
          <p:nvPr/>
        </p:nvSpPr>
        <p:spPr>
          <a:xfrm>
            <a:off x="5649840" y="2847960"/>
            <a:ext cx="106560" cy="152280"/>
          </a:xfrm>
          <a:custGeom>
            <a:avLst/>
            <a:gdLst/>
            <a:ahLst/>
            <a:rect l="l" t="t" r="r" b="b"/>
            <a:pathLst>
              <a:path w="73212" h="259976">
                <a:moveTo>
                  <a:pt x="73212" y="0"/>
                </a:moveTo>
                <a:cubicBezTo>
                  <a:pt x="47065" y="26894"/>
                  <a:pt x="20918" y="53788"/>
                  <a:pt x="10459" y="89647"/>
                </a:cubicBezTo>
                <a:cubicBezTo>
                  <a:pt x="0" y="125506"/>
                  <a:pt x="1494" y="186765"/>
                  <a:pt x="10459" y="215153"/>
                </a:cubicBezTo>
                <a:cubicBezTo>
                  <a:pt x="19424" y="243541"/>
                  <a:pt x="53788" y="248023"/>
                  <a:pt x="64247" y="259976"/>
                </a:cubicBezTo>
              </a:path>
            </a:pathLst>
          </a:custGeom>
          <a:noFill/>
          <a:ln w="1008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자유형 69"/>
          <p:cNvSpPr/>
          <p:nvPr/>
        </p:nvSpPr>
        <p:spPr>
          <a:xfrm>
            <a:off x="5500800" y="2463840"/>
            <a:ext cx="242640" cy="152280"/>
          </a:xfrm>
          <a:custGeom>
            <a:avLst/>
            <a:gdLst/>
            <a:ahLst/>
            <a:rect l="l" t="t" r="r" b="b"/>
            <a:pathLst>
              <a:path w="242047" h="152400">
                <a:moveTo>
                  <a:pt x="0" y="0"/>
                </a:moveTo>
                <a:cubicBezTo>
                  <a:pt x="2241" y="45570"/>
                  <a:pt x="4482" y="91141"/>
                  <a:pt x="44823" y="116541"/>
                </a:cubicBezTo>
                <a:cubicBezTo>
                  <a:pt x="85164" y="141941"/>
                  <a:pt x="163605" y="147170"/>
                  <a:pt x="242047" y="152400"/>
                </a:cubicBezTo>
              </a:path>
            </a:pathLst>
          </a:custGeom>
          <a:noFill/>
          <a:ln w="1008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6" name="자유형 70"/>
          <p:cNvSpPr/>
          <p:nvPr/>
        </p:nvSpPr>
        <p:spPr>
          <a:xfrm>
            <a:off x="4788000" y="3051000"/>
            <a:ext cx="919080" cy="46080"/>
          </a:xfrm>
          <a:custGeom>
            <a:avLst/>
            <a:gdLst/>
            <a:ahLst/>
            <a:rect l="l" t="t" r="r" b="b"/>
            <a:pathLst>
              <a:path w="887506" h="149411">
                <a:moveTo>
                  <a:pt x="887506" y="4482"/>
                </a:moveTo>
                <a:cubicBezTo>
                  <a:pt x="835212" y="2241"/>
                  <a:pt x="782918" y="0"/>
                  <a:pt x="717177" y="4482"/>
                </a:cubicBezTo>
                <a:cubicBezTo>
                  <a:pt x="651436" y="8964"/>
                  <a:pt x="573741" y="10458"/>
                  <a:pt x="493059" y="31376"/>
                </a:cubicBezTo>
                <a:cubicBezTo>
                  <a:pt x="412377" y="52294"/>
                  <a:pt x="315258" y="110565"/>
                  <a:pt x="233082" y="129988"/>
                </a:cubicBezTo>
                <a:cubicBezTo>
                  <a:pt x="150906" y="149411"/>
                  <a:pt x="75453" y="148664"/>
                  <a:pt x="0" y="147917"/>
                </a:cubicBezTo>
              </a:path>
            </a:pathLst>
          </a:custGeom>
          <a:noFill/>
          <a:ln w="10080">
            <a:solidFill>
              <a:srgbClr val="7c5f1e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자유형 73"/>
          <p:cNvSpPr/>
          <p:nvPr/>
        </p:nvSpPr>
        <p:spPr>
          <a:xfrm>
            <a:off x="4788000" y="3141720"/>
            <a:ext cx="576000" cy="431640"/>
          </a:xfrm>
          <a:custGeom>
            <a:avLst/>
            <a:gdLst/>
            <a:ahLst/>
            <a:rect l="l" t="t" r="r" b="b"/>
            <a:pathLst>
              <a:path w="546847" h="256988">
                <a:moveTo>
                  <a:pt x="0" y="0"/>
                </a:moveTo>
                <a:cubicBezTo>
                  <a:pt x="33617" y="32123"/>
                  <a:pt x="67235" y="64247"/>
                  <a:pt x="98611" y="98612"/>
                </a:cubicBezTo>
                <a:cubicBezTo>
                  <a:pt x="129987" y="132977"/>
                  <a:pt x="138952" y="180788"/>
                  <a:pt x="188258" y="206188"/>
                </a:cubicBezTo>
                <a:cubicBezTo>
                  <a:pt x="237564" y="231588"/>
                  <a:pt x="334682" y="245036"/>
                  <a:pt x="394447" y="251012"/>
                </a:cubicBezTo>
                <a:cubicBezTo>
                  <a:pt x="454212" y="256988"/>
                  <a:pt x="500529" y="249517"/>
                  <a:pt x="546847" y="242047"/>
                </a:cubicBezTo>
              </a:path>
            </a:pathLst>
          </a:custGeom>
          <a:noFill/>
          <a:ln w="1008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8" name="자유형 74"/>
          <p:cNvSpPr/>
          <p:nvPr/>
        </p:nvSpPr>
        <p:spPr>
          <a:xfrm>
            <a:off x="5649840" y="3857760"/>
            <a:ext cx="106560" cy="152280"/>
          </a:xfrm>
          <a:custGeom>
            <a:avLst/>
            <a:gdLst/>
            <a:ahLst/>
            <a:rect l="l" t="t" r="r" b="b"/>
            <a:pathLst>
              <a:path w="73212" h="259976">
                <a:moveTo>
                  <a:pt x="73212" y="0"/>
                </a:moveTo>
                <a:cubicBezTo>
                  <a:pt x="47065" y="26894"/>
                  <a:pt x="20918" y="53788"/>
                  <a:pt x="10459" y="89647"/>
                </a:cubicBezTo>
                <a:cubicBezTo>
                  <a:pt x="0" y="125506"/>
                  <a:pt x="1494" y="186765"/>
                  <a:pt x="10459" y="215153"/>
                </a:cubicBezTo>
                <a:cubicBezTo>
                  <a:pt x="19424" y="243541"/>
                  <a:pt x="53788" y="248023"/>
                  <a:pt x="64247" y="259976"/>
                </a:cubicBezTo>
              </a:path>
            </a:pathLst>
          </a:custGeom>
          <a:noFill/>
          <a:ln w="1008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자유형 75"/>
          <p:cNvSpPr/>
          <p:nvPr/>
        </p:nvSpPr>
        <p:spPr>
          <a:xfrm>
            <a:off x="5649840" y="4071960"/>
            <a:ext cx="106560" cy="152280"/>
          </a:xfrm>
          <a:custGeom>
            <a:avLst/>
            <a:gdLst/>
            <a:ahLst/>
            <a:rect l="l" t="t" r="r" b="b"/>
            <a:pathLst>
              <a:path w="73212" h="259976">
                <a:moveTo>
                  <a:pt x="73212" y="0"/>
                </a:moveTo>
                <a:cubicBezTo>
                  <a:pt x="47065" y="26894"/>
                  <a:pt x="20918" y="53788"/>
                  <a:pt x="10459" y="89647"/>
                </a:cubicBezTo>
                <a:cubicBezTo>
                  <a:pt x="0" y="125506"/>
                  <a:pt x="1494" y="186765"/>
                  <a:pt x="10459" y="215153"/>
                </a:cubicBezTo>
                <a:cubicBezTo>
                  <a:pt x="19424" y="243541"/>
                  <a:pt x="53788" y="248023"/>
                  <a:pt x="64247" y="259976"/>
                </a:cubicBezTo>
              </a:path>
            </a:pathLst>
          </a:custGeom>
          <a:noFill/>
          <a:ln w="1008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0" name="자유형 76"/>
          <p:cNvSpPr/>
          <p:nvPr/>
        </p:nvSpPr>
        <p:spPr>
          <a:xfrm>
            <a:off x="5500800" y="3687840"/>
            <a:ext cx="242640" cy="152280"/>
          </a:xfrm>
          <a:custGeom>
            <a:avLst/>
            <a:gdLst/>
            <a:ahLst/>
            <a:rect l="l" t="t" r="r" b="b"/>
            <a:pathLst>
              <a:path w="242047" h="152400">
                <a:moveTo>
                  <a:pt x="0" y="0"/>
                </a:moveTo>
                <a:cubicBezTo>
                  <a:pt x="2241" y="45570"/>
                  <a:pt x="4482" y="91141"/>
                  <a:pt x="44823" y="116541"/>
                </a:cubicBezTo>
                <a:cubicBezTo>
                  <a:pt x="85164" y="141941"/>
                  <a:pt x="163605" y="147170"/>
                  <a:pt x="242047" y="152400"/>
                </a:cubicBezTo>
              </a:path>
            </a:pathLst>
          </a:custGeom>
          <a:noFill/>
          <a:ln w="1008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자유형 78"/>
          <p:cNvSpPr/>
          <p:nvPr/>
        </p:nvSpPr>
        <p:spPr>
          <a:xfrm>
            <a:off x="4716360" y="3141720"/>
            <a:ext cx="935280" cy="1079280"/>
          </a:xfrm>
          <a:custGeom>
            <a:avLst/>
            <a:gdLst/>
            <a:ahLst/>
            <a:rect l="l" t="t" r="r" b="b"/>
            <a:pathLst>
              <a:path w="986118" h="896470">
                <a:moveTo>
                  <a:pt x="986118" y="896470"/>
                </a:moveTo>
                <a:cubicBezTo>
                  <a:pt x="906929" y="877793"/>
                  <a:pt x="827741" y="859117"/>
                  <a:pt x="726141" y="815788"/>
                </a:cubicBezTo>
                <a:cubicBezTo>
                  <a:pt x="624541" y="772459"/>
                  <a:pt x="472141" y="699247"/>
                  <a:pt x="376518" y="636494"/>
                </a:cubicBezTo>
                <a:cubicBezTo>
                  <a:pt x="280895" y="573741"/>
                  <a:pt x="197223" y="515470"/>
                  <a:pt x="152400" y="439270"/>
                </a:cubicBezTo>
                <a:cubicBezTo>
                  <a:pt x="107577" y="363070"/>
                  <a:pt x="132977" y="252506"/>
                  <a:pt x="107577" y="179294"/>
                </a:cubicBezTo>
                <a:cubicBezTo>
                  <a:pt x="82177" y="106082"/>
                  <a:pt x="41088" y="53041"/>
                  <a:pt x="0" y="0"/>
                </a:cubicBezTo>
              </a:path>
            </a:pathLst>
          </a:custGeom>
          <a:noFill/>
          <a:ln w="10080">
            <a:solidFill>
              <a:srgbClr val="7c5f1e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02" name="구부러진 연결선 81"/>
          <p:cNvCxnSpPr/>
          <p:nvPr/>
        </p:nvCxnSpPr>
        <p:spPr>
          <a:xfrm rot="5400000">
            <a:off x="874800" y="3527640"/>
            <a:ext cx="1724760" cy="669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008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03" name="구부러진 연결선 83"/>
          <p:cNvCxnSpPr/>
          <p:nvPr/>
        </p:nvCxnSpPr>
        <p:spPr>
          <a:xfrm flipH="1" rot="16200000">
            <a:off x="1489680" y="4867200"/>
            <a:ext cx="215280" cy="214920"/>
          </a:xfrm>
          <a:prstGeom prst="curvedConnector5">
            <a:avLst>
              <a:gd name="adj1" fmla="val 100167"/>
              <a:gd name="adj2" fmla="val 50000"/>
              <a:gd name="adj3" fmla="val 100167"/>
            </a:avLst>
          </a:prstGeom>
          <a:ln w="100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704" name="자유형 84"/>
          <p:cNvSpPr/>
          <p:nvPr/>
        </p:nvSpPr>
        <p:spPr>
          <a:xfrm>
            <a:off x="1600200" y="5160960"/>
            <a:ext cx="90360" cy="223920"/>
          </a:xfrm>
          <a:custGeom>
            <a:avLst/>
            <a:gdLst/>
            <a:ahLst/>
            <a:rect l="l" t="t" r="r" b="b"/>
            <a:pathLst>
              <a:path w="73212" h="259976">
                <a:moveTo>
                  <a:pt x="73212" y="0"/>
                </a:moveTo>
                <a:cubicBezTo>
                  <a:pt x="47065" y="26894"/>
                  <a:pt x="20918" y="53788"/>
                  <a:pt x="10459" y="89647"/>
                </a:cubicBezTo>
                <a:cubicBezTo>
                  <a:pt x="0" y="125506"/>
                  <a:pt x="1494" y="186765"/>
                  <a:pt x="10459" y="215153"/>
                </a:cubicBezTo>
                <a:cubicBezTo>
                  <a:pt x="19424" y="243541"/>
                  <a:pt x="53788" y="248023"/>
                  <a:pt x="64247" y="259976"/>
                </a:cubicBezTo>
              </a:path>
            </a:pathLst>
          </a:custGeom>
          <a:noFill/>
          <a:ln w="1008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5" name="자유형 85"/>
          <p:cNvSpPr/>
          <p:nvPr/>
        </p:nvSpPr>
        <p:spPr>
          <a:xfrm>
            <a:off x="1616040" y="5438880"/>
            <a:ext cx="90360" cy="222120"/>
          </a:xfrm>
          <a:custGeom>
            <a:avLst/>
            <a:gdLst/>
            <a:ahLst/>
            <a:rect l="l" t="t" r="r" b="b"/>
            <a:pathLst>
              <a:path w="73212" h="259976">
                <a:moveTo>
                  <a:pt x="73212" y="0"/>
                </a:moveTo>
                <a:cubicBezTo>
                  <a:pt x="47065" y="26894"/>
                  <a:pt x="20918" y="53788"/>
                  <a:pt x="10459" y="89647"/>
                </a:cubicBezTo>
                <a:cubicBezTo>
                  <a:pt x="0" y="125506"/>
                  <a:pt x="1494" y="186765"/>
                  <a:pt x="10459" y="215153"/>
                </a:cubicBezTo>
                <a:cubicBezTo>
                  <a:pt x="19424" y="243541"/>
                  <a:pt x="53788" y="248023"/>
                  <a:pt x="64247" y="259976"/>
                </a:cubicBezTo>
              </a:path>
            </a:pathLst>
          </a:custGeom>
          <a:noFill/>
          <a:ln w="1008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자유형 86"/>
          <p:cNvSpPr/>
          <p:nvPr/>
        </p:nvSpPr>
        <p:spPr>
          <a:xfrm>
            <a:off x="3059280" y="5133960"/>
            <a:ext cx="637920" cy="455760"/>
          </a:xfrm>
          <a:custGeom>
            <a:avLst/>
            <a:gdLst/>
            <a:ahLst/>
            <a:rect l="l" t="t" r="r" b="b"/>
            <a:pathLst>
              <a:path w="968189" h="797859">
                <a:moveTo>
                  <a:pt x="0" y="797859"/>
                </a:moveTo>
                <a:cubicBezTo>
                  <a:pt x="43329" y="797859"/>
                  <a:pt x="86659" y="797859"/>
                  <a:pt x="125506" y="788894"/>
                </a:cubicBezTo>
                <a:cubicBezTo>
                  <a:pt x="164353" y="779929"/>
                  <a:pt x="195730" y="770965"/>
                  <a:pt x="233083" y="744071"/>
                </a:cubicBezTo>
                <a:cubicBezTo>
                  <a:pt x="270436" y="717177"/>
                  <a:pt x="318248" y="697754"/>
                  <a:pt x="349624" y="627530"/>
                </a:cubicBezTo>
                <a:cubicBezTo>
                  <a:pt x="381001" y="557307"/>
                  <a:pt x="395942" y="398930"/>
                  <a:pt x="421342" y="322730"/>
                </a:cubicBezTo>
                <a:cubicBezTo>
                  <a:pt x="446742" y="246530"/>
                  <a:pt x="455707" y="216648"/>
                  <a:pt x="502024" y="170330"/>
                </a:cubicBezTo>
                <a:cubicBezTo>
                  <a:pt x="548341" y="124012"/>
                  <a:pt x="621553" y="73212"/>
                  <a:pt x="699247" y="44824"/>
                </a:cubicBezTo>
                <a:cubicBezTo>
                  <a:pt x="776941" y="16436"/>
                  <a:pt x="872565" y="8218"/>
                  <a:pt x="968189" y="0"/>
                </a:cubicBezTo>
              </a:path>
            </a:pathLst>
          </a:custGeom>
          <a:noFill/>
          <a:ln w="1008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자유형 87"/>
          <p:cNvSpPr/>
          <p:nvPr/>
        </p:nvSpPr>
        <p:spPr>
          <a:xfrm>
            <a:off x="3983040" y="5348160"/>
            <a:ext cx="108000" cy="152640"/>
          </a:xfrm>
          <a:custGeom>
            <a:avLst/>
            <a:gdLst/>
            <a:ahLst/>
            <a:rect l="l" t="t" r="r" b="b"/>
            <a:pathLst>
              <a:path w="73212" h="259976">
                <a:moveTo>
                  <a:pt x="73212" y="0"/>
                </a:moveTo>
                <a:cubicBezTo>
                  <a:pt x="47065" y="26894"/>
                  <a:pt x="20918" y="53788"/>
                  <a:pt x="10459" y="89647"/>
                </a:cubicBezTo>
                <a:cubicBezTo>
                  <a:pt x="0" y="125506"/>
                  <a:pt x="1494" y="186765"/>
                  <a:pt x="10459" y="215153"/>
                </a:cubicBezTo>
                <a:cubicBezTo>
                  <a:pt x="19424" y="243541"/>
                  <a:pt x="53788" y="248023"/>
                  <a:pt x="64247" y="259976"/>
                </a:cubicBezTo>
              </a:path>
            </a:pathLst>
          </a:custGeom>
          <a:noFill/>
          <a:ln w="1008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자유형 88"/>
          <p:cNvSpPr/>
          <p:nvPr/>
        </p:nvSpPr>
        <p:spPr>
          <a:xfrm>
            <a:off x="3983040" y="5562720"/>
            <a:ext cx="108000" cy="152280"/>
          </a:xfrm>
          <a:custGeom>
            <a:avLst/>
            <a:gdLst/>
            <a:ahLst/>
            <a:rect l="l" t="t" r="r" b="b"/>
            <a:pathLst>
              <a:path w="73212" h="259976">
                <a:moveTo>
                  <a:pt x="73212" y="0"/>
                </a:moveTo>
                <a:cubicBezTo>
                  <a:pt x="47065" y="26894"/>
                  <a:pt x="20918" y="53788"/>
                  <a:pt x="10459" y="89647"/>
                </a:cubicBezTo>
                <a:cubicBezTo>
                  <a:pt x="0" y="125506"/>
                  <a:pt x="1494" y="186765"/>
                  <a:pt x="10459" y="215153"/>
                </a:cubicBezTo>
                <a:cubicBezTo>
                  <a:pt x="19424" y="243541"/>
                  <a:pt x="53788" y="248023"/>
                  <a:pt x="64247" y="259976"/>
                </a:cubicBezTo>
              </a:path>
            </a:pathLst>
          </a:custGeom>
          <a:noFill/>
          <a:ln w="1008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9" name="자유형 89"/>
          <p:cNvSpPr/>
          <p:nvPr/>
        </p:nvSpPr>
        <p:spPr>
          <a:xfrm>
            <a:off x="3835440" y="5180040"/>
            <a:ext cx="241200" cy="152280"/>
          </a:xfrm>
          <a:custGeom>
            <a:avLst/>
            <a:gdLst/>
            <a:ahLst/>
            <a:rect l="l" t="t" r="r" b="b"/>
            <a:pathLst>
              <a:path w="242047" h="152400">
                <a:moveTo>
                  <a:pt x="0" y="0"/>
                </a:moveTo>
                <a:cubicBezTo>
                  <a:pt x="2241" y="45570"/>
                  <a:pt x="4482" y="91141"/>
                  <a:pt x="44823" y="116541"/>
                </a:cubicBezTo>
                <a:cubicBezTo>
                  <a:pt x="85164" y="141941"/>
                  <a:pt x="163605" y="147170"/>
                  <a:pt x="242047" y="152400"/>
                </a:cubicBezTo>
              </a:path>
            </a:pathLst>
          </a:custGeom>
          <a:noFill/>
          <a:ln w="1008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자유형 90"/>
          <p:cNvSpPr/>
          <p:nvPr/>
        </p:nvSpPr>
        <p:spPr>
          <a:xfrm flipV="1">
            <a:off x="3132000" y="5660280"/>
            <a:ext cx="909720" cy="104760"/>
          </a:xfrm>
          <a:custGeom>
            <a:avLst/>
            <a:gdLst/>
            <a:ahLst/>
            <a:rect l="l" t="t" r="r" b="b"/>
            <a:pathLst>
              <a:path w="887506" h="149411">
                <a:moveTo>
                  <a:pt x="887506" y="4482"/>
                </a:moveTo>
                <a:cubicBezTo>
                  <a:pt x="835212" y="2241"/>
                  <a:pt x="782918" y="0"/>
                  <a:pt x="717177" y="4482"/>
                </a:cubicBezTo>
                <a:cubicBezTo>
                  <a:pt x="651436" y="8964"/>
                  <a:pt x="573741" y="10458"/>
                  <a:pt x="493059" y="31376"/>
                </a:cubicBezTo>
                <a:cubicBezTo>
                  <a:pt x="412377" y="52294"/>
                  <a:pt x="315258" y="110565"/>
                  <a:pt x="233082" y="129988"/>
                </a:cubicBezTo>
                <a:cubicBezTo>
                  <a:pt x="150906" y="149411"/>
                  <a:pt x="75453" y="148664"/>
                  <a:pt x="0" y="147917"/>
                </a:cubicBezTo>
              </a:path>
            </a:pathLst>
          </a:custGeom>
          <a:noFill/>
          <a:ln w="10080">
            <a:solidFill>
              <a:srgbClr val="7c5f1e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자유형 98"/>
          <p:cNvSpPr/>
          <p:nvPr/>
        </p:nvSpPr>
        <p:spPr>
          <a:xfrm>
            <a:off x="2143080" y="2922480"/>
            <a:ext cx="2500200" cy="362160"/>
          </a:xfrm>
          <a:custGeom>
            <a:avLst/>
            <a:gdLst/>
            <a:ahLst/>
            <a:rect l="l" t="t" r="r" b="b"/>
            <a:pathLst>
              <a:path w="2483223" h="424329">
                <a:moveTo>
                  <a:pt x="2483223" y="295835"/>
                </a:moveTo>
                <a:cubicBezTo>
                  <a:pt x="2303929" y="333188"/>
                  <a:pt x="2124635" y="370541"/>
                  <a:pt x="1891553" y="385482"/>
                </a:cubicBezTo>
                <a:cubicBezTo>
                  <a:pt x="1658471" y="400423"/>
                  <a:pt x="1298388" y="424329"/>
                  <a:pt x="1084729" y="385482"/>
                </a:cubicBezTo>
                <a:cubicBezTo>
                  <a:pt x="871070" y="346635"/>
                  <a:pt x="790388" y="216647"/>
                  <a:pt x="609600" y="152400"/>
                </a:cubicBezTo>
                <a:cubicBezTo>
                  <a:pt x="428812" y="88153"/>
                  <a:pt x="214406" y="44076"/>
                  <a:pt x="0" y="0"/>
                </a:cubicBezTo>
              </a:path>
            </a:pathLst>
          </a:custGeom>
          <a:noFill/>
          <a:ln w="10080">
            <a:solidFill>
              <a:srgbClr val="7c5f1e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TextBox 35"/>
          <p:cNvSpPr/>
          <p:nvPr/>
        </p:nvSpPr>
        <p:spPr>
          <a:xfrm>
            <a:off x="194760" y="1341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컨테이너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3" name="TextBox 36"/>
          <p:cNvSpPr/>
          <p:nvPr/>
        </p:nvSpPr>
        <p:spPr>
          <a:xfrm>
            <a:off x="2950200" y="162864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자식 컨테이너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TextBox 37"/>
          <p:cNvSpPr/>
          <p:nvPr/>
        </p:nvSpPr>
        <p:spPr>
          <a:xfrm>
            <a:off x="1411920" y="42292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자식 컨테이너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TextBox 38"/>
          <p:cNvSpPr/>
          <p:nvPr/>
        </p:nvSpPr>
        <p:spPr>
          <a:xfrm>
            <a:off x="5275800" y="19162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자식 컴포넌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TextBox 44"/>
          <p:cNvSpPr/>
          <p:nvPr/>
        </p:nvSpPr>
        <p:spPr>
          <a:xfrm>
            <a:off x="5275800" y="314172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자식 컴포넌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TextBox 45"/>
          <p:cNvSpPr/>
          <p:nvPr/>
        </p:nvSpPr>
        <p:spPr>
          <a:xfrm>
            <a:off x="3619080" y="458136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Tw Cen MT"/>
              </a:rPr>
              <a:t>자식 컴포넌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슬라이드 번호 개체 틀 46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D4DE-F236-40A2-AFD2-E62D4DC92E2C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repaint()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메소드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612720" y="1285920"/>
            <a:ext cx="8153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Component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의 메소드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repaint()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를 호출해야 하는 경우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개발자가 컴포넌트를 다시 그리고자 하는 경우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프로그램 내에서 컴포넌트의 모양과 위치를 변경하였지만 바로 화면에 반영되지 않는다</a:t>
            </a:r>
            <a:r>
              <a:rPr b="0" lang="en-US" sz="1700" spc="-1" strike="noStrike">
                <a:solidFill>
                  <a:srgbClr val="000000"/>
                </a:solidFill>
                <a:latin typeface="휴먼편지체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이 이유는 이 컴포넌트가 다시 그려져야 그 때 변경된 위치에 변경된 모양으로 출력됨</a:t>
            </a: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휴먼편지체"/>
              </a:rPr>
              <a:t>repaint()</a:t>
            </a: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는 지금 당장 컴포넌트를 다시 그리도록 지시함</a:t>
            </a: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부모 컴포넌트부터 다시 그리는 것이 좋음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특히 컴포넌트의 위치가 변경된 경우 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repaint()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가 불려지면 이 컴포넌트는 새로운 위치에 다시 그려지지만 이전의 위치에 있던 자신의 모양이 남아 있기 때문에 부모 컴포넌트의 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repaint()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를 호출하는 것이 좋음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1" name="직사각형 3"/>
          <p:cNvSpPr/>
          <p:nvPr/>
        </p:nvSpPr>
        <p:spPr>
          <a:xfrm>
            <a:off x="1449360" y="3786120"/>
            <a:ext cx="2451600" cy="36828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omponent.repaint()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직사각형 4"/>
          <p:cNvSpPr/>
          <p:nvPr/>
        </p:nvSpPr>
        <p:spPr>
          <a:xfrm>
            <a:off x="1347120" y="6000840"/>
            <a:ext cx="3716280" cy="36828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omponent.getParent().repaint()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슬라이드 번호 개체 틀 5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7895-A1CC-4E35-ADE1-53970ECCABC9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12-9 : 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마우스를 이용한 선 그리기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(repaint() 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사용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)</a:t>
            </a:r>
            <a:endParaRPr b="0" lang="en-US" sz="29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25" name="직사각형 3"/>
          <p:cNvSpPr/>
          <p:nvPr/>
        </p:nvSpPr>
        <p:spPr>
          <a:xfrm>
            <a:off x="214200" y="642960"/>
            <a:ext cx="3961080" cy="410940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import java.util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import java.awt.even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class GraphicsDrawLineMouseEx extends JFrame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ainer contentPan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raphicsDrawLineMouseEx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Title("Drawing Line by Mouse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예제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MyPanel panel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MyPanel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panel, BorderLayout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CENTER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Size(300, 30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Visible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GraphicsDrawLineMouseEx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직사각형 4"/>
          <p:cNvSpPr/>
          <p:nvPr/>
        </p:nvSpPr>
        <p:spPr>
          <a:xfrm>
            <a:off x="4857840" y="671400"/>
            <a:ext cx="3960720" cy="629964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lass MyPanel extends JPanel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Vector&lt;Point&gt; vs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Vector&lt;Point&gt;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Vector&lt;Point&gt; ve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Vector&lt;Point&gt;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oint startP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ull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oint endP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ull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MyPanel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addMouseListener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MouseAdapter()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void mousePressed(MouseEvent e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tartP = e.getPoint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void mouseReleased(MouseEvent e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endP = e.getPoint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vs.add(startP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ve.add(endP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repaint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void paintComponent(Graphics g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uper.paintComponent(g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.setColor(Color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BL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for(int i=0; i&lt;vs.size(); i++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oint s = vs.elementAt(i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oint e = ve.elementAt(i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.drawLine(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int)s.getX(), (int)s.getY(),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(int)e.getX(), (int)e.getY(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27" name="Picture 3" descr=""/>
          <p:cNvPicPr/>
          <p:nvPr/>
        </p:nvPicPr>
        <p:blipFill>
          <a:blip r:embed="rId1"/>
          <a:stretch/>
        </p:blipFill>
        <p:spPr>
          <a:xfrm>
            <a:off x="2214720" y="421488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728" name="슬라이드 번호 개체 틀 6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71AB-527A-4DCC-ACFE-2DD5C7718E61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JButton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을 상속받아 새로운 버튼 생성 예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30" name="직사각형 3"/>
          <p:cNvSpPr/>
          <p:nvPr/>
        </p:nvSpPr>
        <p:spPr>
          <a:xfrm>
            <a:off x="285840" y="1357200"/>
            <a:ext cx="4214880" cy="337932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class paintComponentEx extends JFrame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ainer contentPan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aintComponentEx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Title("paintComponent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사용  예제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setLayout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FlowLayout(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MyButton b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MyButton("New Button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b.setOpaque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b.setBackground(Color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CYAN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b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Size(250,20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Visible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31" name="Picture 3" descr=""/>
          <p:cNvPicPr/>
          <p:nvPr/>
        </p:nvPicPr>
        <p:blipFill>
          <a:blip r:embed="rId1"/>
          <a:stretch/>
        </p:blipFill>
        <p:spPr>
          <a:xfrm>
            <a:off x="4857840" y="4572000"/>
            <a:ext cx="2381040" cy="1905120"/>
          </a:xfrm>
          <a:prstGeom prst="rect">
            <a:avLst/>
          </a:prstGeom>
          <a:ln w="0">
            <a:noFill/>
          </a:ln>
        </p:spPr>
      </p:pic>
      <p:sp>
        <p:nvSpPr>
          <p:cNvPr id="732" name="직사각형 4"/>
          <p:cNvSpPr/>
          <p:nvPr/>
        </p:nvSpPr>
        <p:spPr>
          <a:xfrm>
            <a:off x="4786200" y="1357200"/>
            <a:ext cx="4143600" cy="301428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lass MyButton extends JButton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MyButton(String s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uper(s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void paintComponent(Graphics g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uper.paintComponent(g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.setColor(Color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RED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g.drawOval(0,0,this.getWidth()-1, this.getHeight()-1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new paintComponentEx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슬라이드 번호 개체 틀 5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D6A4-611D-4588-844D-89C1013DF5CF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111320" y="3681360"/>
            <a:ext cx="2381040" cy="190512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12-1 : JPanel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을 </a:t>
            </a:r>
            <a:br>
              <a:rPr sz="2900"/>
            </a:b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상속받다 도형 그리기</a:t>
            </a:r>
            <a:endParaRPr b="0" lang="en-US" sz="29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612720" y="1285560"/>
            <a:ext cx="8153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JPanel</a:t>
            </a: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의 용도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사용자가 그래픽을 통해 다양한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UI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를 창출하는 일종의 캔버스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1" name="직사각형 3"/>
          <p:cNvSpPr/>
          <p:nvPr/>
        </p:nvSpPr>
        <p:spPr>
          <a:xfrm>
            <a:off x="4429080" y="333360"/>
            <a:ext cx="4429080" cy="670068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public class paintJPanelEx extends JFrame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ntainer contentPane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paintJPanelEx()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tTitle("JPanel paintComponent 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예제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MyPanel panel =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new MyPanel(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ntentPane.add(panel , BorderLayout.CENTER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tSize(250,200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tVisible(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true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class MyPanel extends JPanel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public void paintComponent(Graphics g)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super.paintComponent(g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g.setColor(Color.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BLUE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g.drawRect(10,10, 50, 50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g.drawRect(50,50, 50, 50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g.drawRect(90,90, 50, 50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new paintJPanelEx(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자유형 5"/>
          <p:cNvSpPr/>
          <p:nvPr/>
        </p:nvSpPr>
        <p:spPr>
          <a:xfrm>
            <a:off x="2432160" y="4307040"/>
            <a:ext cx="2639880" cy="233280"/>
          </a:xfrm>
          <a:custGeom>
            <a:avLst/>
            <a:gdLst/>
            <a:ahLst/>
            <a:rect l="l" t="t" r="r" b="b"/>
            <a:pathLst>
              <a:path w="3104941" h="234461">
                <a:moveTo>
                  <a:pt x="3104941" y="33494"/>
                </a:moveTo>
                <a:cubicBezTo>
                  <a:pt x="2836985" y="16747"/>
                  <a:pt x="2569029" y="0"/>
                  <a:pt x="2270928" y="23446"/>
                </a:cubicBezTo>
                <a:cubicBezTo>
                  <a:pt x="1972827" y="46892"/>
                  <a:pt x="1694822" y="139002"/>
                  <a:pt x="1316334" y="174171"/>
                </a:cubicBezTo>
                <a:cubicBezTo>
                  <a:pt x="937846" y="209340"/>
                  <a:pt x="468923" y="221900"/>
                  <a:pt x="0" y="234461"/>
                </a:cubicBezTo>
              </a:path>
            </a:pathLst>
          </a:custGeom>
          <a:noFill/>
          <a:ln w="10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3643200" y="4429080"/>
            <a:ext cx="7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사각형은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파란색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TextBox 7"/>
          <p:cNvSpPr/>
          <p:nvPr/>
        </p:nvSpPr>
        <p:spPr>
          <a:xfrm>
            <a:off x="285840" y="3714840"/>
            <a:ext cx="8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(10,10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495" name="직선 화살표 연결선 9"/>
          <p:cNvCxnSpPr/>
          <p:nvPr/>
        </p:nvCxnSpPr>
        <p:spPr>
          <a:xfrm>
            <a:off x="928800" y="3928680"/>
            <a:ext cx="357840" cy="14364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96" name="TextBox 10"/>
          <p:cNvSpPr/>
          <p:nvPr/>
        </p:nvSpPr>
        <p:spPr>
          <a:xfrm>
            <a:off x="142920" y="428616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50x50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크기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497" name="직선 화살표 연결선 12"/>
          <p:cNvCxnSpPr/>
          <p:nvPr/>
        </p:nvCxnSpPr>
        <p:spPr>
          <a:xfrm flipV="1">
            <a:off x="928800" y="4285800"/>
            <a:ext cx="357840" cy="15480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98" name="TextBox 13"/>
          <p:cNvSpPr/>
          <p:nvPr/>
        </p:nvSpPr>
        <p:spPr>
          <a:xfrm>
            <a:off x="214200" y="4859280"/>
            <a:ext cx="7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(50,50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499" name="직선 화살표 연결선 15"/>
          <p:cNvCxnSpPr>
            <a:stCxn id="498" idx="3"/>
          </p:cNvCxnSpPr>
          <p:nvPr/>
        </p:nvCxnSpPr>
        <p:spPr>
          <a:xfrm flipV="1">
            <a:off x="928440" y="4439880"/>
            <a:ext cx="764280" cy="57384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0" name="TextBox 19"/>
          <p:cNvSpPr/>
          <p:nvPr/>
        </p:nvSpPr>
        <p:spPr>
          <a:xfrm>
            <a:off x="214200" y="5259240"/>
            <a:ext cx="7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(90,90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501" name="직선 화살표 연결선 20"/>
          <p:cNvCxnSpPr>
            <a:stCxn id="500" idx="3"/>
          </p:cNvCxnSpPr>
          <p:nvPr/>
        </p:nvCxnSpPr>
        <p:spPr>
          <a:xfrm flipV="1">
            <a:off x="928440" y="4858560"/>
            <a:ext cx="1122840" cy="55476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2" name="슬라이드 번호 개체 틀 16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6D19-6481-41BF-B540-85A9EB95B4CE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자바의 그래픽 좌표 시스템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04" name="직사각형 4"/>
          <p:cNvSpPr/>
          <p:nvPr/>
        </p:nvSpPr>
        <p:spPr>
          <a:xfrm>
            <a:off x="1571760" y="1785960"/>
            <a:ext cx="3643200" cy="1857240"/>
          </a:xfrm>
          <a:prstGeom prst="rect">
            <a:avLst/>
          </a:prstGeom>
          <a:solidFill>
            <a:srgbClr val="f2f2f2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TextBox 5"/>
          <p:cNvSpPr/>
          <p:nvPr/>
        </p:nvSpPr>
        <p:spPr>
          <a:xfrm>
            <a:off x="987120" y="1376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(0,0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506" name="직선 화살표 연결선 7"/>
          <p:cNvCxnSpPr/>
          <p:nvPr/>
        </p:nvCxnSpPr>
        <p:spPr>
          <a:xfrm>
            <a:off x="1571760" y="1571760"/>
            <a:ext cx="3643920" cy="216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7" name="TextBox 8"/>
          <p:cNvSpPr/>
          <p:nvPr/>
        </p:nvSpPr>
        <p:spPr>
          <a:xfrm>
            <a:off x="3095280" y="1214280"/>
            <a:ext cx="5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X 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축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508" name="직선 화살표 연결선 9"/>
          <p:cNvCxnSpPr/>
          <p:nvPr/>
        </p:nvCxnSpPr>
        <p:spPr>
          <a:xfrm flipH="1">
            <a:off x="1356480" y="1785600"/>
            <a:ext cx="1080" cy="185796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9" name="순서도: 연결자 12"/>
          <p:cNvSpPr/>
          <p:nvPr/>
        </p:nvSpPr>
        <p:spPr>
          <a:xfrm>
            <a:off x="1500120" y="1714680"/>
            <a:ext cx="142920" cy="14256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TextBox 13"/>
          <p:cNvSpPr/>
          <p:nvPr/>
        </p:nvSpPr>
        <p:spPr>
          <a:xfrm>
            <a:off x="883080" y="2428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Y 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축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슬라이드 번호 개체 틀 10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464D-680D-4B78-A945-79433603229B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Graphics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Graphics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의 기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색상 선택하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문자열 출력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도형 그리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도형 칠하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이미지 출력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클리핑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문자열 그리기를 위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Graphics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메소드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void drawString(String str, int x, int y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str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문자열을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(x,y)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영역에 출력한다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이때 컨텍스트 내의 현재 색과 현재 폰트로 출력한다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4" name="슬라이드 번호 개체 틀 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B190-FB12-43E9-93B7-800278821D37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785880" y="3714840"/>
            <a:ext cx="2381040" cy="190476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2400" spc="-1" strike="noStrike">
                <a:solidFill>
                  <a:srgbClr val="775f55"/>
                </a:solidFill>
                <a:latin typeface="맑은 고딕"/>
              </a:rPr>
              <a:t>12-2 : drawString() </a:t>
            </a:r>
            <a:r>
              <a:rPr b="0" lang="ko-KR" sz="2400" spc="-1" strike="noStrike">
                <a:solidFill>
                  <a:srgbClr val="775f55"/>
                </a:solidFill>
                <a:latin typeface="맑은 고딕"/>
              </a:rPr>
              <a:t>메소드를 이용하여 문자열 출력하기</a:t>
            </a:r>
            <a:endParaRPr b="0" lang="en-US" sz="24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17" name="직사각형 3"/>
          <p:cNvSpPr/>
          <p:nvPr/>
        </p:nvSpPr>
        <p:spPr>
          <a:xfrm>
            <a:off x="4500720" y="857160"/>
            <a:ext cx="4071960" cy="691380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public class GraphicsDrawStringEx extends JFrame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ntainer contentPane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GraphicsDrawStringEx()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tTitle("drawString 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사용  예제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MyPanel panel =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new MyPanel(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ntentPane.add(panel , BorderLayout.CENTER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tSize(250,200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tVisible(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true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class MyPanel extends JPanel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public void paintComponent(Graphics g)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super.paintComponent(g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g.drawString("</a:t>
            </a:r>
            <a:r>
              <a:rPr b="1" lang="ko-KR" sz="1400" spc="-1" strike="noStrike">
                <a:solidFill>
                  <a:srgbClr val="000000"/>
                </a:solidFill>
                <a:latin typeface="Tw Cen MT"/>
              </a:rPr>
              <a:t>자바는 재밌다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.~~", 30,30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g.drawString("</a:t>
            </a:r>
            <a:r>
              <a:rPr b="1" lang="ko-KR" sz="1400" spc="-1" strike="noStrike">
                <a:solidFill>
                  <a:srgbClr val="000000"/>
                </a:solidFill>
                <a:latin typeface="Tw Cen MT"/>
              </a:rPr>
              <a:t>얼마나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? </a:t>
            </a:r>
            <a:r>
              <a:rPr b="1" lang="ko-KR" sz="1400" spc="-1" strike="noStrike">
                <a:solidFill>
                  <a:srgbClr val="000000"/>
                </a:solidFill>
                <a:latin typeface="Tw Cen MT"/>
              </a:rPr>
              <a:t>하늘만큼 땅만큼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!!!!", 60, 60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new GraphicsDrawStringEx(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직선 연결선 13"/>
          <p:cNvSpPr/>
          <p:nvPr/>
        </p:nvSpPr>
        <p:spPr>
          <a:xfrm>
            <a:off x="2000160" y="2928960"/>
            <a:ext cx="0" cy="357120"/>
          </a:xfrm>
          <a:prstGeom prst="line">
            <a:avLst/>
          </a:prstGeom>
          <a:ln w="10080">
            <a:solidFill>
              <a:srgbClr val="ba8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직선 연결선 16"/>
          <p:cNvSpPr/>
          <p:nvPr/>
        </p:nvSpPr>
        <p:spPr>
          <a:xfrm>
            <a:off x="1857240" y="3143160"/>
            <a:ext cx="428760" cy="0"/>
          </a:xfrm>
          <a:prstGeom prst="line">
            <a:avLst/>
          </a:prstGeom>
          <a:ln w="10080">
            <a:solidFill>
              <a:srgbClr val="ba8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TextBox 18"/>
          <p:cNvSpPr/>
          <p:nvPr/>
        </p:nvSpPr>
        <p:spPr>
          <a:xfrm>
            <a:off x="1419120" y="3071880"/>
            <a:ext cx="66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7c36"/>
                </a:solidFill>
                <a:latin typeface="Tw Cen MT"/>
              </a:rPr>
              <a:t>(30,30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직선 연결선 25"/>
          <p:cNvSpPr/>
          <p:nvPr/>
        </p:nvSpPr>
        <p:spPr>
          <a:xfrm>
            <a:off x="2286000" y="3214800"/>
            <a:ext cx="0" cy="357120"/>
          </a:xfrm>
          <a:prstGeom prst="line">
            <a:avLst/>
          </a:prstGeom>
          <a:ln w="10080">
            <a:solidFill>
              <a:srgbClr val="ba8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직선 연결선 26"/>
          <p:cNvSpPr/>
          <p:nvPr/>
        </p:nvSpPr>
        <p:spPr>
          <a:xfrm>
            <a:off x="2143080" y="3429000"/>
            <a:ext cx="500040" cy="0"/>
          </a:xfrm>
          <a:prstGeom prst="line">
            <a:avLst/>
          </a:prstGeom>
          <a:ln w="10080">
            <a:solidFill>
              <a:srgbClr val="ba8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1704960" y="3357720"/>
            <a:ext cx="66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17c36"/>
                </a:solidFill>
                <a:latin typeface="Tw Cen MT"/>
              </a:rPr>
              <a:t>(60,60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슬라이드 번호 개체 틀 11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8F2E-E0DB-42AB-A79D-E82C92C04DE5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직사각형 12"/>
          <p:cNvSpPr/>
          <p:nvPr/>
        </p:nvSpPr>
        <p:spPr>
          <a:xfrm>
            <a:off x="357120" y="128592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b22"/>
                </a:solidFill>
                <a:latin typeface="HY강B"/>
                <a:ea typeface="HY강B"/>
              </a:rPr>
              <a:t>JPanel</a:t>
            </a:r>
            <a:r>
              <a:rPr b="0" lang="ko-KR" sz="1800" spc="-1" strike="noStrike">
                <a:solidFill>
                  <a:srgbClr val="b95b22"/>
                </a:solidFill>
                <a:latin typeface="HY강B"/>
                <a:ea typeface="HY강B"/>
              </a:rPr>
              <a:t>을 상속받아 </a:t>
            </a:r>
            <a:r>
              <a:rPr b="0" lang="en-US" sz="1800" spc="-1" strike="noStrike">
                <a:solidFill>
                  <a:srgbClr val="b95b22"/>
                </a:solidFill>
                <a:latin typeface="HY강B"/>
                <a:ea typeface="HY강B"/>
              </a:rPr>
              <a:t>paintComponent()</a:t>
            </a:r>
            <a:r>
              <a:rPr b="0" lang="ko-KR" sz="1800" spc="-1" strike="noStrike">
                <a:solidFill>
                  <a:srgbClr val="b95b22"/>
                </a:solidFill>
                <a:latin typeface="HY강B"/>
                <a:ea typeface="HY강B"/>
              </a:rPr>
              <a:t>를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b95b22"/>
                </a:solidFill>
                <a:latin typeface="HY강B"/>
                <a:ea typeface="HY강B"/>
              </a:rPr>
              <a:t>오버라이딩하고 </a:t>
            </a:r>
            <a:r>
              <a:rPr b="0" lang="en-US" sz="1800" spc="-1" strike="noStrike">
                <a:solidFill>
                  <a:srgbClr val="b95b22"/>
                </a:solidFill>
                <a:latin typeface="HY강B"/>
                <a:ea typeface="HY강B"/>
              </a:rPr>
              <a:t>drawString() </a:t>
            </a:r>
            <a:r>
              <a:rPr b="0" lang="ko-KR" sz="1800" spc="-1" strike="noStrike">
                <a:solidFill>
                  <a:srgbClr val="b95b22"/>
                </a:solidFill>
                <a:latin typeface="HY강B"/>
                <a:ea typeface="HY강B"/>
              </a:rPr>
              <a:t>메소드를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b95b22"/>
                </a:solidFill>
                <a:latin typeface="HY강B"/>
                <a:ea typeface="HY강B"/>
              </a:rPr>
              <a:t>사용하여 다음 그림과 같이 패널 내의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b22"/>
                </a:solidFill>
                <a:latin typeface="HY강B"/>
                <a:ea typeface="HY강B"/>
              </a:rPr>
              <a:t>(30, 30)</a:t>
            </a:r>
            <a:r>
              <a:rPr b="0" lang="ko-KR" sz="1800" spc="-1" strike="noStrike">
                <a:solidFill>
                  <a:srgbClr val="b95b22"/>
                </a:solidFill>
                <a:latin typeface="HY강B"/>
                <a:ea typeface="HY강B"/>
              </a:rPr>
              <a:t>과 </a:t>
            </a:r>
            <a:r>
              <a:rPr b="0" lang="en-US" sz="1800" spc="-1" strike="noStrike">
                <a:solidFill>
                  <a:srgbClr val="b95b22"/>
                </a:solidFill>
                <a:latin typeface="HY강B"/>
                <a:ea typeface="HY강B"/>
              </a:rPr>
              <a:t>(60, 60)</a:t>
            </a:r>
            <a:r>
              <a:rPr b="0" lang="ko-KR" sz="1800" spc="-1" strike="noStrike">
                <a:solidFill>
                  <a:srgbClr val="b95b22"/>
                </a:solidFill>
                <a:latin typeface="HY강B"/>
                <a:ea typeface="HY강B"/>
              </a:rPr>
              <a:t>에 각각 문자열을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b95b22"/>
                </a:solidFill>
                <a:latin typeface="HY강B"/>
                <a:ea typeface="HY강B"/>
              </a:rPr>
              <a:t>출력하는 스윙 프로그램을 작성하라</a:t>
            </a:r>
            <a:r>
              <a:rPr b="0" lang="en-US" sz="1800" spc="-1" strike="noStrike">
                <a:solidFill>
                  <a:srgbClr val="b95b22"/>
                </a:solidFill>
                <a:latin typeface="HY강B"/>
                <a:ea typeface="HY강B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olor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와 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Font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클래스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85840" y="1357200"/>
            <a:ext cx="4209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Color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java.awt.Color,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하나의 색을 표현하는 클래스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Red, Green, Blue 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의 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3 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성분으로 구성되며 각 성분의 크기는 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0-255(8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비트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생성자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Color(int r, int g, int b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red(r), green(g), blue(b) 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값으로 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sRGB 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색생성</a:t>
            </a:r>
            <a:endParaRPr b="0" lang="en-US" sz="13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new Color(255, 0, 0) ;// 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완전 빨강색</a:t>
            </a:r>
            <a:endParaRPr b="0" lang="en-US" sz="13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Color(int rgb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rgb 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정수 값은 총 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32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비트 중 하위 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24 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비트 만이 유효하고  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0x00rrggbb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로 표현된다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하위 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8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비트는 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blue, 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그 다음 상위 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8 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비트는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green, 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그 다음 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8 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비트는 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blue  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성분을 표시한다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new Color(0x0000ff00); // 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완전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 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초록</a:t>
            </a:r>
            <a:endParaRPr b="0" lang="en-US" sz="13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다른 생성 방법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Color.BLUE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등의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static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상수 활용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857840" y="1357200"/>
            <a:ext cx="4084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Font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java.awt.Font,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글자의 폰트를 표현하는 클래스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생성자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Font(String fontFace, int style, int size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fontFace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는 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"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고딕체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", “Arial" 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등</a:t>
            </a:r>
            <a:endParaRPr b="0" lang="en-US" sz="13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style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은 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Font.BOLD, Font.ITALIC , Font.PLAIN 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셋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 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중 하나</a:t>
            </a:r>
            <a:endParaRPr b="0" lang="en-US" sz="13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size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는 픽셀 단위의 크기</a:t>
            </a:r>
            <a:endParaRPr b="0" lang="en-US" sz="13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Graphics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객체에서 색상과 폰트 설정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void setColor(Color color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그래픽 컨텍스트의 현재 칠할 색을 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color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로 지정한다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void setFont(Font font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그래픽 컨텍스트의 현재 폰트를 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font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로 지정</a:t>
            </a:r>
            <a:endParaRPr b="0" lang="en-US" sz="1300" spc="-1" strike="noStrike">
              <a:solidFill>
                <a:srgbClr val="000000"/>
              </a:solidFill>
              <a:latin typeface="휴먼편지체"/>
            </a:endParaRPr>
          </a:p>
        </p:txBody>
      </p:sp>
      <p:sp>
        <p:nvSpPr>
          <p:cNvPr id="529" name="직사각형 5"/>
          <p:cNvSpPr/>
          <p:nvPr/>
        </p:nvSpPr>
        <p:spPr>
          <a:xfrm>
            <a:off x="428760" y="5715000"/>
            <a:ext cx="4572000" cy="137268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Graphics g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g.setColor(new Color(255, 0, 0)); // 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빨간색을 생성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,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그래픽 색으로 설정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g.setColor(new Color(0x0000ff00)); // 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초록색 생성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,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그래픽 색으로 설정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g.setColor(Color.YELLOW); // 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노란색을 그래픽 색으로 설정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직사각형 6"/>
          <p:cNvSpPr/>
          <p:nvPr/>
        </p:nvSpPr>
        <p:spPr>
          <a:xfrm>
            <a:off x="5500800" y="5572080"/>
            <a:ext cx="3286080" cy="137268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Graphics g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w Cen MT"/>
              </a:rPr>
              <a:t>Font f = new Font("Arial", Font.ITALIC, 30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g.setFont(f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g.setColor(Color.RED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g.drawString("How much", 30,30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1" name="슬라이드 번호 개체 틀 7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5C3E-7DB6-466B-92D0-33BFA9E68CF3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2" name="바닥글 개체 틀 8"/>
          <p:cNvSpPr/>
          <p:nvPr/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명품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JAVA Programm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965160" y="2413080"/>
            <a:ext cx="3333960" cy="428616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예제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 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12-3 : Color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와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 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Font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를 </a:t>
            </a:r>
            <a:br>
              <a:rPr sz="2900"/>
            </a:b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활용한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 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문자열 그리기</a:t>
            </a:r>
            <a:endParaRPr b="0" lang="en-US" sz="29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35" name="직사각형 3"/>
          <p:cNvSpPr/>
          <p:nvPr/>
        </p:nvSpPr>
        <p:spPr>
          <a:xfrm>
            <a:off x="4786200" y="142920"/>
            <a:ext cx="4143600" cy="6664680"/>
          </a:xfrm>
          <a:prstGeom prst="rect">
            <a:avLst/>
          </a:prstGeom>
          <a:solidFill>
            <a:srgbClr val="d4e2ed"/>
          </a:solidFill>
          <a:ln w="9360">
            <a:solidFill>
              <a:srgbClr val="bfd3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class GraphicsColorFontEx extends JFrame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ainer contentPan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raphicsColorFontEx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Title("Color, Font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사용  예제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MyPanel panel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MyPanel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panel , BorderLayout.CENTER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Size(350, 45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Visible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lass MyPanel extends JPanel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void paintComponent(Graphics g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uper.paintComponent(g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.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etColor(Color.</a:t>
            </a:r>
            <a:r>
              <a:rPr b="1" i="1" lang="en-US" sz="1200" spc="-1" strike="noStrike">
                <a:solidFill>
                  <a:srgbClr val="000000"/>
                </a:solidFill>
                <a:latin typeface="Tw Cen MT"/>
              </a:rPr>
              <a:t>BL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.drawString("I Love Java.~~", 30,3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.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etColor(new Color(255, 0, 0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w Cen MT"/>
              </a:rPr>
              <a:t>g.</a:t>
            </a:r>
            <a:r>
              <a:rPr b="1" lang="fr-FR" sz="1200" spc="-1" strike="noStrike">
                <a:solidFill>
                  <a:srgbClr val="000000"/>
                </a:solidFill>
                <a:latin typeface="Tw Cen MT"/>
              </a:rPr>
              <a:t>setFont(new Font("Arial", Font.</a:t>
            </a:r>
            <a:r>
              <a:rPr b="1" i="1" lang="fr-FR" sz="1200" spc="-1" strike="noStrike">
                <a:solidFill>
                  <a:srgbClr val="000000"/>
                </a:solidFill>
                <a:latin typeface="Tw Cen MT"/>
              </a:rPr>
              <a:t>ITALIC, 30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.drawString("How much?", 30, 6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.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etColor(new Color(0x00ff00ff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nn-NO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nn-NO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nn-NO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nn-NO" sz="1200" spc="-1" strike="noStrike">
                <a:solidFill>
                  <a:srgbClr val="000000"/>
                </a:solidFill>
                <a:latin typeface="Tw Cen MT"/>
              </a:rPr>
              <a:t>for(int i=1; i&lt;=5; i++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w Cen MT"/>
              </a:rPr>
              <a:t>g.</a:t>
            </a:r>
            <a:r>
              <a:rPr b="1" lang="fr-FR" sz="1200" spc="-1" strike="noStrike">
                <a:solidFill>
                  <a:srgbClr val="000000"/>
                </a:solidFill>
                <a:latin typeface="Tw Cen MT"/>
              </a:rPr>
              <a:t>setFont(new Font("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Jokerman</a:t>
            </a:r>
            <a:r>
              <a:rPr b="1" lang="fr-FR" sz="1200" spc="-1" strike="noStrike">
                <a:solidFill>
                  <a:srgbClr val="000000"/>
                </a:solidFill>
                <a:latin typeface="Tw Cen MT"/>
              </a:rPr>
              <a:t>", Font.</a:t>
            </a:r>
            <a:r>
              <a:rPr b="1" i="1" lang="fr-FR" sz="1200" spc="-1" strike="noStrike">
                <a:solidFill>
                  <a:srgbClr val="000000"/>
                </a:solidFill>
                <a:latin typeface="Tw Cen MT"/>
              </a:rPr>
              <a:t>ITALIC, i*10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g.drawString("This much!!", 30, 60+i*6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new GraphicsColorFontEx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왼쪽 중괄호 6"/>
          <p:cNvSpPr/>
          <p:nvPr/>
        </p:nvSpPr>
        <p:spPr>
          <a:xfrm>
            <a:off x="5072040" y="4643280"/>
            <a:ext cx="285840" cy="571680"/>
          </a:xfrm>
          <a:custGeom>
            <a:avLst/>
            <a:gdLst>
              <a:gd name="textAreaLeft" fmla="*/ 182520 w 285840"/>
              <a:gd name="textAreaRight" fmla="*/ 286200 w 2858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0"/>
                  <a:pt x="10800" y="3920"/>
                </a:cubicBezTo>
                <a:lnTo>
                  <a:pt x="10800" y="6880"/>
                </a:lnTo>
                <a:cubicBezTo>
                  <a:pt x="10800" y="8840"/>
                  <a:pt x="5400" y="10800"/>
                  <a:pt x="0" y="10800"/>
                </a:cubicBezTo>
                <a:cubicBezTo>
                  <a:pt x="5400" y="10800"/>
                  <a:pt x="10800" y="12760"/>
                  <a:pt x="10800" y="14720"/>
                </a:cubicBezTo>
                <a:lnTo>
                  <a:pt x="10800" y="17680"/>
                </a:lnTo>
                <a:cubicBezTo>
                  <a:pt x="10800" y="19640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오른쪽 중괄호 7"/>
          <p:cNvSpPr/>
          <p:nvPr/>
        </p:nvSpPr>
        <p:spPr>
          <a:xfrm>
            <a:off x="4286160" y="3714840"/>
            <a:ext cx="285840" cy="2357280"/>
          </a:xfrm>
          <a:custGeom>
            <a:avLst/>
            <a:gdLst>
              <a:gd name="textAreaLeft" fmla="*/ 0 w 285840"/>
              <a:gd name="textAreaRight" fmla="*/ 103320 w 285840"/>
              <a:gd name="textAreaTop" fmla="*/ 81360 h 2357280"/>
              <a:gd name="textAreaBottom" fmla="*/ 227592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94"/>
                  <a:pt x="10800" y="2387"/>
                </a:cubicBezTo>
                <a:lnTo>
                  <a:pt x="10800" y="8413"/>
                </a:lnTo>
                <a:cubicBezTo>
                  <a:pt x="10800" y="9607"/>
                  <a:pt x="16200" y="10800"/>
                  <a:pt x="21600" y="10800"/>
                </a:cubicBezTo>
                <a:cubicBezTo>
                  <a:pt x="16200" y="10800"/>
                  <a:pt x="10800" y="11994"/>
                  <a:pt x="10800" y="13187"/>
                </a:cubicBezTo>
                <a:lnTo>
                  <a:pt x="10800" y="19213"/>
                </a:lnTo>
                <a:cubicBezTo>
                  <a:pt x="10800" y="20407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538" name="직선 화살표 연결선 9"/>
          <p:cNvCxnSpPr>
            <a:stCxn id="536" idx="1"/>
            <a:endCxn id="537" idx="1"/>
          </p:cNvCxnSpPr>
          <p:nvPr/>
        </p:nvCxnSpPr>
        <p:spPr>
          <a:xfrm flipH="1" flipV="1">
            <a:off x="4571280" y="4893480"/>
            <a:ext cx="500760" cy="3564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9" name="슬라이드 번호 개체 틀 8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BFD7-5DC5-40BB-9256-2684D5D8FA72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직사각형 10"/>
          <p:cNvSpPr/>
          <p:nvPr/>
        </p:nvSpPr>
        <p:spPr>
          <a:xfrm>
            <a:off x="571680" y="128592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b22"/>
                </a:solidFill>
                <a:latin typeface="HY강B"/>
                <a:ea typeface="HY강B"/>
              </a:rPr>
              <a:t>Color</a:t>
            </a:r>
            <a:r>
              <a:rPr b="0" lang="ko-KR" sz="1800" spc="-1" strike="noStrike">
                <a:solidFill>
                  <a:srgbClr val="b95b22"/>
                </a:solidFill>
                <a:latin typeface="HY강B"/>
                <a:ea typeface="HY강B"/>
              </a:rPr>
              <a:t>와 </a:t>
            </a:r>
            <a:r>
              <a:rPr b="0" lang="en-US" sz="1800" spc="-1" strike="noStrike">
                <a:solidFill>
                  <a:srgbClr val="b95b22"/>
                </a:solidFill>
                <a:latin typeface="HY강B"/>
                <a:ea typeface="HY강B"/>
              </a:rPr>
              <a:t>Font </a:t>
            </a:r>
            <a:r>
              <a:rPr b="0" lang="ko-KR" sz="1800" spc="-1" strike="noStrike">
                <a:solidFill>
                  <a:srgbClr val="b95b22"/>
                </a:solidFill>
                <a:latin typeface="HY강B"/>
                <a:ea typeface="HY강B"/>
              </a:rPr>
              <a:t>클래스를 이용하여 다음 그림과 같이 출력되는 패널을 작성하라</a:t>
            </a:r>
            <a:r>
              <a:rPr b="0" lang="en-US" sz="1800" spc="-1" strike="noStrike">
                <a:solidFill>
                  <a:srgbClr val="b95b22"/>
                </a:solidFill>
                <a:latin typeface="HY강B"/>
                <a:ea typeface="HY강B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Graphics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의 도형 그리기 메소드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12720" y="1285560"/>
            <a:ext cx="815328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void drawLine(int x1, int y1, int x2, int y2)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x1,y1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에서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x2,y2)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까지 선을 그린다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void drawOval(int x1, int y1, int w, int h)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x1,y1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에서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wxh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크기의 사각형에 내접하는 타원 그린다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void drawRect(int x1, int y1, int w, int h)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x1,y1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에서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wxh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크기의 사각형을 그린다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void drawRoundRect(int x1, int y1, int w, int h, int arcWidth, int arcHeight)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x1,y1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에서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wxh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크기의 사각형을 그리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4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개의 모서리는 원으로 처리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arcWidth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는 모서리의 원 수평 반지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arcHeight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는 수직 반지름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3" name="슬라이드 번호 개체 틀 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CA80-E3A5-4AF4-8628-C6B1B55BAC4D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01:24:33Z</dcterms:created>
  <dc:creator>황기태</dc:creator>
  <dc:description/>
  <dc:language>en-US</dc:language>
  <cp:lastModifiedBy>COMGAL</cp:lastModifiedBy>
  <dcterms:modified xsi:type="dcterms:W3CDTF">2011-08-27T00:49:58Z</dcterms:modified>
  <cp:revision>459</cp:revision>
  <dc:subject/>
  <dc:title>슬라이드 1</dc:title>
</cp:coreProperties>
</file>